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855-CEED-4A24-B440-5C32EA35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A7C-C9C0-49C6-9AA5-AE19AD38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AC2-5ED2-46E8-A045-DF92ABBF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95F-78D1-4A9D-B230-FDAE981C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206-BC63-4C1D-BAE7-1058D0F0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F0F6-34DA-4CDC-8ADD-A439E19A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E03F-2178-4F23-88DD-1BD02679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9EC3-59B3-453F-93D5-7E252FC9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632E-2E1B-4CEC-991E-11273AA8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99CC-3FC4-46F6-B5F4-9D8BDB1C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6574-31B0-4864-963C-E5C711C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77C-D01C-4173-8BAB-DF9EE507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5B66-571E-4F20-A798-43D8F5A1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ACDF-CA9D-4873-B3E6-333F578B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06DB-44C5-4780-BBB1-6CD6EF52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23AF-E138-45FA-B7D0-0116FD83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E33-F46E-4F35-8A81-2C1288E8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0B6-C941-4BE1-9171-FC0F98E9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23D-9FCC-4324-B4A6-CE85415D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3C2-6295-489B-BA76-F403CF31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CCA-9991-4ED1-AAE4-A791B3C2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0E7-CFD2-45A1-A3EE-B8EE840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9D9-EC2C-4C26-A25F-B129A615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32D-D130-4769-BAD0-09CB1B4A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72B-636B-430C-93E5-89199F6CBD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400-7003-42B1-AB03-1E7F2BC234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ons of Afric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notes using Chapter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all of the questions found in the PowerPoint and add a picture to a minimum of 3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ntral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s did the slave trade have o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effects of coloni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lonialism hurt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education system and the barriers to education in Central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old trade affect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arthei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Growth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south Africa’s economy gr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Issu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or modern issues still going on in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r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blossomed around the Nile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Nile’s impor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lig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ominant religion and culture of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en did this religion ar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lack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o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Li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traditional roles of men and women in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is bee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st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the three major trading empires of West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West Africa was an example of a stateless soci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Strug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graph show us about economic growth in Af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pecific countries have actually gone downhill economically over the course of the ten years sh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has this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47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some of the more important art in West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music is prevalent in West Africa…explain this 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12-10-31T20:00:14Z</dcterms:modified>
  <cp:revision>7</cp:revision>
  <dc:subject/>
  <dc:title>Today’s Issues in Europe</dc:title>
</cp:coreProperties>
</file>