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F6A1E-969A-4248-A73C-FB9945BC5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5E4DC-3603-4A34-98F8-BD0FA07D1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3CF01-5480-470D-9F28-BDD9FD241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E2BC5-E2FB-40C6-977D-C986C369C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4752C-3397-4682-95F0-17D949DBB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543DD-2FE2-4252-B41F-AE539E3F2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3CECE-52E7-4AFF-A688-2372F1CF8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046FD-5372-4134-9409-C3A958992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4397D-150C-42F8-B87A-D008043B9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95BB2-4328-4B4F-A85C-5A448AD21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B50A3-6451-4FC0-A21C-38427B9A7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B45EC-91D0-4592-86B2-4EB4BF091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14334-2A6B-4624-B2AB-5DABC610F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A6BD8-2FBA-4E80-8B77-292AEEBDB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6496B-DB75-4491-A90D-6CA61D732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AAE39-0375-46EB-B44D-E79122453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44773-6D0B-48F6-85A3-239028A6A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42EFD-4CAF-429B-858C-237977BE9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3F468-E14F-48E2-9F99-EDA03429D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9EC65-52FF-4E7A-BCC9-892FCD771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70BE7-BD1E-41C3-9708-39C5F897B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57A05-E2CB-414F-9860-9A31AB349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40914-08C2-4125-928E-92869BAD3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3FBBA-C122-41D4-A19E-F7D209CF5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39D96-CBF1-48E4-BB2C-B3F75531A11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09B27-570B-4257-850D-E214AC213E3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Regions of Africa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520"/>
            <a:ext cx="68580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your own notes using Chapter 19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swer all of the questions found in the PowerPoint and add a picture to a minimum of 3 slid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entral Africa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effects did the slave trade have on Afric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were the effects of colonialis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Economy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id colonialism hurt the econom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Education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lain the education system and the barriers to education in Central Afric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South Africa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id the gold trade affect South Afric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Apartheid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	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was i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was i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Economic Growth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	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has south Africa’s economy grow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urrent Issues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	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are the current or modern issues still going on in South Afric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North Africa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country blossomed around the Nile Riv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lain the Nile’s importanc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Religion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the dominant religion and culture of North Afric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and when did this religion arriv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Economy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black gol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is it important to the reg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Souk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a Souk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is it importa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Family Life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were the traditional roles of men and women in North Afric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has this been chang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West Africa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s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o were the three major trading empires of West Afric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lain how West Africa was an example of a stateless socie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Economic Struggl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4419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does this graph show us about economic growth in Afric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ch specific countries have actually gone downhill economically over the course of the ten years show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y has this happene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4" descr=""/>
          <p:cNvPicPr/>
          <p:nvPr/>
        </p:nvPicPr>
        <p:blipFill>
          <a:blip r:embed="rId1"/>
          <a:stretch/>
        </p:blipFill>
        <p:spPr>
          <a:xfrm>
            <a:off x="5334120" y="1676520"/>
            <a:ext cx="364788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ultur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lain some of the more important art in West Afric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type of music is prevalent in West Africa…explain this musi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4T18:11:04Z</dcterms:created>
  <dc:creator>sewen</dc:creator>
  <dc:description/>
  <dc:language>en-US</dc:language>
  <cp:lastModifiedBy>sewen</cp:lastModifiedBy>
  <dcterms:modified xsi:type="dcterms:W3CDTF">2012-10-31T20:00:14Z</dcterms:modified>
  <cp:revision>7</cp:revision>
  <dc:subject/>
  <dc:title>Today’s Issues in Europe</dc:title>
</cp:coreProperties>
</file>