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F075-F882-4D6A-925D-92318D2DFED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9FD7A06-1B69-46D9-8DEC-5039E355AE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43080" indent="-34308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43080" indent="-34308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648828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12120" indent="-31212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12120" indent="-31212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6" name="Line 2"/>
          <p:cNvSpPr/>
          <p:nvPr/>
        </p:nvSpPr>
        <p:spPr>
          <a:xfrm>
            <a:off x="906624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6002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20448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4430880" y="1778040"/>
            <a:ext cx="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5" name="Line 2"/>
          <p:cNvSpPr/>
          <p:nvPr/>
        </p:nvSpPr>
        <p:spPr>
          <a:xfrm>
            <a:off x="6488280" y="507960"/>
            <a:ext cx="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44434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85456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9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8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dr.undp.org/en/data/trends/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dr.undp.org/en/data/map/" TargetMode="External"/><Relationship Id="rId2" Type="http://schemas.openxmlformats.org/officeDocument/2006/relationships/hyperlink" Target="http://hdr.undp.org/en/statistics/hdi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are all the Starbucks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rbucks in Tennessee, United States, and the World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" descr=""/>
          <p:cNvPicPr/>
          <p:nvPr/>
        </p:nvPicPr>
        <p:blipFill>
          <a:blip r:embed="rId1"/>
          <a:stretch/>
        </p:blipFill>
        <p:spPr>
          <a:xfrm>
            <a:off x="-1108080" y="-1003320"/>
            <a:ext cx="15217920" cy="1176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Repeat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process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50520" y="2276280"/>
            <a:ext cx="1019484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ow follow the same process and create histogram for the World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When you have created them, use them to create choropleth maps of both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You may print and use the sheet below, or find a outline map of each to print and do each separately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-6480" y="-15840"/>
            <a:ext cx="13005000" cy="97534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Freeform 321"/>
          <p:cNvSpPr/>
          <p:nvPr/>
        </p:nvSpPr>
        <p:spPr>
          <a:xfrm rot="729600">
            <a:off x="6012000" y="4811760"/>
            <a:ext cx="512640" cy="401760"/>
          </a:xfrm>
          <a:custGeom>
            <a:avLst/>
            <a:gdLst/>
            <a:ahLst/>
            <a:rect l="l" t="t" r="r" b="b"/>
            <a:pathLst>
              <a:path w="10000" h="10009">
                <a:moveTo>
                  <a:pt x="9121" y="1479"/>
                </a:moveTo>
                <a:cubicBezTo>
                  <a:pt x="8949" y="1545"/>
                  <a:pt x="8960" y="1470"/>
                  <a:pt x="8734" y="1437"/>
                </a:cubicBezTo>
                <a:cubicBezTo>
                  <a:pt x="8508" y="1404"/>
                  <a:pt x="8010" y="1295"/>
                  <a:pt x="7765" y="1279"/>
                </a:cubicBezTo>
                <a:cubicBezTo>
                  <a:pt x="7520" y="1263"/>
                  <a:pt x="7390" y="1332"/>
                  <a:pt x="7261" y="1342"/>
                </a:cubicBezTo>
                <a:cubicBezTo>
                  <a:pt x="7132" y="1353"/>
                  <a:pt x="7098" y="1443"/>
                  <a:pt x="6991" y="1342"/>
                </a:cubicBezTo>
                <a:cubicBezTo>
                  <a:pt x="6884" y="1241"/>
                  <a:pt x="6742" y="937"/>
                  <a:pt x="6618" y="734"/>
                </a:cubicBezTo>
                <a:cubicBezTo>
                  <a:pt x="5577" y="492"/>
                  <a:pt x="4284" y="74"/>
                  <a:pt x="3495" y="9"/>
                </a:cubicBezTo>
                <a:cubicBezTo>
                  <a:pt x="2706" y="-56"/>
                  <a:pt x="2420" y="231"/>
                  <a:pt x="1882" y="342"/>
                </a:cubicBezTo>
                <a:lnTo>
                  <a:pt x="1345" y="9"/>
                </a:lnTo>
                <a:lnTo>
                  <a:pt x="806" y="342"/>
                </a:lnTo>
                <a:cubicBezTo>
                  <a:pt x="806" y="342"/>
                  <a:pt x="268" y="1009"/>
                  <a:pt x="0" y="1009"/>
                </a:cubicBezTo>
                <a:lnTo>
                  <a:pt x="538" y="2676"/>
                </a:lnTo>
                <a:lnTo>
                  <a:pt x="1076" y="2009"/>
                </a:lnTo>
                <a:lnTo>
                  <a:pt x="2151" y="2342"/>
                </a:lnTo>
                <a:lnTo>
                  <a:pt x="2421" y="2676"/>
                </a:lnTo>
                <a:lnTo>
                  <a:pt x="2688" y="3009"/>
                </a:lnTo>
                <a:cubicBezTo>
                  <a:pt x="2600" y="3342"/>
                  <a:pt x="2510" y="3676"/>
                  <a:pt x="2421" y="4009"/>
                </a:cubicBezTo>
                <a:cubicBezTo>
                  <a:pt x="2330" y="4565"/>
                  <a:pt x="2241" y="5120"/>
                  <a:pt x="2151" y="5676"/>
                </a:cubicBezTo>
                <a:cubicBezTo>
                  <a:pt x="2062" y="6009"/>
                  <a:pt x="1971" y="6343"/>
                  <a:pt x="1882" y="6676"/>
                </a:cubicBezTo>
                <a:lnTo>
                  <a:pt x="1882" y="7342"/>
                </a:lnTo>
                <a:cubicBezTo>
                  <a:pt x="1882" y="7482"/>
                  <a:pt x="1889" y="7241"/>
                  <a:pt x="1884" y="7517"/>
                </a:cubicBezTo>
                <a:cubicBezTo>
                  <a:pt x="1879" y="7793"/>
                  <a:pt x="1882" y="7594"/>
                  <a:pt x="1882" y="7676"/>
                </a:cubicBezTo>
                <a:lnTo>
                  <a:pt x="1882" y="8009"/>
                </a:lnTo>
                <a:cubicBezTo>
                  <a:pt x="1792" y="8342"/>
                  <a:pt x="1703" y="8676"/>
                  <a:pt x="1613" y="9009"/>
                </a:cubicBezTo>
                <a:lnTo>
                  <a:pt x="2151" y="9009"/>
                </a:lnTo>
                <a:lnTo>
                  <a:pt x="3227" y="10009"/>
                </a:lnTo>
                <a:lnTo>
                  <a:pt x="4840" y="9342"/>
                </a:lnTo>
                <a:lnTo>
                  <a:pt x="6453" y="9009"/>
                </a:lnTo>
                <a:lnTo>
                  <a:pt x="7261" y="7676"/>
                </a:lnTo>
                <a:lnTo>
                  <a:pt x="8067" y="6342"/>
                </a:lnTo>
                <a:cubicBezTo>
                  <a:pt x="8067" y="6120"/>
                  <a:pt x="7941" y="6082"/>
                  <a:pt x="8067" y="5676"/>
                </a:cubicBezTo>
                <a:cubicBezTo>
                  <a:pt x="8193" y="5270"/>
                  <a:pt x="8503" y="4112"/>
                  <a:pt x="8822" y="3908"/>
                </a:cubicBezTo>
                <a:cubicBezTo>
                  <a:pt x="9185" y="3676"/>
                  <a:pt x="9126" y="3756"/>
                  <a:pt x="9189" y="3701"/>
                </a:cubicBezTo>
                <a:cubicBezTo>
                  <a:pt x="9252" y="3646"/>
                  <a:pt x="9284" y="3569"/>
                  <a:pt x="9318" y="3593"/>
                </a:cubicBezTo>
                <a:cubicBezTo>
                  <a:pt x="9388" y="3534"/>
                  <a:pt x="9296" y="3577"/>
                  <a:pt x="9415" y="3493"/>
                </a:cubicBezTo>
                <a:cubicBezTo>
                  <a:pt x="9534" y="3409"/>
                  <a:pt x="9908" y="3137"/>
                  <a:pt x="9969" y="2847"/>
                </a:cubicBezTo>
                <a:cubicBezTo>
                  <a:pt x="10030" y="2557"/>
                  <a:pt x="10018" y="1949"/>
                  <a:pt x="9783" y="1752"/>
                </a:cubicBezTo>
                <a:cubicBezTo>
                  <a:pt x="9774" y="1701"/>
                  <a:pt x="9763" y="1649"/>
                  <a:pt x="9754" y="1598"/>
                </a:cubicBezTo>
                <a:cubicBezTo>
                  <a:pt x="9738" y="1593"/>
                  <a:pt x="9576" y="1599"/>
                  <a:pt x="9561" y="1594"/>
                </a:cubicBezTo>
                <a:lnTo>
                  <a:pt x="9121" y="14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2" name="Freeform 322"/>
          <p:cNvSpPr/>
          <p:nvPr/>
        </p:nvSpPr>
        <p:spPr>
          <a:xfrm rot="926400">
            <a:off x="6026040" y="4838760"/>
            <a:ext cx="128520" cy="282600"/>
          </a:xfrm>
          <a:custGeom>
            <a:avLst/>
            <a:gdLst/>
            <a:ahLst/>
            <a:rect l="l" t="t" r="r" b="b"/>
            <a:pathLst>
              <a:path w="10000" h="10437">
                <a:moveTo>
                  <a:pt x="7000" y="8110"/>
                </a:moveTo>
                <a:lnTo>
                  <a:pt x="7000" y="7638"/>
                </a:lnTo>
                <a:cubicBezTo>
                  <a:pt x="7083" y="7334"/>
                  <a:pt x="7165" y="7030"/>
                  <a:pt x="7248" y="6726"/>
                </a:cubicBezTo>
                <a:lnTo>
                  <a:pt x="8000" y="5748"/>
                </a:lnTo>
                <a:lnTo>
                  <a:pt x="8000" y="5276"/>
                </a:lnTo>
                <a:cubicBezTo>
                  <a:pt x="8101" y="4899"/>
                  <a:pt x="8203" y="4522"/>
                  <a:pt x="8304" y="4145"/>
                </a:cubicBezTo>
                <a:lnTo>
                  <a:pt x="9000" y="3386"/>
                </a:lnTo>
                <a:cubicBezTo>
                  <a:pt x="9050" y="3079"/>
                  <a:pt x="9101" y="2772"/>
                  <a:pt x="9151" y="2465"/>
                </a:cubicBezTo>
                <a:lnTo>
                  <a:pt x="10000" y="1496"/>
                </a:lnTo>
                <a:lnTo>
                  <a:pt x="9000" y="1024"/>
                </a:lnTo>
                <a:lnTo>
                  <a:pt x="8000" y="472"/>
                </a:lnTo>
                <a:lnTo>
                  <a:pt x="5000" y="0"/>
                </a:lnTo>
                <a:lnTo>
                  <a:pt x="3000" y="472"/>
                </a:lnTo>
                <a:lnTo>
                  <a:pt x="2000" y="1024"/>
                </a:lnTo>
                <a:lnTo>
                  <a:pt x="1235" y="1429"/>
                </a:lnTo>
                <a:lnTo>
                  <a:pt x="2000" y="2913"/>
                </a:lnTo>
                <a:lnTo>
                  <a:pt x="2000" y="4803"/>
                </a:lnTo>
                <a:lnTo>
                  <a:pt x="229" y="6206"/>
                </a:lnTo>
                <a:cubicBezTo>
                  <a:pt x="153" y="6526"/>
                  <a:pt x="76" y="6845"/>
                  <a:pt x="0" y="7165"/>
                </a:cubicBezTo>
                <a:lnTo>
                  <a:pt x="650" y="7719"/>
                </a:lnTo>
                <a:lnTo>
                  <a:pt x="2000" y="7638"/>
                </a:lnTo>
                <a:lnTo>
                  <a:pt x="1133" y="10397"/>
                </a:lnTo>
                <a:lnTo>
                  <a:pt x="6483" y="10437"/>
                </a:lnTo>
                <a:cubicBezTo>
                  <a:pt x="6656" y="10000"/>
                  <a:pt x="7005" y="9867"/>
                  <a:pt x="7178" y="9430"/>
                </a:cubicBezTo>
                <a:cubicBezTo>
                  <a:pt x="7119" y="9305"/>
                  <a:pt x="7059" y="9180"/>
                  <a:pt x="7000" y="9055"/>
                </a:cubicBezTo>
                <a:lnTo>
                  <a:pt x="7000" y="81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3" name="Freeform 341"/>
          <p:cNvSpPr/>
          <p:nvPr/>
        </p:nvSpPr>
        <p:spPr>
          <a:xfrm>
            <a:off x="6780240" y="4659480"/>
            <a:ext cx="271440" cy="120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583" y="5455"/>
                </a:moveTo>
                <a:lnTo>
                  <a:pt x="10000" y="3636"/>
                </a:lnTo>
                <a:lnTo>
                  <a:pt x="9583" y="1818"/>
                </a:lnTo>
                <a:lnTo>
                  <a:pt x="9583" y="909"/>
                </a:lnTo>
                <a:lnTo>
                  <a:pt x="9167" y="909"/>
                </a:lnTo>
                <a:lnTo>
                  <a:pt x="7500" y="0"/>
                </a:lnTo>
                <a:lnTo>
                  <a:pt x="7083" y="909"/>
                </a:lnTo>
                <a:lnTo>
                  <a:pt x="5833" y="909"/>
                </a:lnTo>
                <a:lnTo>
                  <a:pt x="5417" y="1818"/>
                </a:lnTo>
                <a:lnTo>
                  <a:pt x="4583" y="2727"/>
                </a:lnTo>
                <a:lnTo>
                  <a:pt x="5000" y="4545"/>
                </a:lnTo>
                <a:cubicBezTo>
                  <a:pt x="5000" y="4545"/>
                  <a:pt x="5000" y="5455"/>
                  <a:pt x="4583" y="5455"/>
                </a:cubicBezTo>
                <a:lnTo>
                  <a:pt x="4167" y="5455"/>
                </a:lnTo>
                <a:lnTo>
                  <a:pt x="2500" y="6364"/>
                </a:lnTo>
                <a:lnTo>
                  <a:pt x="1667" y="6364"/>
                </a:lnTo>
                <a:lnTo>
                  <a:pt x="417" y="6364"/>
                </a:lnTo>
                <a:lnTo>
                  <a:pt x="0" y="6364"/>
                </a:lnTo>
                <a:lnTo>
                  <a:pt x="417" y="7273"/>
                </a:lnTo>
                <a:lnTo>
                  <a:pt x="1250" y="9091"/>
                </a:lnTo>
                <a:lnTo>
                  <a:pt x="1667" y="10000"/>
                </a:lnTo>
                <a:lnTo>
                  <a:pt x="2083" y="9091"/>
                </a:lnTo>
                <a:lnTo>
                  <a:pt x="3750" y="9091"/>
                </a:lnTo>
                <a:lnTo>
                  <a:pt x="5417" y="10000"/>
                </a:lnTo>
                <a:lnTo>
                  <a:pt x="5833" y="10000"/>
                </a:lnTo>
                <a:lnTo>
                  <a:pt x="7500" y="10000"/>
                </a:lnTo>
                <a:lnTo>
                  <a:pt x="8750" y="8182"/>
                </a:lnTo>
                <a:lnTo>
                  <a:pt x="9167" y="8182"/>
                </a:lnTo>
                <a:cubicBezTo>
                  <a:pt x="9306" y="7273"/>
                  <a:pt x="9444" y="6364"/>
                  <a:pt x="9583" y="545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5800" bIns="55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Freeform 342"/>
          <p:cNvSpPr/>
          <p:nvPr/>
        </p:nvSpPr>
        <p:spPr>
          <a:xfrm rot="471000">
            <a:off x="6315120" y="4511160"/>
            <a:ext cx="433440" cy="417600"/>
          </a:xfrm>
          <a:custGeom>
            <a:avLst/>
            <a:gdLst/>
            <a:ahLst/>
            <a:rect l="l" t="t" r="r" b="b"/>
            <a:pathLst>
              <a:path w="10043" h="10000">
                <a:moveTo>
                  <a:pt x="9119" y="7195"/>
                </a:moveTo>
                <a:cubicBezTo>
                  <a:pt x="9204" y="7033"/>
                  <a:pt x="9249" y="6746"/>
                  <a:pt x="9276" y="6559"/>
                </a:cubicBezTo>
                <a:cubicBezTo>
                  <a:pt x="9302" y="6372"/>
                  <a:pt x="9276" y="6235"/>
                  <a:pt x="9276" y="6074"/>
                </a:cubicBezTo>
                <a:cubicBezTo>
                  <a:pt x="9191" y="5911"/>
                  <a:pt x="9105" y="5750"/>
                  <a:pt x="9020" y="5588"/>
                </a:cubicBezTo>
                <a:cubicBezTo>
                  <a:pt x="8849" y="5588"/>
                  <a:pt x="8579" y="5641"/>
                  <a:pt x="8508" y="5588"/>
                </a:cubicBezTo>
                <a:cubicBezTo>
                  <a:pt x="8437" y="5534"/>
                  <a:pt x="8566" y="5375"/>
                  <a:pt x="8596" y="5268"/>
                </a:cubicBezTo>
                <a:cubicBezTo>
                  <a:pt x="8822" y="4969"/>
                  <a:pt x="9120" y="4562"/>
                  <a:pt x="9276" y="4373"/>
                </a:cubicBezTo>
                <a:cubicBezTo>
                  <a:pt x="9431" y="4183"/>
                  <a:pt x="9446" y="4210"/>
                  <a:pt x="9531" y="4129"/>
                </a:cubicBezTo>
                <a:lnTo>
                  <a:pt x="9531" y="3158"/>
                </a:lnTo>
                <a:lnTo>
                  <a:pt x="10043" y="2672"/>
                </a:lnTo>
                <a:lnTo>
                  <a:pt x="9276" y="2429"/>
                </a:lnTo>
                <a:lnTo>
                  <a:pt x="8764" y="2186"/>
                </a:lnTo>
                <a:lnTo>
                  <a:pt x="7996" y="1943"/>
                </a:lnTo>
                <a:lnTo>
                  <a:pt x="7741" y="1700"/>
                </a:lnTo>
                <a:lnTo>
                  <a:pt x="7229" y="1457"/>
                </a:lnTo>
                <a:lnTo>
                  <a:pt x="6717" y="1215"/>
                </a:lnTo>
                <a:lnTo>
                  <a:pt x="6461" y="729"/>
                </a:lnTo>
                <a:lnTo>
                  <a:pt x="5950" y="486"/>
                </a:lnTo>
                <a:lnTo>
                  <a:pt x="5694" y="0"/>
                </a:lnTo>
                <a:lnTo>
                  <a:pt x="5182" y="243"/>
                </a:lnTo>
                <a:lnTo>
                  <a:pt x="4671" y="1215"/>
                </a:lnTo>
                <a:cubicBezTo>
                  <a:pt x="4586" y="1296"/>
                  <a:pt x="4545" y="1311"/>
                  <a:pt x="4415" y="1457"/>
                </a:cubicBezTo>
                <a:cubicBezTo>
                  <a:pt x="4285" y="1603"/>
                  <a:pt x="4129" y="1996"/>
                  <a:pt x="3890" y="2092"/>
                </a:cubicBezTo>
                <a:cubicBezTo>
                  <a:pt x="3651" y="2188"/>
                  <a:pt x="3168" y="2108"/>
                  <a:pt x="2979" y="2034"/>
                </a:cubicBezTo>
                <a:cubicBezTo>
                  <a:pt x="2790" y="1960"/>
                  <a:pt x="2862" y="1718"/>
                  <a:pt x="2757" y="1649"/>
                </a:cubicBezTo>
                <a:cubicBezTo>
                  <a:pt x="2652" y="1580"/>
                  <a:pt x="2418" y="1522"/>
                  <a:pt x="2348" y="1621"/>
                </a:cubicBezTo>
                <a:cubicBezTo>
                  <a:pt x="2279" y="1720"/>
                  <a:pt x="2337" y="2029"/>
                  <a:pt x="2340" y="2245"/>
                </a:cubicBezTo>
                <a:cubicBezTo>
                  <a:pt x="2343" y="2461"/>
                  <a:pt x="2491" y="2803"/>
                  <a:pt x="2368" y="2915"/>
                </a:cubicBezTo>
                <a:cubicBezTo>
                  <a:pt x="2245" y="3027"/>
                  <a:pt x="1781" y="2985"/>
                  <a:pt x="1601" y="2915"/>
                </a:cubicBezTo>
                <a:cubicBezTo>
                  <a:pt x="1421" y="2845"/>
                  <a:pt x="1442" y="2545"/>
                  <a:pt x="1289" y="2497"/>
                </a:cubicBezTo>
                <a:cubicBezTo>
                  <a:pt x="1136" y="2449"/>
                  <a:pt x="893" y="2584"/>
                  <a:pt x="684" y="2625"/>
                </a:cubicBezTo>
                <a:cubicBezTo>
                  <a:pt x="475" y="2666"/>
                  <a:pt x="131" y="2638"/>
                  <a:pt x="33" y="2742"/>
                </a:cubicBezTo>
                <a:cubicBezTo>
                  <a:pt x="-65" y="2846"/>
                  <a:pt x="82" y="3088"/>
                  <a:pt x="94" y="3251"/>
                </a:cubicBezTo>
                <a:cubicBezTo>
                  <a:pt x="106" y="3414"/>
                  <a:pt x="-17" y="3533"/>
                  <a:pt x="105" y="3720"/>
                </a:cubicBezTo>
                <a:cubicBezTo>
                  <a:pt x="228" y="3907"/>
                  <a:pt x="584" y="4264"/>
                  <a:pt x="833" y="4373"/>
                </a:cubicBezTo>
                <a:cubicBezTo>
                  <a:pt x="1082" y="4481"/>
                  <a:pt x="1345" y="4373"/>
                  <a:pt x="1601" y="4373"/>
                </a:cubicBezTo>
                <a:lnTo>
                  <a:pt x="1856" y="4616"/>
                </a:lnTo>
                <a:lnTo>
                  <a:pt x="1856" y="4859"/>
                </a:lnTo>
                <a:lnTo>
                  <a:pt x="2112" y="5345"/>
                </a:lnTo>
                <a:cubicBezTo>
                  <a:pt x="2197" y="5588"/>
                  <a:pt x="2283" y="5831"/>
                  <a:pt x="2368" y="6074"/>
                </a:cubicBezTo>
                <a:lnTo>
                  <a:pt x="2624" y="6316"/>
                </a:lnTo>
                <a:cubicBezTo>
                  <a:pt x="2624" y="6559"/>
                  <a:pt x="2696" y="6675"/>
                  <a:pt x="2624" y="7045"/>
                </a:cubicBezTo>
                <a:cubicBezTo>
                  <a:pt x="2551" y="7414"/>
                  <a:pt x="2272" y="8240"/>
                  <a:pt x="2188" y="8533"/>
                </a:cubicBezTo>
                <a:cubicBezTo>
                  <a:pt x="2104" y="8826"/>
                  <a:pt x="2064" y="8649"/>
                  <a:pt x="2118" y="8804"/>
                </a:cubicBezTo>
                <a:cubicBezTo>
                  <a:pt x="2173" y="8958"/>
                  <a:pt x="2390" y="9351"/>
                  <a:pt x="2516" y="9462"/>
                </a:cubicBezTo>
                <a:cubicBezTo>
                  <a:pt x="2643" y="9574"/>
                  <a:pt x="2734" y="9472"/>
                  <a:pt x="2880" y="9474"/>
                </a:cubicBezTo>
                <a:cubicBezTo>
                  <a:pt x="3025" y="9476"/>
                  <a:pt x="3220" y="9474"/>
                  <a:pt x="3391" y="9474"/>
                </a:cubicBezTo>
                <a:lnTo>
                  <a:pt x="4159" y="9717"/>
                </a:lnTo>
                <a:lnTo>
                  <a:pt x="4671" y="9717"/>
                </a:lnTo>
                <a:lnTo>
                  <a:pt x="5438" y="9960"/>
                </a:lnTo>
                <a:cubicBezTo>
                  <a:pt x="5609" y="9960"/>
                  <a:pt x="5793" y="10051"/>
                  <a:pt x="5950" y="9960"/>
                </a:cubicBezTo>
                <a:cubicBezTo>
                  <a:pt x="6106" y="9870"/>
                  <a:pt x="6222" y="9506"/>
                  <a:pt x="6375" y="9413"/>
                </a:cubicBezTo>
                <a:cubicBezTo>
                  <a:pt x="6529" y="9321"/>
                  <a:pt x="6594" y="9367"/>
                  <a:pt x="6869" y="9401"/>
                </a:cubicBezTo>
                <a:cubicBezTo>
                  <a:pt x="7143" y="9436"/>
                  <a:pt x="7722" y="9569"/>
                  <a:pt x="8022" y="9625"/>
                </a:cubicBezTo>
                <a:cubicBezTo>
                  <a:pt x="8322" y="9682"/>
                  <a:pt x="8393" y="9858"/>
                  <a:pt x="8668" y="9743"/>
                </a:cubicBezTo>
                <a:cubicBezTo>
                  <a:pt x="8942" y="9628"/>
                  <a:pt x="9580" y="8937"/>
                  <a:pt x="9665" y="8937"/>
                </a:cubicBezTo>
                <a:lnTo>
                  <a:pt x="9079" y="8091"/>
                </a:lnTo>
                <a:cubicBezTo>
                  <a:pt x="9008" y="7886"/>
                  <a:pt x="8985" y="7957"/>
                  <a:pt x="8942" y="7836"/>
                </a:cubicBezTo>
                <a:cubicBezTo>
                  <a:pt x="8899" y="7714"/>
                  <a:pt x="9114" y="7387"/>
                  <a:pt x="9119" y="719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Freeform 343"/>
          <p:cNvSpPr/>
          <p:nvPr/>
        </p:nvSpPr>
        <p:spPr>
          <a:xfrm>
            <a:off x="6683400" y="4761000"/>
            <a:ext cx="442800" cy="4492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87" y="4"/>
                </a:moveTo>
                <a:lnTo>
                  <a:pt x="71" y="0"/>
                </a:lnTo>
                <a:lnTo>
                  <a:pt x="54" y="0"/>
                </a:lnTo>
                <a:lnTo>
                  <a:pt x="50" y="4"/>
                </a:lnTo>
                <a:lnTo>
                  <a:pt x="46" y="4"/>
                </a:lnTo>
                <a:lnTo>
                  <a:pt x="37" y="8"/>
                </a:lnTo>
                <a:lnTo>
                  <a:pt x="25" y="12"/>
                </a:lnTo>
                <a:lnTo>
                  <a:pt x="21" y="8"/>
                </a:lnTo>
                <a:lnTo>
                  <a:pt x="8" y="16"/>
                </a:lnTo>
                <a:lnTo>
                  <a:pt x="4" y="16"/>
                </a:lnTo>
                <a:lnTo>
                  <a:pt x="4" y="25"/>
                </a:lnTo>
                <a:lnTo>
                  <a:pt x="0" y="33"/>
                </a:lnTo>
                <a:lnTo>
                  <a:pt x="4" y="45"/>
                </a:lnTo>
                <a:lnTo>
                  <a:pt x="12" y="54"/>
                </a:lnTo>
                <a:lnTo>
                  <a:pt x="21" y="45"/>
                </a:lnTo>
                <a:lnTo>
                  <a:pt x="42" y="54"/>
                </a:lnTo>
                <a:lnTo>
                  <a:pt x="54" y="78"/>
                </a:lnTo>
                <a:lnTo>
                  <a:pt x="67" y="95"/>
                </a:lnTo>
                <a:lnTo>
                  <a:pt x="96" y="112"/>
                </a:lnTo>
                <a:lnTo>
                  <a:pt x="114" y="126"/>
                </a:lnTo>
                <a:lnTo>
                  <a:pt x="106" y="154"/>
                </a:lnTo>
                <a:lnTo>
                  <a:pt x="133" y="133"/>
                </a:lnTo>
                <a:lnTo>
                  <a:pt x="133" y="120"/>
                </a:lnTo>
                <a:lnTo>
                  <a:pt x="146" y="124"/>
                </a:lnTo>
                <a:lnTo>
                  <a:pt x="154" y="124"/>
                </a:lnTo>
                <a:lnTo>
                  <a:pt x="133" y="104"/>
                </a:lnTo>
                <a:lnTo>
                  <a:pt x="117" y="91"/>
                </a:lnTo>
                <a:lnTo>
                  <a:pt x="104" y="87"/>
                </a:lnTo>
                <a:lnTo>
                  <a:pt x="87" y="58"/>
                </a:lnTo>
                <a:lnTo>
                  <a:pt x="79" y="41"/>
                </a:lnTo>
                <a:lnTo>
                  <a:pt x="83" y="25"/>
                </a:lnTo>
                <a:lnTo>
                  <a:pt x="87" y="25"/>
                </a:lnTo>
                <a:lnTo>
                  <a:pt x="87" y="16"/>
                </a:lnTo>
                <a:lnTo>
                  <a:pt x="87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Freeform 344"/>
          <p:cNvSpPr/>
          <p:nvPr/>
        </p:nvSpPr>
        <p:spPr>
          <a:xfrm>
            <a:off x="6672240" y="4324320"/>
            <a:ext cx="284040" cy="414360"/>
          </a:xfrm>
          <a:custGeom>
            <a:avLst/>
            <a:gdLst/>
            <a:ahLst/>
            <a:rect l="l" t="t" r="r" b="b"/>
            <a:pathLst>
              <a:path w="10045" h="10019">
                <a:moveTo>
                  <a:pt x="1724" y="2609"/>
                </a:moveTo>
                <a:lnTo>
                  <a:pt x="1379" y="3132"/>
                </a:lnTo>
                <a:lnTo>
                  <a:pt x="1379" y="3915"/>
                </a:lnTo>
                <a:lnTo>
                  <a:pt x="690" y="4436"/>
                </a:lnTo>
                <a:lnTo>
                  <a:pt x="690" y="5219"/>
                </a:lnTo>
                <a:lnTo>
                  <a:pt x="345" y="5741"/>
                </a:lnTo>
                <a:lnTo>
                  <a:pt x="690" y="6263"/>
                </a:lnTo>
                <a:lnTo>
                  <a:pt x="345" y="6786"/>
                </a:lnTo>
                <a:lnTo>
                  <a:pt x="0" y="7306"/>
                </a:lnTo>
                <a:lnTo>
                  <a:pt x="1034" y="7568"/>
                </a:lnTo>
                <a:lnTo>
                  <a:pt x="1724" y="7829"/>
                </a:lnTo>
                <a:cubicBezTo>
                  <a:pt x="2069" y="7916"/>
                  <a:pt x="2675" y="8005"/>
                  <a:pt x="2759" y="8090"/>
                </a:cubicBezTo>
                <a:cubicBezTo>
                  <a:pt x="2843" y="8175"/>
                  <a:pt x="2382" y="8117"/>
                  <a:pt x="2230" y="8339"/>
                </a:cubicBezTo>
                <a:cubicBezTo>
                  <a:pt x="2078" y="8560"/>
                  <a:pt x="1874" y="9189"/>
                  <a:pt x="1848" y="9422"/>
                </a:cubicBezTo>
                <a:cubicBezTo>
                  <a:pt x="1822" y="9656"/>
                  <a:pt x="1806" y="9700"/>
                  <a:pt x="2073" y="9738"/>
                </a:cubicBezTo>
                <a:cubicBezTo>
                  <a:pt x="2340" y="9777"/>
                  <a:pt x="3104" y="9626"/>
                  <a:pt x="3448" y="9656"/>
                </a:cubicBezTo>
                <a:cubicBezTo>
                  <a:pt x="3792" y="9686"/>
                  <a:pt x="3969" y="9858"/>
                  <a:pt x="4138" y="9917"/>
                </a:cubicBezTo>
                <a:cubicBezTo>
                  <a:pt x="4307" y="9976"/>
                  <a:pt x="4368" y="9999"/>
                  <a:pt x="4463" y="10013"/>
                </a:cubicBezTo>
                <a:cubicBezTo>
                  <a:pt x="4558" y="10027"/>
                  <a:pt x="4532" y="10015"/>
                  <a:pt x="4708" y="9999"/>
                </a:cubicBezTo>
                <a:cubicBezTo>
                  <a:pt x="4884" y="9983"/>
                  <a:pt x="5267" y="9931"/>
                  <a:pt x="5517" y="9917"/>
                </a:cubicBezTo>
                <a:cubicBezTo>
                  <a:pt x="5767" y="9903"/>
                  <a:pt x="5977" y="9917"/>
                  <a:pt x="6207" y="9917"/>
                </a:cubicBezTo>
                <a:cubicBezTo>
                  <a:pt x="6667" y="9830"/>
                  <a:pt x="7228" y="9704"/>
                  <a:pt x="7586" y="9656"/>
                </a:cubicBezTo>
                <a:cubicBezTo>
                  <a:pt x="7944" y="9608"/>
                  <a:pt x="8185" y="9677"/>
                  <a:pt x="8353" y="9629"/>
                </a:cubicBezTo>
                <a:cubicBezTo>
                  <a:pt x="8521" y="9581"/>
                  <a:pt x="8604" y="9494"/>
                  <a:pt x="8597" y="9368"/>
                </a:cubicBezTo>
                <a:cubicBezTo>
                  <a:pt x="8590" y="9242"/>
                  <a:pt x="8278" y="8989"/>
                  <a:pt x="8312" y="8872"/>
                </a:cubicBezTo>
                <a:cubicBezTo>
                  <a:pt x="8346" y="8755"/>
                  <a:pt x="8653" y="8734"/>
                  <a:pt x="8802" y="8668"/>
                </a:cubicBezTo>
                <a:cubicBezTo>
                  <a:pt x="8951" y="8602"/>
                  <a:pt x="9106" y="8518"/>
                  <a:pt x="9207" y="8474"/>
                </a:cubicBezTo>
                <a:cubicBezTo>
                  <a:pt x="9308" y="8430"/>
                  <a:pt x="9462" y="8479"/>
                  <a:pt x="9408" y="8406"/>
                </a:cubicBezTo>
                <a:cubicBezTo>
                  <a:pt x="9354" y="8333"/>
                  <a:pt x="9101" y="8223"/>
                  <a:pt x="8882" y="8035"/>
                </a:cubicBezTo>
                <a:cubicBezTo>
                  <a:pt x="8663" y="7847"/>
                  <a:pt x="8352" y="7492"/>
                  <a:pt x="8092" y="7279"/>
                </a:cubicBezTo>
                <a:cubicBezTo>
                  <a:pt x="7832" y="7066"/>
                  <a:pt x="7487" y="6889"/>
                  <a:pt x="7321" y="6759"/>
                </a:cubicBezTo>
                <a:cubicBezTo>
                  <a:pt x="7155" y="6629"/>
                  <a:pt x="7054" y="6580"/>
                  <a:pt x="7098" y="6497"/>
                </a:cubicBezTo>
                <a:cubicBezTo>
                  <a:pt x="7142" y="6414"/>
                  <a:pt x="7390" y="6345"/>
                  <a:pt x="7586" y="6263"/>
                </a:cubicBezTo>
                <a:cubicBezTo>
                  <a:pt x="7782" y="6181"/>
                  <a:pt x="8026" y="6082"/>
                  <a:pt x="8276" y="6002"/>
                </a:cubicBezTo>
                <a:cubicBezTo>
                  <a:pt x="8526" y="5922"/>
                  <a:pt x="8900" y="5853"/>
                  <a:pt x="9086" y="5782"/>
                </a:cubicBezTo>
                <a:cubicBezTo>
                  <a:pt x="9272" y="5711"/>
                  <a:pt x="9238" y="5584"/>
                  <a:pt x="9390" y="5577"/>
                </a:cubicBezTo>
                <a:cubicBezTo>
                  <a:pt x="9542" y="5570"/>
                  <a:pt x="9898" y="5757"/>
                  <a:pt x="10000" y="5741"/>
                </a:cubicBezTo>
                <a:cubicBezTo>
                  <a:pt x="10102" y="5725"/>
                  <a:pt x="10000" y="5568"/>
                  <a:pt x="10000" y="5481"/>
                </a:cubicBezTo>
                <a:lnTo>
                  <a:pt x="10000" y="4697"/>
                </a:lnTo>
                <a:cubicBezTo>
                  <a:pt x="9655" y="4697"/>
                  <a:pt x="9655" y="3654"/>
                  <a:pt x="9655" y="3654"/>
                </a:cubicBezTo>
                <a:lnTo>
                  <a:pt x="9655" y="2871"/>
                </a:lnTo>
                <a:lnTo>
                  <a:pt x="9655" y="2609"/>
                </a:lnTo>
                <a:lnTo>
                  <a:pt x="9310" y="1827"/>
                </a:lnTo>
                <a:lnTo>
                  <a:pt x="9310" y="1305"/>
                </a:lnTo>
                <a:lnTo>
                  <a:pt x="7931" y="783"/>
                </a:lnTo>
                <a:lnTo>
                  <a:pt x="6552" y="1305"/>
                </a:lnTo>
                <a:cubicBezTo>
                  <a:pt x="6552" y="1305"/>
                  <a:pt x="6207" y="1305"/>
                  <a:pt x="5862" y="1044"/>
                </a:cubicBezTo>
                <a:lnTo>
                  <a:pt x="5862" y="522"/>
                </a:lnTo>
                <a:lnTo>
                  <a:pt x="4828" y="261"/>
                </a:lnTo>
                <a:lnTo>
                  <a:pt x="4138" y="0"/>
                </a:lnTo>
                <a:lnTo>
                  <a:pt x="3793" y="261"/>
                </a:lnTo>
                <a:lnTo>
                  <a:pt x="3448" y="1305"/>
                </a:lnTo>
                <a:lnTo>
                  <a:pt x="3103" y="1827"/>
                </a:lnTo>
                <a:lnTo>
                  <a:pt x="2414" y="1827"/>
                </a:lnTo>
                <a:lnTo>
                  <a:pt x="1724" y="1827"/>
                </a:lnTo>
                <a:lnTo>
                  <a:pt x="1724" y="2088"/>
                </a:lnTo>
                <a:lnTo>
                  <a:pt x="1724" y="26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7" name="Freeform 345"/>
          <p:cNvSpPr/>
          <p:nvPr/>
        </p:nvSpPr>
        <p:spPr>
          <a:xfrm>
            <a:off x="6635880" y="4410000"/>
            <a:ext cx="108000" cy="144360"/>
          </a:xfrm>
          <a:custGeom>
            <a:avLst/>
            <a:gdLst/>
            <a:ahLst/>
            <a:rect l="l" t="t" r="r" b="b"/>
            <a:pathLst>
              <a:path w="66" h="90">
                <a:moveTo>
                  <a:pt x="18" y="72"/>
                </a:moveTo>
                <a:lnTo>
                  <a:pt x="30" y="78"/>
                </a:lnTo>
                <a:lnTo>
                  <a:pt x="36" y="84"/>
                </a:lnTo>
                <a:lnTo>
                  <a:pt x="42" y="90"/>
                </a:lnTo>
                <a:lnTo>
                  <a:pt x="48" y="78"/>
                </a:lnTo>
                <a:lnTo>
                  <a:pt x="48" y="60"/>
                </a:lnTo>
                <a:lnTo>
                  <a:pt x="60" y="48"/>
                </a:lnTo>
                <a:lnTo>
                  <a:pt x="60" y="30"/>
                </a:lnTo>
                <a:lnTo>
                  <a:pt x="66" y="18"/>
                </a:lnTo>
                <a:lnTo>
                  <a:pt x="66" y="6"/>
                </a:lnTo>
                <a:lnTo>
                  <a:pt x="66" y="0"/>
                </a:lnTo>
                <a:lnTo>
                  <a:pt x="54" y="6"/>
                </a:lnTo>
                <a:lnTo>
                  <a:pt x="36" y="12"/>
                </a:lnTo>
                <a:lnTo>
                  <a:pt x="36" y="30"/>
                </a:lnTo>
                <a:lnTo>
                  <a:pt x="24" y="18"/>
                </a:lnTo>
                <a:lnTo>
                  <a:pt x="12" y="54"/>
                </a:lnTo>
                <a:lnTo>
                  <a:pt x="0" y="66"/>
                </a:lnTo>
                <a:lnTo>
                  <a:pt x="6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8" name="Freeform 346"/>
          <p:cNvSpPr/>
          <p:nvPr/>
        </p:nvSpPr>
        <p:spPr>
          <a:xfrm rot="20965800">
            <a:off x="7176600" y="5025960"/>
            <a:ext cx="225720" cy="231840"/>
          </a:xfrm>
          <a:custGeom>
            <a:avLst/>
            <a:gdLst/>
            <a:ahLst/>
            <a:rect l="l" t="t" r="r" b="b"/>
            <a:pathLst>
              <a:path w="9874" h="10000">
                <a:moveTo>
                  <a:pt x="9677" y="735"/>
                </a:moveTo>
                <a:lnTo>
                  <a:pt x="9874" y="489"/>
                </a:lnTo>
                <a:lnTo>
                  <a:pt x="9223" y="488"/>
                </a:lnTo>
                <a:lnTo>
                  <a:pt x="8813" y="0"/>
                </a:lnTo>
                <a:lnTo>
                  <a:pt x="5802" y="299"/>
                </a:lnTo>
                <a:lnTo>
                  <a:pt x="3889" y="1094"/>
                </a:lnTo>
                <a:lnTo>
                  <a:pt x="1667" y="1588"/>
                </a:lnTo>
                <a:lnTo>
                  <a:pt x="1667" y="2083"/>
                </a:lnTo>
                <a:lnTo>
                  <a:pt x="1111" y="3073"/>
                </a:lnTo>
                <a:lnTo>
                  <a:pt x="0" y="4062"/>
                </a:lnTo>
                <a:lnTo>
                  <a:pt x="1111" y="5547"/>
                </a:lnTo>
                <a:lnTo>
                  <a:pt x="3333" y="6042"/>
                </a:lnTo>
                <a:lnTo>
                  <a:pt x="2222" y="7031"/>
                </a:lnTo>
                <a:lnTo>
                  <a:pt x="2222" y="9010"/>
                </a:lnTo>
                <a:lnTo>
                  <a:pt x="4445" y="10000"/>
                </a:lnTo>
                <a:lnTo>
                  <a:pt x="5555" y="9010"/>
                </a:lnTo>
                <a:lnTo>
                  <a:pt x="5555" y="8021"/>
                </a:lnTo>
                <a:lnTo>
                  <a:pt x="7777" y="7031"/>
                </a:lnTo>
                <a:lnTo>
                  <a:pt x="5555" y="5052"/>
                </a:lnTo>
                <a:lnTo>
                  <a:pt x="5555" y="4062"/>
                </a:lnTo>
                <a:lnTo>
                  <a:pt x="4445" y="2578"/>
                </a:lnTo>
                <a:lnTo>
                  <a:pt x="7777" y="2083"/>
                </a:lnTo>
                <a:lnTo>
                  <a:pt x="9152" y="1778"/>
                </a:lnTo>
                <a:lnTo>
                  <a:pt x="9179" y="1136"/>
                </a:lnTo>
                <a:lnTo>
                  <a:pt x="9413" y="901"/>
                </a:lnTo>
                <a:lnTo>
                  <a:pt x="9677" y="7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Freeform 351"/>
          <p:cNvSpPr/>
          <p:nvPr/>
        </p:nvSpPr>
        <p:spPr>
          <a:xfrm>
            <a:off x="7164360" y="4664160"/>
            <a:ext cx="290520" cy="23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952" y="4746"/>
                </a:moveTo>
                <a:cubicBezTo>
                  <a:pt x="8952" y="4746"/>
                  <a:pt x="9789" y="4438"/>
                  <a:pt x="9789" y="4036"/>
                </a:cubicBezTo>
                <a:cubicBezTo>
                  <a:pt x="10125" y="3229"/>
                  <a:pt x="10054" y="3000"/>
                  <a:pt x="9628" y="2328"/>
                </a:cubicBezTo>
                <a:cubicBezTo>
                  <a:pt x="9201" y="1655"/>
                  <a:pt x="8028" y="776"/>
                  <a:pt x="7229" y="0"/>
                </a:cubicBezTo>
                <a:cubicBezTo>
                  <a:pt x="6677" y="239"/>
                  <a:pt x="6358" y="529"/>
                  <a:pt x="5576" y="715"/>
                </a:cubicBezTo>
                <a:cubicBezTo>
                  <a:pt x="4794" y="901"/>
                  <a:pt x="3551" y="983"/>
                  <a:pt x="2539" y="1118"/>
                </a:cubicBezTo>
                <a:lnTo>
                  <a:pt x="2201" y="715"/>
                </a:lnTo>
                <a:lnTo>
                  <a:pt x="1188" y="2730"/>
                </a:lnTo>
                <a:cubicBezTo>
                  <a:pt x="963" y="3268"/>
                  <a:pt x="631" y="4031"/>
                  <a:pt x="513" y="4343"/>
                </a:cubicBezTo>
                <a:cubicBezTo>
                  <a:pt x="396" y="4654"/>
                  <a:pt x="496" y="4524"/>
                  <a:pt x="482" y="4603"/>
                </a:cubicBezTo>
                <a:cubicBezTo>
                  <a:pt x="467" y="4681"/>
                  <a:pt x="503" y="4723"/>
                  <a:pt x="422" y="4817"/>
                </a:cubicBezTo>
                <a:cubicBezTo>
                  <a:pt x="342" y="4911"/>
                  <a:pt x="-28" y="5153"/>
                  <a:pt x="2" y="5165"/>
                </a:cubicBezTo>
                <a:cubicBezTo>
                  <a:pt x="871" y="6361"/>
                  <a:pt x="1309" y="7628"/>
                  <a:pt x="1789" y="8230"/>
                </a:cubicBezTo>
                <a:cubicBezTo>
                  <a:pt x="2266" y="8832"/>
                  <a:pt x="2645" y="8558"/>
                  <a:pt x="2875" y="8776"/>
                </a:cubicBezTo>
                <a:cubicBezTo>
                  <a:pt x="3105" y="8994"/>
                  <a:pt x="2722" y="9336"/>
                  <a:pt x="3174" y="9539"/>
                </a:cubicBezTo>
                <a:cubicBezTo>
                  <a:pt x="3626" y="9742"/>
                  <a:pt x="4682" y="10053"/>
                  <a:pt x="5588" y="9993"/>
                </a:cubicBezTo>
                <a:cubicBezTo>
                  <a:pt x="6494" y="9933"/>
                  <a:pt x="8055" y="9717"/>
                  <a:pt x="8615" y="9179"/>
                </a:cubicBezTo>
                <a:cubicBezTo>
                  <a:pt x="9175" y="8641"/>
                  <a:pt x="8840" y="7567"/>
                  <a:pt x="8952" y="6761"/>
                </a:cubicBezTo>
                <a:lnTo>
                  <a:pt x="9628" y="6358"/>
                </a:lnTo>
                <a:cubicBezTo>
                  <a:pt x="9591" y="6168"/>
                  <a:pt x="9555" y="5977"/>
                  <a:pt x="9518" y="5787"/>
                </a:cubicBezTo>
                <a:cubicBezTo>
                  <a:pt x="9629" y="5384"/>
                  <a:pt x="8840" y="5149"/>
                  <a:pt x="8952" y="474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Freeform 353"/>
          <p:cNvSpPr/>
          <p:nvPr/>
        </p:nvSpPr>
        <p:spPr>
          <a:xfrm>
            <a:off x="6870600" y="4554360"/>
            <a:ext cx="225360" cy="117720"/>
          </a:xfrm>
          <a:custGeom>
            <a:avLst/>
            <a:gdLst/>
            <a:ahLst/>
            <a:rect l="l" t="t" r="r" b="b"/>
            <a:pathLst>
              <a:path w="10569" h="10092">
                <a:moveTo>
                  <a:pt x="10569" y="5925"/>
                </a:moveTo>
                <a:cubicBezTo>
                  <a:pt x="10249" y="5077"/>
                  <a:pt x="8682" y="4197"/>
                  <a:pt x="7738" y="3333"/>
                </a:cubicBezTo>
                <a:lnTo>
                  <a:pt x="5920" y="1667"/>
                </a:lnTo>
                <a:lnTo>
                  <a:pt x="4102" y="0"/>
                </a:lnTo>
                <a:lnTo>
                  <a:pt x="4102" y="833"/>
                </a:lnTo>
                <a:lnTo>
                  <a:pt x="3193" y="0"/>
                </a:lnTo>
                <a:lnTo>
                  <a:pt x="2738" y="833"/>
                </a:lnTo>
                <a:lnTo>
                  <a:pt x="1829" y="1667"/>
                </a:lnTo>
                <a:lnTo>
                  <a:pt x="920" y="2500"/>
                </a:lnTo>
                <a:cubicBezTo>
                  <a:pt x="617" y="2778"/>
                  <a:pt x="87" y="3007"/>
                  <a:pt x="11" y="3333"/>
                </a:cubicBezTo>
                <a:cubicBezTo>
                  <a:pt x="-65" y="3659"/>
                  <a:pt x="248" y="4018"/>
                  <a:pt x="466" y="4459"/>
                </a:cubicBezTo>
                <a:cubicBezTo>
                  <a:pt x="684" y="4900"/>
                  <a:pt x="1019" y="5333"/>
                  <a:pt x="1322" y="5979"/>
                </a:cubicBezTo>
                <a:cubicBezTo>
                  <a:pt x="1625" y="6625"/>
                  <a:pt x="2048" y="7802"/>
                  <a:pt x="2284" y="8333"/>
                </a:cubicBezTo>
                <a:cubicBezTo>
                  <a:pt x="2520" y="8864"/>
                  <a:pt x="2583" y="8874"/>
                  <a:pt x="2738" y="9167"/>
                </a:cubicBezTo>
                <a:cubicBezTo>
                  <a:pt x="2893" y="9460"/>
                  <a:pt x="3217" y="10092"/>
                  <a:pt x="3217" y="10092"/>
                </a:cubicBezTo>
                <a:cubicBezTo>
                  <a:pt x="4581" y="10092"/>
                  <a:pt x="4900" y="9994"/>
                  <a:pt x="4900" y="9994"/>
                </a:cubicBezTo>
                <a:cubicBezTo>
                  <a:pt x="4785" y="9440"/>
                  <a:pt x="5654" y="9714"/>
                  <a:pt x="5539" y="9160"/>
                </a:cubicBezTo>
                <a:cubicBezTo>
                  <a:pt x="5853" y="9260"/>
                  <a:pt x="6250" y="9364"/>
                  <a:pt x="6402" y="9410"/>
                </a:cubicBezTo>
                <a:cubicBezTo>
                  <a:pt x="6554" y="9456"/>
                  <a:pt x="6377" y="9434"/>
                  <a:pt x="6453" y="9434"/>
                </a:cubicBezTo>
                <a:cubicBezTo>
                  <a:pt x="6529" y="9434"/>
                  <a:pt x="6505" y="9504"/>
                  <a:pt x="6723" y="9605"/>
                </a:cubicBezTo>
                <a:cubicBezTo>
                  <a:pt x="6941" y="9707"/>
                  <a:pt x="7421" y="10085"/>
                  <a:pt x="7759" y="10043"/>
                </a:cubicBezTo>
                <a:cubicBezTo>
                  <a:pt x="8097" y="10001"/>
                  <a:pt x="8436" y="9626"/>
                  <a:pt x="8753" y="9355"/>
                </a:cubicBezTo>
                <a:cubicBezTo>
                  <a:pt x="9070" y="9084"/>
                  <a:pt x="8347" y="9964"/>
                  <a:pt x="10391" y="97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2920" bIns="52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Freeform 354"/>
          <p:cNvSpPr/>
          <p:nvPr/>
        </p:nvSpPr>
        <p:spPr>
          <a:xfrm>
            <a:off x="7031160" y="4675320"/>
            <a:ext cx="196560" cy="136440"/>
          </a:xfrm>
          <a:custGeom>
            <a:avLst/>
            <a:gdLst/>
            <a:ahLst/>
            <a:rect l="l" t="t" r="r" b="b"/>
            <a:pathLst>
              <a:path w="9980" h="10000">
                <a:moveTo>
                  <a:pt x="7338" y="0"/>
                </a:moveTo>
                <a:cubicBezTo>
                  <a:pt x="6885" y="506"/>
                  <a:pt x="6535" y="1151"/>
                  <a:pt x="5980" y="1519"/>
                </a:cubicBezTo>
                <a:cubicBezTo>
                  <a:pt x="5426" y="1887"/>
                  <a:pt x="4670" y="1978"/>
                  <a:pt x="4015" y="2207"/>
                </a:cubicBezTo>
                <a:cubicBezTo>
                  <a:pt x="2540" y="2895"/>
                  <a:pt x="2950" y="2822"/>
                  <a:pt x="2540" y="2895"/>
                </a:cubicBezTo>
                <a:cubicBezTo>
                  <a:pt x="2130" y="2968"/>
                  <a:pt x="1557" y="2645"/>
                  <a:pt x="1557" y="2645"/>
                </a:cubicBezTo>
                <a:cubicBezTo>
                  <a:pt x="1066" y="1958"/>
                  <a:pt x="1230" y="2051"/>
                  <a:pt x="1066" y="2207"/>
                </a:cubicBezTo>
                <a:cubicBezTo>
                  <a:pt x="902" y="2363"/>
                  <a:pt x="574" y="3582"/>
                  <a:pt x="574" y="3582"/>
                </a:cubicBezTo>
                <a:cubicBezTo>
                  <a:pt x="409" y="4270"/>
                  <a:pt x="174" y="5254"/>
                  <a:pt x="82" y="5646"/>
                </a:cubicBezTo>
                <a:cubicBezTo>
                  <a:pt x="-10" y="6038"/>
                  <a:pt x="-16" y="5749"/>
                  <a:pt x="22" y="5937"/>
                </a:cubicBezTo>
                <a:cubicBezTo>
                  <a:pt x="60" y="6125"/>
                  <a:pt x="42" y="6197"/>
                  <a:pt x="312" y="6773"/>
                </a:cubicBezTo>
                <a:cubicBezTo>
                  <a:pt x="583" y="7349"/>
                  <a:pt x="1094" y="8858"/>
                  <a:pt x="1644" y="9396"/>
                </a:cubicBezTo>
                <a:cubicBezTo>
                  <a:pt x="2194" y="9934"/>
                  <a:pt x="3153" y="9997"/>
                  <a:pt x="3610" y="10000"/>
                </a:cubicBezTo>
                <a:cubicBezTo>
                  <a:pt x="4068" y="10003"/>
                  <a:pt x="3989" y="9657"/>
                  <a:pt x="4389" y="9418"/>
                </a:cubicBezTo>
                <a:cubicBezTo>
                  <a:pt x="4788" y="9179"/>
                  <a:pt x="5720" y="8707"/>
                  <a:pt x="6009" y="8564"/>
                </a:cubicBezTo>
                <a:cubicBezTo>
                  <a:pt x="6298" y="8421"/>
                  <a:pt x="5883" y="8706"/>
                  <a:pt x="6124" y="8564"/>
                </a:cubicBezTo>
                <a:cubicBezTo>
                  <a:pt x="6364" y="8422"/>
                  <a:pt x="7069" y="8310"/>
                  <a:pt x="7455" y="7709"/>
                </a:cubicBezTo>
                <a:cubicBezTo>
                  <a:pt x="7841" y="7109"/>
                  <a:pt x="8111" y="5875"/>
                  <a:pt x="8438" y="4958"/>
                </a:cubicBezTo>
                <a:cubicBezTo>
                  <a:pt x="8929" y="3812"/>
                  <a:pt x="9701" y="2324"/>
                  <a:pt x="9913" y="1519"/>
                </a:cubicBezTo>
                <a:cubicBezTo>
                  <a:pt x="10125" y="713"/>
                  <a:pt x="9778" y="589"/>
                  <a:pt x="9710" y="125"/>
                </a:cubicBezTo>
                <a:lnTo>
                  <a:pt x="9128" y="332"/>
                </a:lnTo>
                <a:lnTo>
                  <a:pt x="733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Freeform 355"/>
          <p:cNvSpPr/>
          <p:nvPr/>
        </p:nvSpPr>
        <p:spPr>
          <a:xfrm>
            <a:off x="7037280" y="4619520"/>
            <a:ext cx="190440" cy="98640"/>
          </a:xfrm>
          <a:custGeom>
            <a:avLst/>
            <a:gdLst/>
            <a:ahLst/>
            <a:rect l="l" t="t" r="r" b="b"/>
            <a:pathLst>
              <a:path w="10000" h="9595">
                <a:moveTo>
                  <a:pt x="6210" y="584"/>
                </a:moveTo>
                <a:cubicBezTo>
                  <a:pt x="5554" y="325"/>
                  <a:pt x="5389" y="258"/>
                  <a:pt x="5013" y="93"/>
                </a:cubicBezTo>
                <a:cubicBezTo>
                  <a:pt x="4637" y="-72"/>
                  <a:pt x="4318" y="17"/>
                  <a:pt x="3953" y="99"/>
                </a:cubicBezTo>
                <a:lnTo>
                  <a:pt x="2823" y="584"/>
                </a:lnTo>
                <a:lnTo>
                  <a:pt x="2259" y="2806"/>
                </a:lnTo>
                <a:lnTo>
                  <a:pt x="0" y="5029"/>
                </a:lnTo>
                <a:lnTo>
                  <a:pt x="565" y="7251"/>
                </a:lnTo>
                <a:lnTo>
                  <a:pt x="979" y="8586"/>
                </a:lnTo>
                <a:lnTo>
                  <a:pt x="2018" y="9595"/>
                </a:lnTo>
                <a:lnTo>
                  <a:pt x="4432" y="8261"/>
                </a:lnTo>
                <a:lnTo>
                  <a:pt x="6240" y="7653"/>
                </a:lnTo>
                <a:lnTo>
                  <a:pt x="7130" y="5478"/>
                </a:lnTo>
                <a:lnTo>
                  <a:pt x="9214" y="5927"/>
                </a:lnTo>
                <a:lnTo>
                  <a:pt x="9803" y="4973"/>
                </a:lnTo>
                <a:cubicBezTo>
                  <a:pt x="9735" y="4622"/>
                  <a:pt x="9905" y="4270"/>
                  <a:pt x="9837" y="3918"/>
                </a:cubicBezTo>
                <a:cubicBezTo>
                  <a:pt x="9758" y="2807"/>
                  <a:pt x="10067" y="3265"/>
                  <a:pt x="9987" y="2154"/>
                </a:cubicBezTo>
                <a:cubicBezTo>
                  <a:pt x="9527" y="1653"/>
                  <a:pt x="9037" y="1714"/>
                  <a:pt x="8578" y="1214"/>
                </a:cubicBezTo>
                <a:cubicBezTo>
                  <a:pt x="8542" y="1004"/>
                  <a:pt x="8505" y="794"/>
                  <a:pt x="8469" y="584"/>
                </a:cubicBezTo>
                <a:lnTo>
                  <a:pt x="6210" y="5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Freeform 356"/>
          <p:cNvSpPr/>
          <p:nvPr/>
        </p:nvSpPr>
        <p:spPr>
          <a:xfrm>
            <a:off x="7250040" y="4876920"/>
            <a:ext cx="258840" cy="20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3636" y="522"/>
                </a:moveTo>
                <a:lnTo>
                  <a:pt x="909" y="522"/>
                </a:lnTo>
                <a:lnTo>
                  <a:pt x="0" y="0"/>
                </a:lnTo>
                <a:lnTo>
                  <a:pt x="0" y="1043"/>
                </a:lnTo>
                <a:lnTo>
                  <a:pt x="455" y="2609"/>
                </a:lnTo>
                <a:cubicBezTo>
                  <a:pt x="530" y="3171"/>
                  <a:pt x="604" y="3733"/>
                  <a:pt x="679" y="4295"/>
                </a:cubicBezTo>
                <a:cubicBezTo>
                  <a:pt x="604" y="4631"/>
                  <a:pt x="530" y="4968"/>
                  <a:pt x="455" y="5304"/>
                </a:cubicBezTo>
                <a:lnTo>
                  <a:pt x="909" y="6348"/>
                </a:lnTo>
                <a:lnTo>
                  <a:pt x="1598" y="7682"/>
                </a:lnTo>
                <a:cubicBezTo>
                  <a:pt x="2779" y="7328"/>
                  <a:pt x="2976" y="7157"/>
                  <a:pt x="4110" y="6712"/>
                </a:cubicBezTo>
                <a:lnTo>
                  <a:pt x="4448" y="7069"/>
                </a:lnTo>
                <a:lnTo>
                  <a:pt x="5010" y="7076"/>
                </a:lnTo>
                <a:cubicBezTo>
                  <a:pt x="5007" y="7181"/>
                  <a:pt x="5003" y="7286"/>
                  <a:pt x="5000" y="7391"/>
                </a:cubicBezTo>
                <a:lnTo>
                  <a:pt x="4545" y="7913"/>
                </a:lnTo>
                <a:lnTo>
                  <a:pt x="5000" y="10000"/>
                </a:lnTo>
                <a:lnTo>
                  <a:pt x="6818" y="8435"/>
                </a:lnTo>
                <a:lnTo>
                  <a:pt x="8636" y="8435"/>
                </a:lnTo>
                <a:lnTo>
                  <a:pt x="9545" y="6870"/>
                </a:lnTo>
                <a:lnTo>
                  <a:pt x="10000" y="6870"/>
                </a:lnTo>
                <a:lnTo>
                  <a:pt x="7273" y="5826"/>
                </a:lnTo>
                <a:cubicBezTo>
                  <a:pt x="7121" y="4927"/>
                  <a:pt x="6970" y="4029"/>
                  <a:pt x="6818" y="3130"/>
                </a:cubicBezTo>
                <a:lnTo>
                  <a:pt x="8636" y="1043"/>
                </a:lnTo>
                <a:lnTo>
                  <a:pt x="5909" y="0"/>
                </a:lnTo>
                <a:lnTo>
                  <a:pt x="3636" y="5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Freeform 361"/>
          <p:cNvSpPr/>
          <p:nvPr/>
        </p:nvSpPr>
        <p:spPr>
          <a:xfrm>
            <a:off x="6672240" y="4714920"/>
            <a:ext cx="162000" cy="92160"/>
          </a:xfrm>
          <a:custGeom>
            <a:avLst/>
            <a:gdLst/>
            <a:ahLst/>
            <a:rect l="l" t="t" r="r" b="b"/>
            <a:pathLst>
              <a:path w="10000" h="11466">
                <a:moveTo>
                  <a:pt x="7857" y="3477"/>
                </a:moveTo>
                <a:lnTo>
                  <a:pt x="7143" y="2227"/>
                </a:lnTo>
                <a:lnTo>
                  <a:pt x="5714" y="977"/>
                </a:lnTo>
                <a:lnTo>
                  <a:pt x="3641" y="1948"/>
                </a:lnTo>
                <a:cubicBezTo>
                  <a:pt x="3532" y="1206"/>
                  <a:pt x="3354" y="742"/>
                  <a:pt x="3245" y="0"/>
                </a:cubicBezTo>
                <a:lnTo>
                  <a:pt x="2143" y="1878"/>
                </a:lnTo>
                <a:lnTo>
                  <a:pt x="0" y="5977"/>
                </a:lnTo>
                <a:lnTo>
                  <a:pt x="0" y="8477"/>
                </a:lnTo>
                <a:lnTo>
                  <a:pt x="1429" y="8477"/>
                </a:lnTo>
                <a:lnTo>
                  <a:pt x="2108" y="11466"/>
                </a:lnTo>
                <a:lnTo>
                  <a:pt x="2857" y="10977"/>
                </a:lnTo>
                <a:lnTo>
                  <a:pt x="4436" y="9035"/>
                </a:lnTo>
                <a:lnTo>
                  <a:pt x="5256" y="10146"/>
                </a:lnTo>
                <a:lnTo>
                  <a:pt x="7857" y="8477"/>
                </a:lnTo>
                <a:lnTo>
                  <a:pt x="9286" y="7227"/>
                </a:lnTo>
                <a:lnTo>
                  <a:pt x="10000" y="7227"/>
                </a:lnTo>
                <a:lnTo>
                  <a:pt x="9286" y="5977"/>
                </a:lnTo>
                <a:lnTo>
                  <a:pt x="7857" y="34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Freeform 363"/>
          <p:cNvSpPr/>
          <p:nvPr/>
        </p:nvSpPr>
        <p:spPr>
          <a:xfrm>
            <a:off x="6589800" y="4506840"/>
            <a:ext cx="101520" cy="106560"/>
          </a:xfrm>
          <a:custGeom>
            <a:avLst/>
            <a:gdLst/>
            <a:ahLst/>
            <a:rect l="l" t="t" r="r" b="b"/>
            <a:pathLst>
              <a:path w="10056" h="10000">
                <a:moveTo>
                  <a:pt x="2389" y="4571"/>
                </a:moveTo>
                <a:lnTo>
                  <a:pt x="3355" y="6400"/>
                </a:lnTo>
                <a:lnTo>
                  <a:pt x="5288" y="7314"/>
                </a:lnTo>
                <a:lnTo>
                  <a:pt x="7050" y="8496"/>
                </a:lnTo>
                <a:lnTo>
                  <a:pt x="8865" y="10000"/>
                </a:lnTo>
                <a:cubicBezTo>
                  <a:pt x="8961" y="9105"/>
                  <a:pt x="9904" y="8423"/>
                  <a:pt x="10000" y="7528"/>
                </a:cubicBezTo>
                <a:lnTo>
                  <a:pt x="9327" y="5699"/>
                </a:lnTo>
                <a:cubicBezTo>
                  <a:pt x="9382" y="4965"/>
                  <a:pt x="10001" y="4016"/>
                  <a:pt x="10056" y="3282"/>
                </a:cubicBezTo>
                <a:lnTo>
                  <a:pt x="8639" y="2368"/>
                </a:lnTo>
                <a:lnTo>
                  <a:pt x="7220" y="1828"/>
                </a:lnTo>
                <a:lnTo>
                  <a:pt x="5288" y="914"/>
                </a:lnTo>
                <a:lnTo>
                  <a:pt x="3355" y="914"/>
                </a:lnTo>
                <a:lnTo>
                  <a:pt x="2389" y="0"/>
                </a:lnTo>
                <a:lnTo>
                  <a:pt x="457" y="914"/>
                </a:lnTo>
                <a:lnTo>
                  <a:pt x="0" y="971"/>
                </a:lnTo>
                <a:cubicBezTo>
                  <a:pt x="152" y="1866"/>
                  <a:pt x="757" y="2548"/>
                  <a:pt x="910" y="3443"/>
                </a:cubicBezTo>
                <a:lnTo>
                  <a:pt x="2389" y="45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Freeform 252"/>
          <p:cNvSpPr/>
          <p:nvPr/>
        </p:nvSpPr>
        <p:spPr>
          <a:xfrm rot="21133200">
            <a:off x="6919560" y="4757760"/>
            <a:ext cx="127080" cy="66600"/>
          </a:xfrm>
          <a:custGeom>
            <a:avLst/>
            <a:gdLst/>
            <a:ahLst/>
            <a:rect l="l" t="t" r="r" b="b"/>
            <a:pathLst>
              <a:path w="1912593" h="1229193">
                <a:moveTo>
                  <a:pt x="0" y="233280"/>
                </a:moveTo>
                <a:lnTo>
                  <a:pt x="83793" y="1154242"/>
                </a:lnTo>
                <a:lnTo>
                  <a:pt x="1103124" y="1229193"/>
                </a:lnTo>
                <a:lnTo>
                  <a:pt x="1912593" y="314793"/>
                </a:lnTo>
                <a:lnTo>
                  <a:pt x="1792672" y="0"/>
                </a:lnTo>
                <a:lnTo>
                  <a:pt x="1124055" y="252554"/>
                </a:lnTo>
                <a:cubicBezTo>
                  <a:pt x="892871" y="224853"/>
                  <a:pt x="379360" y="273001"/>
                  <a:pt x="148176" y="245300"/>
                </a:cubicBezTo>
                <a:lnTo>
                  <a:pt x="128763" y="242675"/>
                </a:lnTo>
                <a:lnTo>
                  <a:pt x="0" y="23328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Freeform 253"/>
          <p:cNvSpPr/>
          <p:nvPr/>
        </p:nvSpPr>
        <p:spPr>
          <a:xfrm>
            <a:off x="6926400" y="4770360"/>
            <a:ext cx="203040" cy="212760"/>
          </a:xfrm>
          <a:custGeom>
            <a:avLst/>
            <a:gdLst/>
            <a:ahLst/>
            <a:rect l="l" t="t" r="r" b="b"/>
            <a:pathLst>
              <a:path w="3644175" h="3780713">
                <a:moveTo>
                  <a:pt x="2018109" y="0"/>
                </a:moveTo>
                <a:lnTo>
                  <a:pt x="1131347" y="970851"/>
                </a:lnTo>
                <a:lnTo>
                  <a:pt x="106496" y="992543"/>
                </a:lnTo>
                <a:lnTo>
                  <a:pt x="0" y="1285960"/>
                </a:lnTo>
                <a:lnTo>
                  <a:pt x="250657" y="1838746"/>
                </a:lnTo>
                <a:lnTo>
                  <a:pt x="476240" y="1522355"/>
                </a:lnTo>
                <a:lnTo>
                  <a:pt x="637449" y="1360281"/>
                </a:lnTo>
                <a:lnTo>
                  <a:pt x="900975" y="1622129"/>
                </a:lnTo>
                <a:lnTo>
                  <a:pt x="1125827" y="2401618"/>
                </a:lnTo>
                <a:lnTo>
                  <a:pt x="1614428" y="2951232"/>
                </a:lnTo>
                <a:cubicBezTo>
                  <a:pt x="2156362" y="3074631"/>
                  <a:pt x="2677783" y="3504219"/>
                  <a:pt x="3209460" y="3780713"/>
                </a:cubicBezTo>
                <a:lnTo>
                  <a:pt x="1455611" y="1667100"/>
                </a:lnTo>
                <a:lnTo>
                  <a:pt x="1543203" y="1366330"/>
                </a:lnTo>
                <a:lnTo>
                  <a:pt x="1755414" y="1517198"/>
                </a:lnTo>
                <a:lnTo>
                  <a:pt x="3644175" y="1622129"/>
                </a:lnTo>
                <a:lnTo>
                  <a:pt x="3394079" y="610450"/>
                </a:lnTo>
                <a:lnTo>
                  <a:pt x="3170007" y="750786"/>
                </a:lnTo>
                <a:lnTo>
                  <a:pt x="2480463" y="641709"/>
                </a:lnTo>
                <a:lnTo>
                  <a:pt x="2078068" y="137463"/>
                </a:lnTo>
                <a:lnTo>
                  <a:pt x="201810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Freeform 254"/>
          <p:cNvSpPr/>
          <p:nvPr/>
        </p:nvSpPr>
        <p:spPr>
          <a:xfrm>
            <a:off x="7010280" y="4844880"/>
            <a:ext cx="139680" cy="140040"/>
          </a:xfrm>
          <a:custGeom>
            <a:avLst/>
            <a:gdLst/>
            <a:ahLst/>
            <a:rect l="l" t="t" r="r" b="b"/>
            <a:pathLst>
              <a:path w="2398426" h="2488994">
                <a:moveTo>
                  <a:pt x="2113613" y="269822"/>
                </a:moveTo>
                <a:lnTo>
                  <a:pt x="254833" y="149901"/>
                </a:lnTo>
                <a:lnTo>
                  <a:pt x="74951" y="0"/>
                </a:lnTo>
                <a:lnTo>
                  <a:pt x="0" y="329783"/>
                </a:lnTo>
                <a:lnTo>
                  <a:pt x="1691048" y="2488994"/>
                </a:lnTo>
                <a:lnTo>
                  <a:pt x="2177788" y="1556144"/>
                </a:lnTo>
                <a:lnTo>
                  <a:pt x="2398426" y="1439055"/>
                </a:lnTo>
                <a:lnTo>
                  <a:pt x="2113613" y="2698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Freeform 255"/>
          <p:cNvSpPr/>
          <p:nvPr/>
        </p:nvSpPr>
        <p:spPr>
          <a:xfrm rot="286200">
            <a:off x="7112160" y="4930560"/>
            <a:ext cx="63360" cy="83880"/>
          </a:xfrm>
          <a:custGeom>
            <a:avLst/>
            <a:gdLst/>
            <a:ahLst/>
            <a:rect l="l" t="t" r="r" b="b"/>
            <a:pathLst>
              <a:path w="1259245" h="1506961">
                <a:moveTo>
                  <a:pt x="459998" y="0"/>
                </a:moveTo>
                <a:lnTo>
                  <a:pt x="0" y="967315"/>
                </a:lnTo>
                <a:lnTo>
                  <a:pt x="599606" y="1506961"/>
                </a:lnTo>
                <a:lnTo>
                  <a:pt x="1259243" y="571259"/>
                </a:lnTo>
                <a:lnTo>
                  <a:pt x="45999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9080" bIns="19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Freeform 256"/>
          <p:cNvSpPr/>
          <p:nvPr/>
        </p:nvSpPr>
        <p:spPr>
          <a:xfrm>
            <a:off x="7113600" y="4786200"/>
            <a:ext cx="101520" cy="81000"/>
          </a:xfrm>
          <a:custGeom>
            <a:avLst/>
            <a:gdLst/>
            <a:ahLst/>
            <a:rect l="l" t="t" r="r" b="b"/>
            <a:pathLst>
              <a:path w="1678899" h="1259174">
                <a:moveTo>
                  <a:pt x="209862" y="1154242"/>
                </a:moveTo>
                <a:lnTo>
                  <a:pt x="1678899" y="1259174"/>
                </a:lnTo>
                <a:lnTo>
                  <a:pt x="1663908" y="899410"/>
                </a:lnTo>
                <a:lnTo>
                  <a:pt x="854439" y="0"/>
                </a:lnTo>
                <a:lnTo>
                  <a:pt x="0" y="269823"/>
                </a:lnTo>
                <a:lnTo>
                  <a:pt x="209862" y="11542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Freeform 257"/>
          <p:cNvSpPr/>
          <p:nvPr/>
        </p:nvSpPr>
        <p:spPr>
          <a:xfrm>
            <a:off x="7132680" y="4861080"/>
            <a:ext cx="141120" cy="137880"/>
          </a:xfrm>
          <a:custGeom>
            <a:avLst/>
            <a:gdLst/>
            <a:ahLst/>
            <a:rect l="l" t="t" r="r" b="b"/>
            <a:pathLst>
              <a:path w="2578308" h="2368446">
                <a:moveTo>
                  <a:pt x="0" y="0"/>
                </a:moveTo>
                <a:lnTo>
                  <a:pt x="254833" y="1154242"/>
                </a:lnTo>
                <a:lnTo>
                  <a:pt x="104931" y="1259173"/>
                </a:lnTo>
                <a:lnTo>
                  <a:pt x="855821" y="1873287"/>
                </a:lnTo>
                <a:lnTo>
                  <a:pt x="1111621" y="1524299"/>
                </a:lnTo>
                <a:lnTo>
                  <a:pt x="1734645" y="2033965"/>
                </a:lnTo>
                <a:lnTo>
                  <a:pt x="1633928" y="2368446"/>
                </a:lnTo>
                <a:lnTo>
                  <a:pt x="2338465" y="2263514"/>
                </a:lnTo>
                <a:lnTo>
                  <a:pt x="2578308" y="1514006"/>
                </a:lnTo>
                <a:lnTo>
                  <a:pt x="2113613" y="224852"/>
                </a:lnTo>
                <a:lnTo>
                  <a:pt x="1439056" y="149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2" name="Freeform 258"/>
          <p:cNvSpPr/>
          <p:nvPr/>
        </p:nvSpPr>
        <p:spPr>
          <a:xfrm>
            <a:off x="7170840" y="4946760"/>
            <a:ext cx="56880" cy="69840"/>
          </a:xfrm>
          <a:custGeom>
            <a:avLst/>
            <a:gdLst/>
            <a:ahLst/>
            <a:rect l="l" t="t" r="r" b="b"/>
            <a:pathLst>
              <a:path w="1097536" h="1184223">
                <a:moveTo>
                  <a:pt x="482939" y="0"/>
                </a:moveTo>
                <a:lnTo>
                  <a:pt x="0" y="416160"/>
                </a:lnTo>
                <a:lnTo>
                  <a:pt x="452959" y="1184223"/>
                </a:lnTo>
                <a:lnTo>
                  <a:pt x="1067555" y="824459"/>
                </a:lnTo>
                <a:lnTo>
                  <a:pt x="1097536" y="509666"/>
                </a:lnTo>
                <a:lnTo>
                  <a:pt x="48293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Freeform 259"/>
          <p:cNvSpPr/>
          <p:nvPr/>
        </p:nvSpPr>
        <p:spPr>
          <a:xfrm>
            <a:off x="7196040" y="4984920"/>
            <a:ext cx="92160" cy="85680"/>
          </a:xfrm>
          <a:custGeom>
            <a:avLst/>
            <a:gdLst/>
            <a:ahLst/>
            <a:rect l="l" t="t" r="r" b="b"/>
            <a:pathLst>
              <a:path w="1852882" h="1521018">
                <a:moveTo>
                  <a:pt x="0" y="507061"/>
                </a:moveTo>
                <a:lnTo>
                  <a:pt x="0" y="1211599"/>
                </a:lnTo>
                <a:lnTo>
                  <a:pt x="435424" y="1521018"/>
                </a:lnTo>
                <a:lnTo>
                  <a:pt x="839449" y="1391481"/>
                </a:lnTo>
                <a:lnTo>
                  <a:pt x="1763339" y="952692"/>
                </a:lnTo>
                <a:lnTo>
                  <a:pt x="1852882" y="743963"/>
                </a:lnTo>
                <a:lnTo>
                  <a:pt x="1756379" y="372784"/>
                </a:lnTo>
                <a:lnTo>
                  <a:pt x="1563372" y="307281"/>
                </a:lnTo>
                <a:lnTo>
                  <a:pt x="1370668" y="0"/>
                </a:lnTo>
                <a:lnTo>
                  <a:pt x="644577" y="177278"/>
                </a:lnTo>
                <a:lnTo>
                  <a:pt x="0" y="5070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Freeform 260"/>
          <p:cNvSpPr/>
          <p:nvPr/>
        </p:nvSpPr>
        <p:spPr>
          <a:xfrm>
            <a:off x="7139160" y="4971960"/>
            <a:ext cx="75960" cy="155520"/>
          </a:xfrm>
          <a:custGeom>
            <a:avLst/>
            <a:gdLst/>
            <a:ahLst/>
            <a:rect l="l" t="t" r="r" b="b"/>
            <a:pathLst>
              <a:path w="444747" h="900169">
                <a:moveTo>
                  <a:pt x="0" y="238385"/>
                </a:moveTo>
                <a:lnTo>
                  <a:pt x="99623" y="298870"/>
                </a:lnTo>
                <a:lnTo>
                  <a:pt x="99623" y="715154"/>
                </a:lnTo>
                <a:lnTo>
                  <a:pt x="263290" y="900169"/>
                </a:lnTo>
                <a:lnTo>
                  <a:pt x="327333" y="836125"/>
                </a:lnTo>
                <a:lnTo>
                  <a:pt x="384261" y="683132"/>
                </a:lnTo>
                <a:lnTo>
                  <a:pt x="362913" y="608414"/>
                </a:lnTo>
                <a:lnTo>
                  <a:pt x="444747" y="576393"/>
                </a:lnTo>
                <a:lnTo>
                  <a:pt x="327333" y="476769"/>
                </a:lnTo>
                <a:lnTo>
                  <a:pt x="327333" y="266849"/>
                </a:lnTo>
                <a:lnTo>
                  <a:pt x="185014" y="0"/>
                </a:lnTo>
                <a:lnTo>
                  <a:pt x="0" y="23838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11476080" y="474840"/>
            <a:ext cx="1011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2A42-1A2E-4DB9-A056-32025F1921D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71080" y="490680"/>
            <a:ext cx="110538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900" spc="-1" strike="noStrike">
                <a:solidFill>
                  <a:srgbClr val="000000"/>
                </a:solidFill>
                <a:latin typeface="Arial"/>
              </a:rPr>
              <a:t>World Map </a:t>
            </a:r>
            <a:br>
              <a:rPr sz="3800"/>
            </a:br>
            <a:endParaRPr b="0" lang="en-US" sz="79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Freeform 257"/>
          <p:cNvSpPr/>
          <p:nvPr/>
        </p:nvSpPr>
        <p:spPr>
          <a:xfrm>
            <a:off x="6048360" y="4281480"/>
            <a:ext cx="155520" cy="231840"/>
          </a:xfrm>
          <a:custGeom>
            <a:avLst/>
            <a:gdLst/>
            <a:ahLst/>
            <a:rect l="l" t="t" r="r" b="b"/>
            <a:pathLst>
              <a:path w="84" h="126">
                <a:moveTo>
                  <a:pt x="18" y="126"/>
                </a:moveTo>
                <a:lnTo>
                  <a:pt x="0" y="114"/>
                </a:lnTo>
                <a:lnTo>
                  <a:pt x="0" y="102"/>
                </a:lnTo>
                <a:lnTo>
                  <a:pt x="6" y="96"/>
                </a:lnTo>
                <a:lnTo>
                  <a:pt x="12" y="84"/>
                </a:lnTo>
                <a:lnTo>
                  <a:pt x="12" y="66"/>
                </a:lnTo>
                <a:lnTo>
                  <a:pt x="6" y="60"/>
                </a:lnTo>
                <a:lnTo>
                  <a:pt x="12" y="54"/>
                </a:lnTo>
                <a:lnTo>
                  <a:pt x="6" y="36"/>
                </a:lnTo>
                <a:lnTo>
                  <a:pt x="30" y="30"/>
                </a:lnTo>
                <a:lnTo>
                  <a:pt x="30" y="18"/>
                </a:lnTo>
                <a:lnTo>
                  <a:pt x="54" y="0"/>
                </a:lnTo>
                <a:lnTo>
                  <a:pt x="60" y="6"/>
                </a:lnTo>
                <a:lnTo>
                  <a:pt x="72" y="6"/>
                </a:lnTo>
                <a:lnTo>
                  <a:pt x="78" y="18"/>
                </a:lnTo>
                <a:lnTo>
                  <a:pt x="84" y="30"/>
                </a:lnTo>
                <a:lnTo>
                  <a:pt x="72" y="42"/>
                </a:lnTo>
                <a:lnTo>
                  <a:pt x="78" y="66"/>
                </a:lnTo>
                <a:lnTo>
                  <a:pt x="72" y="96"/>
                </a:lnTo>
                <a:lnTo>
                  <a:pt x="54" y="102"/>
                </a:lnTo>
                <a:lnTo>
                  <a:pt x="18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Freeform 258"/>
          <p:cNvSpPr/>
          <p:nvPr/>
        </p:nvSpPr>
        <p:spPr>
          <a:xfrm>
            <a:off x="8292960" y="2381400"/>
            <a:ext cx="621000" cy="793440"/>
          </a:xfrm>
          <a:custGeom>
            <a:avLst/>
            <a:gdLst/>
            <a:ahLst/>
            <a:rect l="l" t="t" r="r" b="b"/>
            <a:pathLst>
              <a:path w="336" h="427">
                <a:moveTo>
                  <a:pt x="120" y="427"/>
                </a:moveTo>
                <a:lnTo>
                  <a:pt x="96" y="397"/>
                </a:lnTo>
                <a:lnTo>
                  <a:pt x="78" y="325"/>
                </a:lnTo>
                <a:lnTo>
                  <a:pt x="96" y="282"/>
                </a:lnTo>
                <a:lnTo>
                  <a:pt x="144" y="180"/>
                </a:lnTo>
                <a:lnTo>
                  <a:pt x="192" y="150"/>
                </a:lnTo>
                <a:lnTo>
                  <a:pt x="222" y="114"/>
                </a:lnTo>
                <a:lnTo>
                  <a:pt x="252" y="96"/>
                </a:lnTo>
                <a:lnTo>
                  <a:pt x="294" y="72"/>
                </a:lnTo>
                <a:lnTo>
                  <a:pt x="336" y="30"/>
                </a:lnTo>
                <a:lnTo>
                  <a:pt x="330" y="6"/>
                </a:lnTo>
                <a:lnTo>
                  <a:pt x="294" y="0"/>
                </a:lnTo>
                <a:lnTo>
                  <a:pt x="270" y="24"/>
                </a:lnTo>
                <a:lnTo>
                  <a:pt x="252" y="42"/>
                </a:lnTo>
                <a:lnTo>
                  <a:pt x="222" y="48"/>
                </a:lnTo>
                <a:lnTo>
                  <a:pt x="186" y="48"/>
                </a:lnTo>
                <a:lnTo>
                  <a:pt x="174" y="60"/>
                </a:lnTo>
                <a:lnTo>
                  <a:pt x="162" y="78"/>
                </a:lnTo>
                <a:lnTo>
                  <a:pt x="114" y="126"/>
                </a:lnTo>
                <a:lnTo>
                  <a:pt x="90" y="138"/>
                </a:lnTo>
                <a:lnTo>
                  <a:pt x="84" y="168"/>
                </a:lnTo>
                <a:lnTo>
                  <a:pt x="66" y="186"/>
                </a:lnTo>
                <a:lnTo>
                  <a:pt x="42" y="216"/>
                </a:lnTo>
                <a:lnTo>
                  <a:pt x="42" y="240"/>
                </a:lnTo>
                <a:lnTo>
                  <a:pt x="30" y="270"/>
                </a:lnTo>
                <a:lnTo>
                  <a:pt x="12" y="295"/>
                </a:lnTo>
                <a:lnTo>
                  <a:pt x="18" y="325"/>
                </a:lnTo>
                <a:lnTo>
                  <a:pt x="0" y="349"/>
                </a:lnTo>
                <a:lnTo>
                  <a:pt x="18" y="391"/>
                </a:lnTo>
                <a:lnTo>
                  <a:pt x="48" y="403"/>
                </a:lnTo>
                <a:lnTo>
                  <a:pt x="54" y="415"/>
                </a:lnTo>
                <a:lnTo>
                  <a:pt x="72" y="421"/>
                </a:lnTo>
                <a:lnTo>
                  <a:pt x="120" y="4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Freeform 259"/>
          <p:cNvSpPr/>
          <p:nvPr/>
        </p:nvSpPr>
        <p:spPr>
          <a:xfrm>
            <a:off x="7924680" y="7043760"/>
            <a:ext cx="236520" cy="492120"/>
          </a:xfrm>
          <a:custGeom>
            <a:avLst/>
            <a:gdLst/>
            <a:ahLst/>
            <a:rect l="l" t="t" r="r" b="b"/>
            <a:pathLst>
              <a:path w="126" h="265">
                <a:moveTo>
                  <a:pt x="6" y="217"/>
                </a:moveTo>
                <a:lnTo>
                  <a:pt x="0" y="193"/>
                </a:lnTo>
                <a:lnTo>
                  <a:pt x="12" y="169"/>
                </a:lnTo>
                <a:lnTo>
                  <a:pt x="24" y="139"/>
                </a:lnTo>
                <a:lnTo>
                  <a:pt x="12" y="91"/>
                </a:lnTo>
                <a:lnTo>
                  <a:pt x="30" y="78"/>
                </a:lnTo>
                <a:lnTo>
                  <a:pt x="54" y="60"/>
                </a:lnTo>
                <a:lnTo>
                  <a:pt x="78" y="24"/>
                </a:lnTo>
                <a:lnTo>
                  <a:pt x="108" y="0"/>
                </a:lnTo>
                <a:lnTo>
                  <a:pt x="126" y="24"/>
                </a:lnTo>
                <a:lnTo>
                  <a:pt x="126" y="66"/>
                </a:lnTo>
                <a:lnTo>
                  <a:pt x="126" y="91"/>
                </a:lnTo>
                <a:lnTo>
                  <a:pt x="78" y="253"/>
                </a:lnTo>
                <a:lnTo>
                  <a:pt x="54" y="259"/>
                </a:lnTo>
                <a:lnTo>
                  <a:pt x="30" y="265"/>
                </a:lnTo>
                <a:lnTo>
                  <a:pt x="6" y="247"/>
                </a:lnTo>
                <a:lnTo>
                  <a:pt x="6" y="21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Freeform 266"/>
          <p:cNvSpPr/>
          <p:nvPr/>
        </p:nvSpPr>
        <p:spPr>
          <a:xfrm>
            <a:off x="12303000" y="8177040"/>
            <a:ext cx="254160" cy="292320"/>
          </a:xfrm>
          <a:custGeom>
            <a:avLst/>
            <a:gdLst/>
            <a:ahLst/>
            <a:rect l="l" t="t" r="r" b="b"/>
            <a:pathLst>
              <a:path w="138" h="157">
                <a:moveTo>
                  <a:pt x="0" y="133"/>
                </a:moveTo>
                <a:lnTo>
                  <a:pt x="18" y="97"/>
                </a:lnTo>
                <a:lnTo>
                  <a:pt x="30" y="79"/>
                </a:lnTo>
                <a:lnTo>
                  <a:pt x="66" y="60"/>
                </a:lnTo>
                <a:lnTo>
                  <a:pt x="78" y="54"/>
                </a:lnTo>
                <a:lnTo>
                  <a:pt x="90" y="30"/>
                </a:lnTo>
                <a:lnTo>
                  <a:pt x="102" y="0"/>
                </a:lnTo>
                <a:lnTo>
                  <a:pt x="114" y="12"/>
                </a:lnTo>
                <a:lnTo>
                  <a:pt x="138" y="18"/>
                </a:lnTo>
                <a:lnTo>
                  <a:pt x="138" y="36"/>
                </a:lnTo>
                <a:lnTo>
                  <a:pt x="114" y="54"/>
                </a:lnTo>
                <a:lnTo>
                  <a:pt x="102" y="67"/>
                </a:lnTo>
                <a:lnTo>
                  <a:pt x="78" y="91"/>
                </a:lnTo>
                <a:lnTo>
                  <a:pt x="72" y="115"/>
                </a:lnTo>
                <a:lnTo>
                  <a:pt x="66" y="151"/>
                </a:lnTo>
                <a:lnTo>
                  <a:pt x="36" y="157"/>
                </a:lnTo>
                <a:lnTo>
                  <a:pt x="18" y="151"/>
                </a:lnTo>
                <a:lnTo>
                  <a:pt x="0" y="133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Freeform 267"/>
          <p:cNvSpPr/>
          <p:nvPr/>
        </p:nvSpPr>
        <p:spPr>
          <a:xfrm>
            <a:off x="12523680" y="7915320"/>
            <a:ext cx="177840" cy="287280"/>
          </a:xfrm>
          <a:custGeom>
            <a:avLst/>
            <a:gdLst/>
            <a:ahLst/>
            <a:rect l="l" t="t" r="r" b="b"/>
            <a:pathLst>
              <a:path w="96" h="156">
                <a:moveTo>
                  <a:pt x="6" y="108"/>
                </a:moveTo>
                <a:lnTo>
                  <a:pt x="24" y="78"/>
                </a:lnTo>
                <a:lnTo>
                  <a:pt x="24" y="54"/>
                </a:lnTo>
                <a:lnTo>
                  <a:pt x="0" y="0"/>
                </a:lnTo>
                <a:lnTo>
                  <a:pt x="30" y="12"/>
                </a:lnTo>
                <a:lnTo>
                  <a:pt x="30" y="42"/>
                </a:lnTo>
                <a:lnTo>
                  <a:pt x="42" y="60"/>
                </a:lnTo>
                <a:lnTo>
                  <a:pt x="60" y="78"/>
                </a:lnTo>
                <a:lnTo>
                  <a:pt x="84" y="66"/>
                </a:lnTo>
                <a:lnTo>
                  <a:pt x="96" y="78"/>
                </a:lnTo>
                <a:lnTo>
                  <a:pt x="90" y="90"/>
                </a:lnTo>
                <a:lnTo>
                  <a:pt x="78" y="102"/>
                </a:lnTo>
                <a:lnTo>
                  <a:pt x="66" y="114"/>
                </a:lnTo>
                <a:lnTo>
                  <a:pt x="60" y="132"/>
                </a:lnTo>
                <a:lnTo>
                  <a:pt x="42" y="156"/>
                </a:lnTo>
                <a:lnTo>
                  <a:pt x="24" y="144"/>
                </a:lnTo>
                <a:lnTo>
                  <a:pt x="30" y="126"/>
                </a:lnTo>
                <a:lnTo>
                  <a:pt x="6" y="10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Freeform 268"/>
          <p:cNvSpPr/>
          <p:nvPr/>
        </p:nvSpPr>
        <p:spPr>
          <a:xfrm>
            <a:off x="10415520" y="7024680"/>
            <a:ext cx="1406520" cy="1066680"/>
          </a:xfrm>
          <a:custGeom>
            <a:avLst/>
            <a:gdLst/>
            <a:ahLst/>
            <a:rect l="l" t="t" r="r" b="b"/>
            <a:pathLst>
              <a:path w="757" h="577">
                <a:moveTo>
                  <a:pt x="30" y="463"/>
                </a:moveTo>
                <a:lnTo>
                  <a:pt x="36" y="415"/>
                </a:lnTo>
                <a:lnTo>
                  <a:pt x="30" y="385"/>
                </a:lnTo>
                <a:lnTo>
                  <a:pt x="6" y="307"/>
                </a:lnTo>
                <a:lnTo>
                  <a:pt x="6" y="283"/>
                </a:lnTo>
                <a:lnTo>
                  <a:pt x="0" y="247"/>
                </a:lnTo>
                <a:lnTo>
                  <a:pt x="6" y="217"/>
                </a:lnTo>
                <a:lnTo>
                  <a:pt x="30" y="193"/>
                </a:lnTo>
                <a:lnTo>
                  <a:pt x="78" y="175"/>
                </a:lnTo>
                <a:lnTo>
                  <a:pt x="114" y="151"/>
                </a:lnTo>
                <a:lnTo>
                  <a:pt x="144" y="145"/>
                </a:lnTo>
                <a:lnTo>
                  <a:pt x="156" y="109"/>
                </a:lnTo>
                <a:lnTo>
                  <a:pt x="180" y="97"/>
                </a:lnTo>
                <a:lnTo>
                  <a:pt x="204" y="90"/>
                </a:lnTo>
                <a:lnTo>
                  <a:pt x="240" y="60"/>
                </a:lnTo>
                <a:lnTo>
                  <a:pt x="264" y="48"/>
                </a:lnTo>
                <a:lnTo>
                  <a:pt x="282" y="60"/>
                </a:lnTo>
                <a:lnTo>
                  <a:pt x="300" y="66"/>
                </a:lnTo>
                <a:lnTo>
                  <a:pt x="312" y="42"/>
                </a:lnTo>
                <a:lnTo>
                  <a:pt x="330" y="24"/>
                </a:lnTo>
                <a:lnTo>
                  <a:pt x="360" y="18"/>
                </a:lnTo>
                <a:lnTo>
                  <a:pt x="372" y="0"/>
                </a:lnTo>
                <a:lnTo>
                  <a:pt x="396" y="6"/>
                </a:lnTo>
                <a:lnTo>
                  <a:pt x="438" y="12"/>
                </a:lnTo>
                <a:lnTo>
                  <a:pt x="432" y="36"/>
                </a:lnTo>
                <a:lnTo>
                  <a:pt x="420" y="66"/>
                </a:lnTo>
                <a:lnTo>
                  <a:pt x="438" y="78"/>
                </a:lnTo>
                <a:lnTo>
                  <a:pt x="468" y="78"/>
                </a:lnTo>
                <a:lnTo>
                  <a:pt x="492" y="115"/>
                </a:lnTo>
                <a:lnTo>
                  <a:pt x="510" y="109"/>
                </a:lnTo>
                <a:lnTo>
                  <a:pt x="540" y="90"/>
                </a:lnTo>
                <a:lnTo>
                  <a:pt x="540" y="30"/>
                </a:lnTo>
                <a:lnTo>
                  <a:pt x="564" y="0"/>
                </a:lnTo>
                <a:lnTo>
                  <a:pt x="576" y="42"/>
                </a:lnTo>
                <a:lnTo>
                  <a:pt x="582" y="54"/>
                </a:lnTo>
                <a:lnTo>
                  <a:pt x="594" y="60"/>
                </a:lnTo>
                <a:lnTo>
                  <a:pt x="612" y="121"/>
                </a:lnTo>
                <a:lnTo>
                  <a:pt x="642" y="151"/>
                </a:lnTo>
                <a:lnTo>
                  <a:pt x="678" y="163"/>
                </a:lnTo>
                <a:lnTo>
                  <a:pt x="690" y="199"/>
                </a:lnTo>
                <a:lnTo>
                  <a:pt x="708" y="211"/>
                </a:lnTo>
                <a:lnTo>
                  <a:pt x="714" y="241"/>
                </a:lnTo>
                <a:lnTo>
                  <a:pt x="751" y="265"/>
                </a:lnTo>
                <a:lnTo>
                  <a:pt x="751" y="289"/>
                </a:lnTo>
                <a:lnTo>
                  <a:pt x="757" y="325"/>
                </a:lnTo>
                <a:lnTo>
                  <a:pt x="757" y="379"/>
                </a:lnTo>
                <a:lnTo>
                  <a:pt x="714" y="469"/>
                </a:lnTo>
                <a:lnTo>
                  <a:pt x="696" y="523"/>
                </a:lnTo>
                <a:lnTo>
                  <a:pt x="696" y="547"/>
                </a:lnTo>
                <a:lnTo>
                  <a:pt x="684" y="547"/>
                </a:lnTo>
                <a:lnTo>
                  <a:pt x="660" y="559"/>
                </a:lnTo>
                <a:lnTo>
                  <a:pt x="636" y="577"/>
                </a:lnTo>
                <a:lnTo>
                  <a:pt x="618" y="577"/>
                </a:lnTo>
                <a:lnTo>
                  <a:pt x="594" y="559"/>
                </a:lnTo>
                <a:lnTo>
                  <a:pt x="576" y="571"/>
                </a:lnTo>
                <a:lnTo>
                  <a:pt x="534" y="553"/>
                </a:lnTo>
                <a:lnTo>
                  <a:pt x="498" y="535"/>
                </a:lnTo>
                <a:lnTo>
                  <a:pt x="480" y="505"/>
                </a:lnTo>
                <a:lnTo>
                  <a:pt x="468" y="481"/>
                </a:lnTo>
                <a:lnTo>
                  <a:pt x="444" y="487"/>
                </a:lnTo>
                <a:lnTo>
                  <a:pt x="420" y="463"/>
                </a:lnTo>
                <a:lnTo>
                  <a:pt x="378" y="421"/>
                </a:lnTo>
                <a:lnTo>
                  <a:pt x="312" y="409"/>
                </a:lnTo>
                <a:lnTo>
                  <a:pt x="264" y="415"/>
                </a:lnTo>
                <a:lnTo>
                  <a:pt x="204" y="433"/>
                </a:lnTo>
                <a:lnTo>
                  <a:pt x="198" y="451"/>
                </a:lnTo>
                <a:lnTo>
                  <a:pt x="162" y="457"/>
                </a:lnTo>
                <a:lnTo>
                  <a:pt x="138" y="457"/>
                </a:lnTo>
                <a:lnTo>
                  <a:pt x="120" y="475"/>
                </a:lnTo>
                <a:lnTo>
                  <a:pt x="84" y="487"/>
                </a:lnTo>
                <a:lnTo>
                  <a:pt x="60" y="487"/>
                </a:lnTo>
                <a:lnTo>
                  <a:pt x="30" y="46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Freeform 269"/>
          <p:cNvSpPr/>
          <p:nvPr/>
        </p:nvSpPr>
        <p:spPr>
          <a:xfrm>
            <a:off x="11518920" y="8155080"/>
            <a:ext cx="123840" cy="169920"/>
          </a:xfrm>
          <a:custGeom>
            <a:avLst/>
            <a:gdLst/>
            <a:ahLst/>
            <a:rect l="l" t="t" r="r" b="b"/>
            <a:pathLst>
              <a:path w="66" h="91">
                <a:moveTo>
                  <a:pt x="0" y="18"/>
                </a:moveTo>
                <a:lnTo>
                  <a:pt x="12" y="48"/>
                </a:lnTo>
                <a:lnTo>
                  <a:pt x="18" y="72"/>
                </a:lnTo>
                <a:lnTo>
                  <a:pt x="36" y="91"/>
                </a:lnTo>
                <a:lnTo>
                  <a:pt x="48" y="66"/>
                </a:lnTo>
                <a:lnTo>
                  <a:pt x="66" y="30"/>
                </a:lnTo>
                <a:lnTo>
                  <a:pt x="66" y="0"/>
                </a:lnTo>
                <a:lnTo>
                  <a:pt x="42" y="12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Freeform 271"/>
          <p:cNvSpPr/>
          <p:nvPr/>
        </p:nvSpPr>
        <p:spPr>
          <a:xfrm>
            <a:off x="10325160" y="6380280"/>
            <a:ext cx="322200" cy="377640"/>
          </a:xfrm>
          <a:custGeom>
            <a:avLst/>
            <a:gdLst/>
            <a:ahLst/>
            <a:rect l="l" t="t" r="r" b="b"/>
            <a:pathLst>
              <a:path w="174" h="204">
                <a:moveTo>
                  <a:pt x="12" y="168"/>
                </a:moveTo>
                <a:lnTo>
                  <a:pt x="0" y="144"/>
                </a:lnTo>
                <a:lnTo>
                  <a:pt x="0" y="108"/>
                </a:lnTo>
                <a:lnTo>
                  <a:pt x="12" y="90"/>
                </a:lnTo>
                <a:lnTo>
                  <a:pt x="36" y="84"/>
                </a:lnTo>
                <a:lnTo>
                  <a:pt x="60" y="66"/>
                </a:lnTo>
                <a:lnTo>
                  <a:pt x="96" y="24"/>
                </a:lnTo>
                <a:lnTo>
                  <a:pt x="138" y="0"/>
                </a:lnTo>
                <a:lnTo>
                  <a:pt x="162" y="12"/>
                </a:lnTo>
                <a:lnTo>
                  <a:pt x="174" y="30"/>
                </a:lnTo>
                <a:lnTo>
                  <a:pt x="156" y="48"/>
                </a:lnTo>
                <a:lnTo>
                  <a:pt x="150" y="66"/>
                </a:lnTo>
                <a:lnTo>
                  <a:pt x="156" y="90"/>
                </a:lnTo>
                <a:lnTo>
                  <a:pt x="174" y="108"/>
                </a:lnTo>
                <a:lnTo>
                  <a:pt x="156" y="120"/>
                </a:lnTo>
                <a:lnTo>
                  <a:pt x="150" y="132"/>
                </a:lnTo>
                <a:lnTo>
                  <a:pt x="138" y="150"/>
                </a:lnTo>
                <a:lnTo>
                  <a:pt x="126" y="168"/>
                </a:lnTo>
                <a:lnTo>
                  <a:pt x="114" y="198"/>
                </a:lnTo>
                <a:lnTo>
                  <a:pt x="90" y="204"/>
                </a:lnTo>
                <a:lnTo>
                  <a:pt x="72" y="192"/>
                </a:lnTo>
                <a:lnTo>
                  <a:pt x="42" y="192"/>
                </a:lnTo>
                <a:lnTo>
                  <a:pt x="24" y="192"/>
                </a:lnTo>
                <a:lnTo>
                  <a:pt x="12" y="16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Freeform 274"/>
          <p:cNvSpPr/>
          <p:nvPr/>
        </p:nvSpPr>
        <p:spPr>
          <a:xfrm>
            <a:off x="10604520" y="6567480"/>
            <a:ext cx="201600" cy="246240"/>
          </a:xfrm>
          <a:custGeom>
            <a:avLst/>
            <a:gdLst/>
            <a:ahLst/>
            <a:rect l="l" t="t" r="r" b="b"/>
            <a:pathLst>
              <a:path w="108" h="132">
                <a:moveTo>
                  <a:pt x="12" y="126"/>
                </a:moveTo>
                <a:lnTo>
                  <a:pt x="12" y="108"/>
                </a:lnTo>
                <a:lnTo>
                  <a:pt x="0" y="84"/>
                </a:lnTo>
                <a:lnTo>
                  <a:pt x="6" y="66"/>
                </a:lnTo>
                <a:lnTo>
                  <a:pt x="24" y="24"/>
                </a:lnTo>
                <a:lnTo>
                  <a:pt x="36" y="12"/>
                </a:lnTo>
                <a:lnTo>
                  <a:pt x="66" y="6"/>
                </a:lnTo>
                <a:lnTo>
                  <a:pt x="108" y="0"/>
                </a:lnTo>
                <a:lnTo>
                  <a:pt x="108" y="12"/>
                </a:lnTo>
                <a:lnTo>
                  <a:pt x="90" y="12"/>
                </a:lnTo>
                <a:lnTo>
                  <a:pt x="54" y="24"/>
                </a:lnTo>
                <a:lnTo>
                  <a:pt x="42" y="42"/>
                </a:lnTo>
                <a:lnTo>
                  <a:pt x="84" y="42"/>
                </a:lnTo>
                <a:lnTo>
                  <a:pt x="90" y="60"/>
                </a:lnTo>
                <a:lnTo>
                  <a:pt x="78" y="66"/>
                </a:lnTo>
                <a:lnTo>
                  <a:pt x="66" y="78"/>
                </a:lnTo>
                <a:lnTo>
                  <a:pt x="90" y="102"/>
                </a:lnTo>
                <a:lnTo>
                  <a:pt x="96" y="126"/>
                </a:lnTo>
                <a:lnTo>
                  <a:pt x="72" y="126"/>
                </a:lnTo>
                <a:lnTo>
                  <a:pt x="54" y="108"/>
                </a:lnTo>
                <a:lnTo>
                  <a:pt x="36" y="84"/>
                </a:lnTo>
                <a:lnTo>
                  <a:pt x="36" y="114"/>
                </a:lnTo>
                <a:lnTo>
                  <a:pt x="36" y="132"/>
                </a:lnTo>
                <a:lnTo>
                  <a:pt x="1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Freeform 275"/>
          <p:cNvSpPr/>
          <p:nvPr/>
        </p:nvSpPr>
        <p:spPr>
          <a:xfrm>
            <a:off x="10148760" y="6848640"/>
            <a:ext cx="376200" cy="8568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1"/>
                </a:move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31" y="5"/>
                  <a:pt x="31" y="5"/>
                  <a:pt x="31" y="5"/>
                </a:cubicBezTo>
                <a:cubicBezTo>
                  <a:pt x="34" y="8"/>
                  <a:pt x="34" y="8"/>
                  <a:pt x="34" y="8"/>
                </a:cubicBezTo>
                <a:cubicBezTo>
                  <a:pt x="26" y="7"/>
                  <a:pt x="26" y="7"/>
                  <a:pt x="26" y="7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0" y="4"/>
                  <a:pt x="8" y="4"/>
                </a:cubicBezTo>
                <a:cubicBezTo>
                  <a:pt x="7" y="3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Freeform 276"/>
          <p:cNvSpPr/>
          <p:nvPr/>
        </p:nvSpPr>
        <p:spPr>
          <a:xfrm>
            <a:off x="4165560" y="4519440"/>
            <a:ext cx="225360" cy="255600"/>
          </a:xfrm>
          <a:custGeom>
            <a:avLst/>
            <a:gdLst/>
            <a:ahLst/>
            <a:rect l="l" t="t" r="r" b="b"/>
            <a:pathLst>
              <a:path w="120" h="138">
                <a:moveTo>
                  <a:pt x="0" y="114"/>
                </a:moveTo>
                <a:lnTo>
                  <a:pt x="0" y="90"/>
                </a:lnTo>
                <a:lnTo>
                  <a:pt x="6" y="72"/>
                </a:lnTo>
                <a:lnTo>
                  <a:pt x="36" y="24"/>
                </a:lnTo>
                <a:lnTo>
                  <a:pt x="66" y="0"/>
                </a:lnTo>
                <a:lnTo>
                  <a:pt x="66" y="18"/>
                </a:lnTo>
                <a:lnTo>
                  <a:pt x="54" y="42"/>
                </a:lnTo>
                <a:lnTo>
                  <a:pt x="60" y="54"/>
                </a:lnTo>
                <a:lnTo>
                  <a:pt x="108" y="78"/>
                </a:lnTo>
                <a:lnTo>
                  <a:pt x="120" y="108"/>
                </a:lnTo>
                <a:lnTo>
                  <a:pt x="120" y="132"/>
                </a:lnTo>
                <a:lnTo>
                  <a:pt x="96" y="138"/>
                </a:lnTo>
                <a:lnTo>
                  <a:pt x="84" y="120"/>
                </a:lnTo>
                <a:lnTo>
                  <a:pt x="66" y="126"/>
                </a:lnTo>
                <a:lnTo>
                  <a:pt x="48" y="114"/>
                </a:lnTo>
                <a:lnTo>
                  <a:pt x="18" y="108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Freeform 277"/>
          <p:cNvSpPr/>
          <p:nvPr/>
        </p:nvSpPr>
        <p:spPr>
          <a:xfrm>
            <a:off x="3236760" y="5808600"/>
            <a:ext cx="393840" cy="111240"/>
          </a:xfrm>
          <a:custGeom>
            <a:avLst/>
            <a:gdLst/>
            <a:ahLst/>
            <a:rect l="l" t="t" r="r" b="b"/>
            <a:pathLst>
              <a:path w="35" h="10">
                <a:moveTo>
                  <a:pt x="2" y="1"/>
                </a:moveTo>
                <a:cubicBezTo>
                  <a:pt x="8" y="0"/>
                  <a:pt x="8" y="0"/>
                  <a:pt x="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7" y="5"/>
                  <a:pt x="28" y="6"/>
                </a:cubicBezTo>
                <a:cubicBezTo>
                  <a:pt x="30" y="7"/>
                  <a:pt x="33" y="7"/>
                  <a:pt x="33" y="7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9"/>
                  <a:pt x="35" y="10"/>
                  <a:pt x="33" y="10"/>
                </a:cubicBezTo>
                <a:cubicBezTo>
                  <a:pt x="31" y="10"/>
                  <a:pt x="25" y="10"/>
                  <a:pt x="25" y="10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5"/>
                  <a:pt x="21" y="5"/>
                  <a:pt x="21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9" y="4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0" y="3"/>
                  <a:pt x="0" y="3"/>
                  <a:pt x="0" y="3"/>
                </a:cubicBezTo>
                <a:lnTo>
                  <a:pt x="2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Freeform 278"/>
          <p:cNvSpPr/>
          <p:nvPr/>
        </p:nvSpPr>
        <p:spPr>
          <a:xfrm>
            <a:off x="3630600" y="5931000"/>
            <a:ext cx="244440" cy="68040"/>
          </a:xfrm>
          <a:custGeom>
            <a:avLst/>
            <a:gdLst/>
            <a:ahLst/>
            <a:rect l="l" t="t" r="r" b="b"/>
            <a:pathLst>
              <a:path w="132" h="36">
                <a:moveTo>
                  <a:pt x="24" y="0"/>
                </a:moveTo>
                <a:lnTo>
                  <a:pt x="24" y="12"/>
                </a:lnTo>
                <a:lnTo>
                  <a:pt x="0" y="18"/>
                </a:lnTo>
                <a:lnTo>
                  <a:pt x="30" y="30"/>
                </a:lnTo>
                <a:lnTo>
                  <a:pt x="42" y="36"/>
                </a:lnTo>
                <a:lnTo>
                  <a:pt x="66" y="36"/>
                </a:lnTo>
                <a:lnTo>
                  <a:pt x="84" y="24"/>
                </a:lnTo>
                <a:lnTo>
                  <a:pt x="132" y="30"/>
                </a:lnTo>
                <a:lnTo>
                  <a:pt x="108" y="18"/>
                </a:lnTo>
                <a:lnTo>
                  <a:pt x="7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Freeform 279"/>
          <p:cNvSpPr/>
          <p:nvPr/>
        </p:nvSpPr>
        <p:spPr>
          <a:xfrm>
            <a:off x="6848640" y="5181480"/>
            <a:ext cx="109440" cy="6516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12"/>
                </a:moveTo>
                <a:lnTo>
                  <a:pt x="36" y="0"/>
                </a:lnTo>
                <a:lnTo>
                  <a:pt x="60" y="6"/>
                </a:lnTo>
                <a:lnTo>
                  <a:pt x="60" y="18"/>
                </a:lnTo>
                <a:lnTo>
                  <a:pt x="54" y="36"/>
                </a:lnTo>
                <a:lnTo>
                  <a:pt x="30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Freeform 280"/>
          <p:cNvSpPr/>
          <p:nvPr/>
        </p:nvSpPr>
        <p:spPr>
          <a:xfrm>
            <a:off x="6723000" y="5054760"/>
            <a:ext cx="46080" cy="88920"/>
          </a:xfrm>
          <a:custGeom>
            <a:avLst/>
            <a:gdLst/>
            <a:ahLst/>
            <a:rect l="l" t="t" r="r" b="b"/>
            <a:pathLst>
              <a:path w="24" h="48">
                <a:moveTo>
                  <a:pt x="0" y="48"/>
                </a:moveTo>
                <a:lnTo>
                  <a:pt x="6" y="6"/>
                </a:lnTo>
                <a:lnTo>
                  <a:pt x="18" y="0"/>
                </a:lnTo>
                <a:lnTo>
                  <a:pt x="24" y="24"/>
                </a:lnTo>
                <a:lnTo>
                  <a:pt x="2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Freeform 281"/>
          <p:cNvSpPr/>
          <p:nvPr/>
        </p:nvSpPr>
        <p:spPr>
          <a:xfrm>
            <a:off x="6711840" y="4964040"/>
            <a:ext cx="57240" cy="68400"/>
          </a:xfrm>
          <a:custGeom>
            <a:avLst/>
            <a:gdLst/>
            <a:ahLst/>
            <a:rect l="l" t="t" r="r" b="b"/>
            <a:pathLst>
              <a:path w="30" h="37">
                <a:moveTo>
                  <a:pt x="0" y="12"/>
                </a:moveTo>
                <a:lnTo>
                  <a:pt x="24" y="0"/>
                </a:lnTo>
                <a:lnTo>
                  <a:pt x="30" y="24"/>
                </a:lnTo>
                <a:lnTo>
                  <a:pt x="24" y="37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Freeform 282"/>
          <p:cNvSpPr/>
          <p:nvPr/>
        </p:nvSpPr>
        <p:spPr>
          <a:xfrm>
            <a:off x="7848720" y="5214960"/>
            <a:ext cx="55440" cy="11160"/>
          </a:xfrm>
          <a:custGeom>
            <a:avLst/>
            <a:gdLst/>
            <a:ahLst/>
            <a:rect l="l" t="t" r="r" b="b"/>
            <a:pathLst>
              <a:path w="30" h="6">
                <a:moveTo>
                  <a:pt x="24" y="0"/>
                </a:moveTo>
                <a:lnTo>
                  <a:pt x="30" y="0"/>
                </a:lnTo>
                <a:lnTo>
                  <a:pt x="0" y="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Rectangle 283"/>
          <p:cNvSpPr/>
          <p:nvPr/>
        </p:nvSpPr>
        <p:spPr>
          <a:xfrm>
            <a:off x="7648560" y="5545080"/>
            <a:ext cx="360" cy="4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0480" bIns="-60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Freeform 284"/>
          <p:cNvSpPr/>
          <p:nvPr/>
        </p:nvSpPr>
        <p:spPr>
          <a:xfrm>
            <a:off x="7281720" y="5003640"/>
            <a:ext cx="700200" cy="254160"/>
          </a:xfrm>
          <a:custGeom>
            <a:avLst/>
            <a:gdLst/>
            <a:ahLst/>
            <a:rect l="l" t="t" r="r" b="b"/>
            <a:pathLst>
              <a:path w="10616" h="10000">
                <a:moveTo>
                  <a:pt x="6379" y="8696"/>
                </a:moveTo>
                <a:lnTo>
                  <a:pt x="6718" y="9130"/>
                </a:lnTo>
                <a:lnTo>
                  <a:pt x="8582" y="8696"/>
                </a:lnTo>
                <a:lnTo>
                  <a:pt x="9430" y="8261"/>
                </a:lnTo>
                <a:lnTo>
                  <a:pt x="10277" y="7826"/>
                </a:lnTo>
                <a:lnTo>
                  <a:pt x="10616" y="8261"/>
                </a:lnTo>
                <a:cubicBezTo>
                  <a:pt x="10560" y="7826"/>
                  <a:pt x="10503" y="7392"/>
                  <a:pt x="10447" y="6957"/>
                </a:cubicBezTo>
                <a:lnTo>
                  <a:pt x="10447" y="3913"/>
                </a:lnTo>
                <a:cubicBezTo>
                  <a:pt x="10503" y="3768"/>
                  <a:pt x="10560" y="3623"/>
                  <a:pt x="10616" y="3478"/>
                </a:cubicBezTo>
                <a:lnTo>
                  <a:pt x="9938" y="1304"/>
                </a:lnTo>
                <a:lnTo>
                  <a:pt x="9599" y="435"/>
                </a:lnTo>
                <a:lnTo>
                  <a:pt x="9091" y="435"/>
                </a:lnTo>
                <a:cubicBezTo>
                  <a:pt x="9034" y="290"/>
                  <a:pt x="8978" y="145"/>
                  <a:pt x="8921" y="0"/>
                </a:cubicBezTo>
                <a:lnTo>
                  <a:pt x="8243" y="1304"/>
                </a:lnTo>
                <a:lnTo>
                  <a:pt x="7396" y="1304"/>
                </a:lnTo>
                <a:lnTo>
                  <a:pt x="7226" y="1304"/>
                </a:lnTo>
                <a:lnTo>
                  <a:pt x="6548" y="435"/>
                </a:lnTo>
                <a:lnTo>
                  <a:pt x="6040" y="0"/>
                </a:lnTo>
                <a:lnTo>
                  <a:pt x="4684" y="0"/>
                </a:lnTo>
                <a:lnTo>
                  <a:pt x="4345" y="0"/>
                </a:lnTo>
                <a:lnTo>
                  <a:pt x="3836" y="435"/>
                </a:lnTo>
                <a:lnTo>
                  <a:pt x="3497" y="1304"/>
                </a:lnTo>
                <a:lnTo>
                  <a:pt x="2650" y="1739"/>
                </a:lnTo>
                <a:cubicBezTo>
                  <a:pt x="2593" y="1594"/>
                  <a:pt x="2537" y="1449"/>
                  <a:pt x="2480" y="1304"/>
                </a:cubicBezTo>
                <a:lnTo>
                  <a:pt x="2311" y="1304"/>
                </a:lnTo>
                <a:lnTo>
                  <a:pt x="1972" y="2609"/>
                </a:lnTo>
                <a:cubicBezTo>
                  <a:pt x="1746" y="2609"/>
                  <a:pt x="1494" y="2631"/>
                  <a:pt x="1294" y="2609"/>
                </a:cubicBezTo>
                <a:cubicBezTo>
                  <a:pt x="1094" y="2587"/>
                  <a:pt x="883" y="2261"/>
                  <a:pt x="770" y="2478"/>
                </a:cubicBezTo>
                <a:cubicBezTo>
                  <a:pt x="657" y="2695"/>
                  <a:pt x="333" y="2962"/>
                  <a:pt x="205" y="3117"/>
                </a:cubicBezTo>
                <a:cubicBezTo>
                  <a:pt x="77" y="3272"/>
                  <a:pt x="0" y="3266"/>
                  <a:pt x="0" y="3407"/>
                </a:cubicBezTo>
                <a:cubicBezTo>
                  <a:pt x="113" y="3701"/>
                  <a:pt x="482" y="5084"/>
                  <a:pt x="698" y="5748"/>
                </a:cubicBezTo>
                <a:cubicBezTo>
                  <a:pt x="914" y="6412"/>
                  <a:pt x="1138" y="6900"/>
                  <a:pt x="1294" y="7391"/>
                </a:cubicBezTo>
                <a:cubicBezTo>
                  <a:pt x="1450" y="7882"/>
                  <a:pt x="1520" y="8261"/>
                  <a:pt x="1633" y="8696"/>
                </a:cubicBezTo>
                <a:lnTo>
                  <a:pt x="3158" y="9130"/>
                </a:lnTo>
                <a:lnTo>
                  <a:pt x="3328" y="9130"/>
                </a:lnTo>
                <a:lnTo>
                  <a:pt x="4514" y="10000"/>
                </a:lnTo>
                <a:lnTo>
                  <a:pt x="5192" y="9130"/>
                </a:lnTo>
                <a:lnTo>
                  <a:pt x="5870" y="10000"/>
                </a:lnTo>
                <a:lnTo>
                  <a:pt x="6379" y="86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Freeform 285"/>
          <p:cNvSpPr/>
          <p:nvPr/>
        </p:nvSpPr>
        <p:spPr>
          <a:xfrm>
            <a:off x="7634160" y="5214960"/>
            <a:ext cx="257400" cy="208080"/>
          </a:xfrm>
          <a:custGeom>
            <a:avLst/>
            <a:gdLst/>
            <a:ahLst/>
            <a:rect l="l" t="t" r="r" b="b"/>
            <a:pathLst>
              <a:path w="139" h="114">
                <a:moveTo>
                  <a:pt x="25" y="114"/>
                </a:moveTo>
                <a:lnTo>
                  <a:pt x="61" y="96"/>
                </a:lnTo>
                <a:lnTo>
                  <a:pt x="73" y="90"/>
                </a:lnTo>
                <a:lnTo>
                  <a:pt x="115" y="66"/>
                </a:lnTo>
                <a:lnTo>
                  <a:pt x="127" y="24"/>
                </a:lnTo>
                <a:lnTo>
                  <a:pt x="139" y="6"/>
                </a:lnTo>
                <a:lnTo>
                  <a:pt x="139" y="0"/>
                </a:lnTo>
                <a:lnTo>
                  <a:pt x="115" y="6"/>
                </a:lnTo>
                <a:lnTo>
                  <a:pt x="49" y="12"/>
                </a:lnTo>
                <a:lnTo>
                  <a:pt x="37" y="6"/>
                </a:lnTo>
                <a:lnTo>
                  <a:pt x="19" y="24"/>
                </a:lnTo>
                <a:lnTo>
                  <a:pt x="25" y="48"/>
                </a:lnTo>
                <a:lnTo>
                  <a:pt x="0" y="102"/>
                </a:lnTo>
                <a:lnTo>
                  <a:pt x="13" y="102"/>
                </a:lnTo>
                <a:lnTo>
                  <a:pt x="25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Freeform 286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Freeform 287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Freeform 288"/>
          <p:cNvSpPr/>
          <p:nvPr/>
        </p:nvSpPr>
        <p:spPr>
          <a:xfrm>
            <a:off x="8224920" y="5691240"/>
            <a:ext cx="169920" cy="111240"/>
          </a:xfrm>
          <a:custGeom>
            <a:avLst/>
            <a:gdLst/>
            <a:ahLst/>
            <a:rect l="l" t="t" r="r" b="b"/>
            <a:pathLst>
              <a:path w="90" h="60">
                <a:moveTo>
                  <a:pt x="18" y="48"/>
                </a:moveTo>
                <a:lnTo>
                  <a:pt x="66" y="60"/>
                </a:lnTo>
                <a:lnTo>
                  <a:pt x="78" y="30"/>
                </a:lnTo>
                <a:lnTo>
                  <a:pt x="90" y="24"/>
                </a:lnTo>
                <a:lnTo>
                  <a:pt x="84" y="0"/>
                </a:lnTo>
                <a:lnTo>
                  <a:pt x="30" y="18"/>
                </a:lnTo>
                <a:lnTo>
                  <a:pt x="6" y="6"/>
                </a:lnTo>
                <a:lnTo>
                  <a:pt x="0" y="24"/>
                </a:lnTo>
                <a:lnTo>
                  <a:pt x="1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Freeform 289"/>
          <p:cNvSpPr/>
          <p:nvPr/>
        </p:nvSpPr>
        <p:spPr>
          <a:xfrm>
            <a:off x="8250120" y="5734080"/>
            <a:ext cx="266760" cy="309600"/>
          </a:xfrm>
          <a:custGeom>
            <a:avLst/>
            <a:gdLst/>
            <a:ahLst/>
            <a:rect l="l" t="t" r="r" b="b"/>
            <a:pathLst>
              <a:path w="24" h="28">
                <a:moveTo>
                  <a:pt x="9" y="6"/>
                </a:moveTo>
                <a:cubicBezTo>
                  <a:pt x="10" y="6"/>
                  <a:pt x="10" y="6"/>
                  <a:pt x="10" y="6"/>
                </a:cubicBezTo>
                <a:cubicBezTo>
                  <a:pt x="9" y="13"/>
                  <a:pt x="9" y="13"/>
                  <a:pt x="9" y="13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3" y="18"/>
                  <a:pt x="0" y="18"/>
                </a:cubicBezTo>
                <a:cubicBezTo>
                  <a:pt x="1" y="21"/>
                  <a:pt x="1" y="21"/>
                  <a:pt x="1" y="21"/>
                </a:cubicBezTo>
                <a:cubicBezTo>
                  <a:pt x="4" y="28"/>
                  <a:pt x="4" y="28"/>
                  <a:pt x="4" y="28"/>
                </a:cubicBezTo>
                <a:cubicBezTo>
                  <a:pt x="11" y="23"/>
                  <a:pt x="11" y="23"/>
                  <a:pt x="11" y="23"/>
                </a:cubicBezTo>
                <a:cubicBezTo>
                  <a:pt x="17" y="15"/>
                  <a:pt x="17" y="15"/>
                  <a:pt x="17" y="15"/>
                </a:cubicBezTo>
                <a:cubicBezTo>
                  <a:pt x="20" y="11"/>
                  <a:pt x="20" y="11"/>
                  <a:pt x="20" y="11"/>
                </a:cubicBezTo>
                <a:cubicBezTo>
                  <a:pt x="24" y="7"/>
                  <a:pt x="24" y="7"/>
                  <a:pt x="24" y="7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1"/>
                  <a:pt x="11" y="1"/>
                  <a:pt x="11" y="1"/>
                </a:cubicBezTo>
                <a:lnTo>
                  <a:pt x="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Freeform 290"/>
          <p:cNvSpPr/>
          <p:nvPr/>
        </p:nvSpPr>
        <p:spPr>
          <a:xfrm>
            <a:off x="7915320" y="5934240"/>
            <a:ext cx="377640" cy="234720"/>
          </a:xfrm>
          <a:custGeom>
            <a:avLst/>
            <a:gdLst/>
            <a:ahLst/>
            <a:rect l="l" t="t" r="r" b="b"/>
            <a:pathLst>
              <a:path w="34" h="21">
                <a:moveTo>
                  <a:pt x="30" y="0"/>
                </a:moveTo>
                <a:cubicBezTo>
                  <a:pt x="25" y="2"/>
                  <a:pt x="18" y="3"/>
                  <a:pt x="18" y="4"/>
                </a:cubicBezTo>
                <a:cubicBezTo>
                  <a:pt x="16" y="5"/>
                  <a:pt x="14" y="7"/>
                  <a:pt x="14" y="7"/>
                </a:cubicBezTo>
                <a:cubicBezTo>
                  <a:pt x="3" y="7"/>
                  <a:pt x="3" y="7"/>
                  <a:pt x="3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9" y="15"/>
                  <a:pt x="19" y="15"/>
                  <a:pt x="19" y="15"/>
                </a:cubicBezTo>
                <a:cubicBezTo>
                  <a:pt x="25" y="13"/>
                  <a:pt x="25" y="13"/>
                  <a:pt x="25" y="13"/>
                </a:cubicBezTo>
                <a:cubicBezTo>
                  <a:pt x="34" y="10"/>
                  <a:pt x="34" y="10"/>
                  <a:pt x="34" y="10"/>
                </a:cubicBezTo>
                <a:cubicBezTo>
                  <a:pt x="31" y="3"/>
                  <a:pt x="31" y="3"/>
                  <a:pt x="31" y="3"/>
                </a:cubicBez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Freeform 291"/>
          <p:cNvSpPr/>
          <p:nvPr/>
        </p:nvSpPr>
        <p:spPr>
          <a:xfrm>
            <a:off x="7648560" y="5423040"/>
            <a:ext cx="700200" cy="599760"/>
          </a:xfrm>
          <a:custGeom>
            <a:avLst/>
            <a:gdLst/>
            <a:ahLst/>
            <a:rect l="l" t="t" r="r" b="b"/>
            <a:pathLst>
              <a:path w="63" h="54">
                <a:moveTo>
                  <a:pt x="63" y="34"/>
                </a:moveTo>
                <a:cubicBezTo>
                  <a:pt x="55" y="32"/>
                  <a:pt x="55" y="32"/>
                  <a:pt x="55" y="32"/>
                </a:cubicBezTo>
                <a:cubicBezTo>
                  <a:pt x="52" y="28"/>
                  <a:pt x="52" y="28"/>
                  <a:pt x="5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48" y="23"/>
                  <a:pt x="48" y="23"/>
                  <a:pt x="48" y="23"/>
                </a:cubicBezTo>
                <a:cubicBezTo>
                  <a:pt x="46" y="17"/>
                  <a:pt x="46" y="17"/>
                  <a:pt x="46" y="17"/>
                </a:cubicBezTo>
                <a:cubicBezTo>
                  <a:pt x="42" y="13"/>
                  <a:pt x="42" y="13"/>
                  <a:pt x="42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39" y="12"/>
                  <a:pt x="39" y="12"/>
                  <a:pt x="39" y="12"/>
                </a:cubicBezTo>
                <a:cubicBezTo>
                  <a:pt x="36" y="10"/>
                  <a:pt x="36" y="10"/>
                  <a:pt x="36" y="10"/>
                </a:cubicBezTo>
                <a:cubicBezTo>
                  <a:pt x="28" y="9"/>
                  <a:pt x="28" y="9"/>
                  <a:pt x="28" y="9"/>
                </a:cubicBezTo>
                <a:cubicBezTo>
                  <a:pt x="25" y="6"/>
                  <a:pt x="25" y="6"/>
                  <a:pt x="25" y="6"/>
                </a:cubicBezTo>
                <a:cubicBezTo>
                  <a:pt x="15" y="1"/>
                  <a:pt x="15" y="1"/>
                  <a:pt x="15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6" y="2"/>
                  <a:pt x="6" y="2"/>
                  <a:pt x="6" y="2"/>
                </a:cubicBezTo>
                <a:cubicBezTo>
                  <a:pt x="8" y="7"/>
                  <a:pt x="8" y="7"/>
                  <a:pt x="8" y="7"/>
                </a:cubicBezTo>
                <a:cubicBezTo>
                  <a:pt x="7" y="9"/>
                  <a:pt x="7" y="9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2" y="11"/>
                  <a:pt x="2" y="11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5"/>
                  <a:pt x="2" y="15"/>
                  <a:pt x="2" y="15"/>
                </a:cubicBezTo>
                <a:cubicBezTo>
                  <a:pt x="9" y="29"/>
                  <a:pt x="9" y="29"/>
                  <a:pt x="9" y="29"/>
                </a:cubicBezTo>
                <a:cubicBezTo>
                  <a:pt x="13" y="33"/>
                  <a:pt x="13" y="33"/>
                  <a:pt x="13" y="33"/>
                </a:cubicBezTo>
                <a:cubicBezTo>
                  <a:pt x="15" y="39"/>
                  <a:pt x="15" y="39"/>
                  <a:pt x="15" y="39"/>
                </a:cubicBezTo>
                <a:cubicBezTo>
                  <a:pt x="17" y="46"/>
                  <a:pt x="17" y="46"/>
                  <a:pt x="17" y="46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53"/>
                  <a:pt x="27" y="53"/>
                  <a:pt x="27" y="53"/>
                </a:cubicBezTo>
                <a:cubicBezTo>
                  <a:pt x="38" y="53"/>
                  <a:pt x="38" y="53"/>
                  <a:pt x="38" y="53"/>
                </a:cubicBezTo>
                <a:cubicBezTo>
                  <a:pt x="38" y="53"/>
                  <a:pt x="40" y="51"/>
                  <a:pt x="42" y="50"/>
                </a:cubicBezTo>
                <a:cubicBezTo>
                  <a:pt x="42" y="49"/>
                  <a:pt x="49" y="48"/>
                  <a:pt x="54" y="4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Freeform 292"/>
          <p:cNvSpPr/>
          <p:nvPr/>
        </p:nvSpPr>
        <p:spPr>
          <a:xfrm>
            <a:off x="8250120" y="5802480"/>
            <a:ext cx="109800" cy="13176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3" y="12"/>
                  <a:pt x="4" y="11"/>
                  <a:pt x="4" y="11"/>
                </a:cubicBezTo>
                <a:cubicBezTo>
                  <a:pt x="9" y="7"/>
                  <a:pt x="9" y="7"/>
                  <a:pt x="9" y="7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Freeform 293"/>
          <p:cNvSpPr/>
          <p:nvPr/>
        </p:nvSpPr>
        <p:spPr>
          <a:xfrm>
            <a:off x="7769160" y="5202360"/>
            <a:ext cx="354240" cy="3571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68" y="120"/>
                </a:moveTo>
                <a:lnTo>
                  <a:pt x="132" y="90"/>
                </a:lnTo>
                <a:lnTo>
                  <a:pt x="132" y="66"/>
                </a:lnTo>
                <a:lnTo>
                  <a:pt x="138" y="42"/>
                </a:lnTo>
                <a:lnTo>
                  <a:pt x="114" y="6"/>
                </a:lnTo>
                <a:lnTo>
                  <a:pt x="102" y="0"/>
                </a:lnTo>
                <a:lnTo>
                  <a:pt x="72" y="6"/>
                </a:lnTo>
                <a:lnTo>
                  <a:pt x="66" y="6"/>
                </a:lnTo>
                <a:lnTo>
                  <a:pt x="66" y="12"/>
                </a:lnTo>
                <a:lnTo>
                  <a:pt x="54" y="30"/>
                </a:lnTo>
                <a:lnTo>
                  <a:pt x="42" y="72"/>
                </a:lnTo>
                <a:lnTo>
                  <a:pt x="0" y="96"/>
                </a:lnTo>
                <a:lnTo>
                  <a:pt x="0" y="120"/>
                </a:lnTo>
                <a:lnTo>
                  <a:pt x="24" y="126"/>
                </a:lnTo>
                <a:lnTo>
                  <a:pt x="84" y="156"/>
                </a:lnTo>
                <a:lnTo>
                  <a:pt x="102" y="174"/>
                </a:lnTo>
                <a:lnTo>
                  <a:pt x="150" y="180"/>
                </a:lnTo>
                <a:lnTo>
                  <a:pt x="168" y="192"/>
                </a:lnTo>
                <a:lnTo>
                  <a:pt x="186" y="192"/>
                </a:lnTo>
                <a:lnTo>
                  <a:pt x="180" y="180"/>
                </a:lnTo>
                <a:lnTo>
                  <a:pt x="192" y="174"/>
                </a:lnTo>
                <a:lnTo>
                  <a:pt x="180" y="150"/>
                </a:lnTo>
                <a:lnTo>
                  <a:pt x="168" y="1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Freeform 294"/>
          <p:cNvSpPr/>
          <p:nvPr/>
        </p:nvSpPr>
        <p:spPr>
          <a:xfrm>
            <a:off x="7972560" y="5105520"/>
            <a:ext cx="668160" cy="606240"/>
          </a:xfrm>
          <a:custGeom>
            <a:avLst/>
            <a:gdLst/>
            <a:ahLst/>
            <a:rect l="l" t="t" r="r" b="b"/>
            <a:pathLst>
              <a:path w="60" h="55">
                <a:moveTo>
                  <a:pt x="53" y="38"/>
                </a:moveTo>
                <a:cubicBezTo>
                  <a:pt x="53" y="38"/>
                  <a:pt x="53" y="38"/>
                  <a:pt x="53" y="38"/>
                </a:cubicBezTo>
                <a:cubicBezTo>
                  <a:pt x="55" y="32"/>
                  <a:pt x="55" y="32"/>
                  <a:pt x="55" y="32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25"/>
                  <a:pt x="51" y="25"/>
                  <a:pt x="51" y="25"/>
                </a:cubicBezTo>
                <a:cubicBezTo>
                  <a:pt x="52" y="21"/>
                  <a:pt x="52" y="21"/>
                  <a:pt x="52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5" y="8"/>
                  <a:pt x="45" y="8"/>
                  <a:pt x="45" y="8"/>
                </a:cubicBezTo>
                <a:cubicBezTo>
                  <a:pt x="40" y="5"/>
                  <a:pt x="40" y="5"/>
                  <a:pt x="40" y="5"/>
                </a:cubicBezTo>
                <a:cubicBezTo>
                  <a:pt x="36" y="6"/>
                  <a:pt x="36" y="6"/>
                  <a:pt x="36" y="6"/>
                </a:cubicBezTo>
                <a:cubicBezTo>
                  <a:pt x="31" y="8"/>
                  <a:pt x="31" y="8"/>
                  <a:pt x="31" y="8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19" y="9"/>
                  <a:pt x="19" y="9"/>
                  <a:pt x="19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6"/>
                  <a:pt x="15" y="6"/>
                  <a:pt x="15" y="6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6" y="3"/>
                  <a:pt x="6" y="3"/>
                  <a:pt x="6" y="3"/>
                </a:cubicBezTo>
                <a:cubicBezTo>
                  <a:pt x="3" y="2"/>
                  <a:pt x="3" y="2"/>
                  <a:pt x="3" y="2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6"/>
                  <a:pt x="0" y="7"/>
                </a:cubicBezTo>
                <a:cubicBezTo>
                  <a:pt x="0" y="7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5" y="16"/>
                  <a:pt x="5" y="16"/>
                  <a:pt x="5" y="16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10" y="29"/>
                  <a:pt x="10" y="29"/>
                  <a:pt x="10" y="29"/>
                </a:cubicBezTo>
                <a:cubicBezTo>
                  <a:pt x="12" y="34"/>
                  <a:pt x="12" y="34"/>
                  <a:pt x="12" y="34"/>
                </a:cubicBezTo>
                <a:cubicBezTo>
                  <a:pt x="14" y="38"/>
                  <a:pt x="14" y="38"/>
                  <a:pt x="14" y="38"/>
                </a:cubicBezTo>
                <a:cubicBezTo>
                  <a:pt x="15" y="36"/>
                  <a:pt x="15" y="36"/>
                  <a:pt x="15" y="36"/>
                </a:cubicBezTo>
                <a:cubicBezTo>
                  <a:pt x="19" y="39"/>
                  <a:pt x="19" y="39"/>
                  <a:pt x="19" y="39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48"/>
                  <a:pt x="28" y="48"/>
                  <a:pt x="28" y="48"/>
                </a:cubicBezTo>
                <a:cubicBezTo>
                  <a:pt x="34" y="49"/>
                  <a:pt x="34" y="49"/>
                  <a:pt x="34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42" y="52"/>
                  <a:pt x="42" y="52"/>
                  <a:pt x="42" y="52"/>
                </a:cubicBezTo>
                <a:cubicBezTo>
                  <a:pt x="53" y="55"/>
                  <a:pt x="53" y="55"/>
                  <a:pt x="53" y="55"/>
                </a:cubicBezTo>
                <a:cubicBezTo>
                  <a:pt x="55" y="55"/>
                  <a:pt x="55" y="55"/>
                  <a:pt x="55" y="55"/>
                </a:cubicBezTo>
                <a:cubicBezTo>
                  <a:pt x="55" y="51"/>
                  <a:pt x="55" y="51"/>
                  <a:pt x="55" y="51"/>
                </a:cubicBezTo>
                <a:cubicBezTo>
                  <a:pt x="60" y="49"/>
                  <a:pt x="60" y="49"/>
                  <a:pt x="60" y="49"/>
                </a:cubicBezTo>
                <a:cubicBezTo>
                  <a:pt x="59" y="46"/>
                  <a:pt x="59" y="46"/>
                  <a:pt x="59" y="46"/>
                </a:cubicBezTo>
                <a:cubicBezTo>
                  <a:pt x="58" y="44"/>
                  <a:pt x="58" y="44"/>
                  <a:pt x="58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8"/>
                  <a:pt x="53" y="38"/>
                  <a:pt x="53" y="38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Freeform 299"/>
          <p:cNvSpPr/>
          <p:nvPr/>
        </p:nvSpPr>
        <p:spPr>
          <a:xfrm>
            <a:off x="7129440" y="4214880"/>
            <a:ext cx="227160" cy="154080"/>
          </a:xfrm>
          <a:custGeom>
            <a:avLst/>
            <a:gdLst/>
            <a:ahLst/>
            <a:rect l="l" t="t" r="r" b="b"/>
            <a:pathLst>
              <a:path w="20" h="14">
                <a:moveTo>
                  <a:pt x="19" y="4"/>
                </a:moveTo>
                <a:cubicBezTo>
                  <a:pt x="17" y="2"/>
                  <a:pt x="17" y="2"/>
                  <a:pt x="17" y="2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0"/>
                  <a:pt x="5" y="0"/>
                  <a:pt x="5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3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6" y="8"/>
                  <a:pt x="6" y="8"/>
                </a:cubicBezTo>
                <a:cubicBezTo>
                  <a:pt x="7" y="10"/>
                  <a:pt x="7" y="10"/>
                  <a:pt x="7" y="10"/>
                </a:cubicBezTo>
                <a:cubicBezTo>
                  <a:pt x="6" y="12"/>
                  <a:pt x="6" y="12"/>
                  <a:pt x="6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3"/>
                  <a:pt x="11" y="13"/>
                  <a:pt x="11" y="13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5" y="12"/>
                  <a:pt x="16" y="12"/>
                </a:cubicBezTo>
                <a:cubicBezTo>
                  <a:pt x="17" y="12"/>
                  <a:pt x="16" y="9"/>
                  <a:pt x="16" y="9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7" name="Freeform 300"/>
          <p:cNvSpPr/>
          <p:nvPr/>
        </p:nvSpPr>
        <p:spPr>
          <a:xfrm>
            <a:off x="7229520" y="4003560"/>
            <a:ext cx="169920" cy="144720"/>
          </a:xfrm>
          <a:custGeom>
            <a:avLst/>
            <a:gdLst/>
            <a:ahLst/>
            <a:rect l="l" t="t" r="r" b="b"/>
            <a:pathLst>
              <a:path w="90" h="78">
                <a:moveTo>
                  <a:pt x="54" y="66"/>
                </a:moveTo>
                <a:lnTo>
                  <a:pt x="78" y="78"/>
                </a:lnTo>
                <a:lnTo>
                  <a:pt x="84" y="42"/>
                </a:lnTo>
                <a:lnTo>
                  <a:pt x="84" y="30"/>
                </a:lnTo>
                <a:lnTo>
                  <a:pt x="90" y="6"/>
                </a:lnTo>
                <a:lnTo>
                  <a:pt x="84" y="0"/>
                </a:lnTo>
                <a:lnTo>
                  <a:pt x="72" y="0"/>
                </a:lnTo>
                <a:lnTo>
                  <a:pt x="36" y="0"/>
                </a:lnTo>
                <a:lnTo>
                  <a:pt x="0" y="18"/>
                </a:lnTo>
                <a:lnTo>
                  <a:pt x="0" y="30"/>
                </a:lnTo>
                <a:lnTo>
                  <a:pt x="6" y="42"/>
                </a:lnTo>
                <a:lnTo>
                  <a:pt x="12" y="48"/>
                </a:lnTo>
                <a:lnTo>
                  <a:pt x="18" y="54"/>
                </a:lnTo>
                <a:lnTo>
                  <a:pt x="12" y="60"/>
                </a:lnTo>
                <a:lnTo>
                  <a:pt x="36" y="54"/>
                </a:lnTo>
                <a:lnTo>
                  <a:pt x="54" y="6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Freeform 301"/>
          <p:cNvSpPr/>
          <p:nvPr/>
        </p:nvSpPr>
        <p:spPr>
          <a:xfrm>
            <a:off x="7223040" y="4226040"/>
            <a:ext cx="331920" cy="301680"/>
          </a:xfrm>
          <a:custGeom>
            <a:avLst/>
            <a:gdLst/>
            <a:ahLst/>
            <a:rect l="l" t="t" r="r" b="b"/>
            <a:pathLst>
              <a:path w="30" h="27">
                <a:moveTo>
                  <a:pt x="30" y="14"/>
                </a:moveTo>
                <a:cubicBezTo>
                  <a:pt x="27" y="11"/>
                  <a:pt x="27" y="11"/>
                  <a:pt x="27" y="11"/>
                </a:cubicBezTo>
                <a:cubicBezTo>
                  <a:pt x="23" y="3"/>
                  <a:pt x="23" y="3"/>
                  <a:pt x="23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2"/>
                  <a:pt x="14" y="2"/>
                  <a:pt x="14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6"/>
                  <a:pt x="10" y="6"/>
                  <a:pt x="10" y="6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9" y="11"/>
                  <a:pt x="8" y="11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12"/>
                  <a:pt x="3" y="12"/>
                  <a:pt x="3" y="12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8"/>
                  <a:pt x="2" y="18"/>
                  <a:pt x="2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5"/>
                  <a:pt x="1" y="25"/>
                  <a:pt x="1" y="25"/>
                </a:cubicBezTo>
                <a:cubicBezTo>
                  <a:pt x="3" y="24"/>
                  <a:pt x="3" y="24"/>
                  <a:pt x="3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3" y="26"/>
                  <a:pt x="13" y="26"/>
                  <a:pt x="13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4" y="27"/>
                  <a:pt x="24" y="27"/>
                  <a:pt x="24" y="27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6" y="17"/>
                  <a:pt x="26" y="17"/>
                  <a:pt x="26" y="17"/>
                </a:cubicBezTo>
                <a:cubicBezTo>
                  <a:pt x="29" y="16"/>
                  <a:pt x="29" y="16"/>
                  <a:pt x="29" y="16"/>
                </a:cubicBezTo>
                <a:lnTo>
                  <a:pt x="30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Freeform 302"/>
          <p:cNvSpPr/>
          <p:nvPr/>
        </p:nvSpPr>
        <p:spPr>
          <a:xfrm>
            <a:off x="7140600" y="4105440"/>
            <a:ext cx="271440" cy="152280"/>
          </a:xfrm>
          <a:custGeom>
            <a:avLst/>
            <a:gdLst/>
            <a:ahLst/>
            <a:rect l="l" t="t" r="r" b="b"/>
            <a:pathLst>
              <a:path w="24" h="14">
                <a:moveTo>
                  <a:pt x="8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4" y="10"/>
                  <a:pt x="14" y="10"/>
                  <a:pt x="14" y="10"/>
                </a:cubicBezTo>
                <a:cubicBezTo>
                  <a:pt x="16" y="12"/>
                  <a:pt x="16" y="12"/>
                  <a:pt x="16" y="12"/>
                </a:cubicBezTo>
                <a:cubicBezTo>
                  <a:pt x="18" y="14"/>
                  <a:pt x="18" y="14"/>
                  <a:pt x="18" y="14"/>
                </a:cubicBezTo>
                <a:cubicBezTo>
                  <a:pt x="21" y="13"/>
                  <a:pt x="21" y="13"/>
                  <a:pt x="21" y="13"/>
                </a:cubicBezTo>
                <a:cubicBezTo>
                  <a:pt x="24" y="11"/>
                  <a:pt x="24" y="11"/>
                  <a:pt x="24" y="11"/>
                </a:cubicBezTo>
                <a:cubicBezTo>
                  <a:pt x="23" y="10"/>
                  <a:pt x="23" y="10"/>
                  <a:pt x="23" y="10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5"/>
                  <a:pt x="9" y="5"/>
                  <a:pt x="9" y="5"/>
                </a:cubicBezTo>
                <a:cubicBezTo>
                  <a:pt x="8" y="6"/>
                  <a:pt x="8" y="6"/>
                  <a:pt x="8" y="6"/>
                </a:cubicBezTo>
                <a:cubicBezTo>
                  <a:pt x="5" y="3"/>
                  <a:pt x="5" y="3"/>
                  <a:pt x="5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1" y="7"/>
                  <a:pt x="1" y="8"/>
                </a:cubicBezTo>
                <a:cubicBezTo>
                  <a:pt x="1" y="8"/>
                  <a:pt x="0" y="10"/>
                  <a:pt x="0" y="11"/>
                </a:cubicBezTo>
                <a:cubicBezTo>
                  <a:pt x="4" y="10"/>
                  <a:pt x="4" y="10"/>
                  <a:pt x="4" y="10"/>
                </a:cubicBezTo>
                <a:lnTo>
                  <a:pt x="8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Freeform 303"/>
          <p:cNvSpPr/>
          <p:nvPr/>
        </p:nvSpPr>
        <p:spPr>
          <a:xfrm>
            <a:off x="5859360" y="6168960"/>
            <a:ext cx="268560" cy="200160"/>
          </a:xfrm>
          <a:custGeom>
            <a:avLst/>
            <a:gdLst/>
            <a:ahLst/>
            <a:rect l="l" t="t" r="r" b="b"/>
            <a:pathLst>
              <a:path w="24" h="18">
                <a:moveTo>
                  <a:pt x="9" y="10"/>
                </a:moveTo>
                <a:cubicBezTo>
                  <a:pt x="13" y="10"/>
                  <a:pt x="13" y="10"/>
                  <a:pt x="13" y="1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4"/>
                  <a:pt x="16" y="14"/>
                  <a:pt x="16" y="14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5"/>
                  <a:pt x="19" y="18"/>
                  <a:pt x="20" y="18"/>
                </a:cubicBezTo>
                <a:cubicBezTo>
                  <a:pt x="20" y="18"/>
                  <a:pt x="21" y="17"/>
                  <a:pt x="22" y="17"/>
                </a:cubicBezTo>
                <a:cubicBezTo>
                  <a:pt x="23" y="17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8"/>
                  <a:pt x="24" y="8"/>
                  <a:pt x="24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1"/>
                  <a:pt x="20" y="1"/>
                </a:cubicBezTo>
                <a:cubicBezTo>
                  <a:pt x="20" y="1"/>
                  <a:pt x="16" y="2"/>
                  <a:pt x="16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4"/>
                  <a:pt x="5" y="4"/>
                  <a:pt x="5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6"/>
                  <a:pt x="0" y="6"/>
                  <a:pt x="0" y="6"/>
                </a:cubicBezTo>
                <a:cubicBezTo>
                  <a:pt x="1" y="6"/>
                  <a:pt x="1" y="6"/>
                  <a:pt x="1" y="6"/>
                </a:cubicBezTo>
                <a:cubicBezTo>
                  <a:pt x="6" y="13"/>
                  <a:pt x="6" y="13"/>
                  <a:pt x="6" y="13"/>
                </a:cubicBezTo>
                <a:cubicBezTo>
                  <a:pt x="8" y="12"/>
                  <a:pt x="8" y="12"/>
                  <a:pt x="8" y="12"/>
                </a:cubicBezTo>
                <a:lnTo>
                  <a:pt x="9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Freeform 304"/>
          <p:cNvSpPr/>
          <p:nvPr/>
        </p:nvSpPr>
        <p:spPr>
          <a:xfrm>
            <a:off x="5792760" y="6022800"/>
            <a:ext cx="211320" cy="158760"/>
          </a:xfrm>
          <a:custGeom>
            <a:avLst/>
            <a:gdLst/>
            <a:ahLst/>
            <a:rect l="l" t="t" r="r" b="b"/>
            <a:pathLst>
              <a:path w="114" h="85">
                <a:moveTo>
                  <a:pt x="54" y="79"/>
                </a:moveTo>
                <a:lnTo>
                  <a:pt x="66" y="79"/>
                </a:lnTo>
                <a:lnTo>
                  <a:pt x="78" y="79"/>
                </a:lnTo>
                <a:lnTo>
                  <a:pt x="108" y="85"/>
                </a:lnTo>
                <a:lnTo>
                  <a:pt x="114" y="85"/>
                </a:lnTo>
                <a:lnTo>
                  <a:pt x="102" y="61"/>
                </a:lnTo>
                <a:lnTo>
                  <a:pt x="96" y="43"/>
                </a:lnTo>
                <a:lnTo>
                  <a:pt x="96" y="36"/>
                </a:lnTo>
                <a:lnTo>
                  <a:pt x="84" y="30"/>
                </a:lnTo>
                <a:lnTo>
                  <a:pt x="72" y="18"/>
                </a:lnTo>
                <a:lnTo>
                  <a:pt x="42" y="0"/>
                </a:lnTo>
                <a:lnTo>
                  <a:pt x="30" y="6"/>
                </a:lnTo>
                <a:lnTo>
                  <a:pt x="12" y="6"/>
                </a:lnTo>
                <a:lnTo>
                  <a:pt x="0" y="43"/>
                </a:lnTo>
                <a:lnTo>
                  <a:pt x="12" y="85"/>
                </a:lnTo>
                <a:lnTo>
                  <a:pt x="18" y="85"/>
                </a:lnTo>
                <a:lnTo>
                  <a:pt x="24" y="85"/>
                </a:lnTo>
                <a:lnTo>
                  <a:pt x="5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Freeform 305"/>
          <p:cNvSpPr/>
          <p:nvPr/>
        </p:nvSpPr>
        <p:spPr>
          <a:xfrm>
            <a:off x="5805360" y="5637240"/>
            <a:ext cx="424080" cy="453960"/>
          </a:xfrm>
          <a:custGeom>
            <a:avLst/>
            <a:gdLst/>
            <a:ahLst/>
            <a:rect l="l" t="t" r="r" b="b"/>
            <a:pathLst>
              <a:path w="38" h="41">
                <a:moveTo>
                  <a:pt x="6" y="35"/>
                </a:moveTo>
                <a:cubicBezTo>
                  <a:pt x="11" y="38"/>
                  <a:pt x="11" y="38"/>
                  <a:pt x="11" y="38"/>
                </a:cubicBezTo>
                <a:cubicBezTo>
                  <a:pt x="13" y="40"/>
                  <a:pt x="13" y="40"/>
                  <a:pt x="13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8" y="38"/>
                  <a:pt x="18" y="38"/>
                  <a:pt x="18" y="38"/>
                </a:cubicBezTo>
                <a:cubicBezTo>
                  <a:pt x="20" y="40"/>
                  <a:pt x="20" y="40"/>
                  <a:pt x="20" y="40"/>
                </a:cubicBezTo>
                <a:cubicBezTo>
                  <a:pt x="21" y="39"/>
                  <a:pt x="21" y="39"/>
                  <a:pt x="21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8" y="37"/>
                  <a:pt x="38" y="37"/>
                  <a:pt x="38" y="37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7"/>
                  <a:pt x="33" y="7"/>
                  <a:pt x="33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20"/>
                  <a:pt x="13" y="20"/>
                </a:cubicBezTo>
                <a:cubicBezTo>
                  <a:pt x="13" y="20"/>
                  <a:pt x="5" y="19"/>
                  <a:pt x="1" y="19"/>
                </a:cubicBezTo>
                <a:cubicBezTo>
                  <a:pt x="0" y="20"/>
                  <a:pt x="0" y="20"/>
                  <a:pt x="0" y="20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6"/>
                  <a:pt x="1" y="36"/>
                  <a:pt x="1" y="36"/>
                </a:cubicBezTo>
                <a:cubicBezTo>
                  <a:pt x="4" y="36"/>
                  <a:pt x="4" y="36"/>
                  <a:pt x="4" y="36"/>
                </a:cubicBezTo>
                <a:lnTo>
                  <a:pt x="6" y="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Freeform 306"/>
          <p:cNvSpPr/>
          <p:nvPr/>
        </p:nvSpPr>
        <p:spPr>
          <a:xfrm>
            <a:off x="7265880" y="5448240"/>
            <a:ext cx="401760" cy="387360"/>
          </a:xfrm>
          <a:custGeom>
            <a:avLst/>
            <a:gdLst/>
            <a:ahLst/>
            <a:rect l="l" t="t" r="r" b="b"/>
            <a:pathLst>
              <a:path w="36" h="35">
                <a:moveTo>
                  <a:pt x="0" y="5"/>
                </a:moveTo>
                <a:cubicBezTo>
                  <a:pt x="0" y="5"/>
                  <a:pt x="1" y="7"/>
                  <a:pt x="1" y="8"/>
                </a:cubicBezTo>
                <a:cubicBezTo>
                  <a:pt x="1" y="8"/>
                  <a:pt x="2" y="10"/>
                  <a:pt x="2" y="10"/>
                </a:cubicBezTo>
                <a:cubicBezTo>
                  <a:pt x="2" y="10"/>
                  <a:pt x="1" y="35"/>
                  <a:pt x="2" y="35"/>
                </a:cubicBezTo>
                <a:cubicBezTo>
                  <a:pt x="2" y="35"/>
                  <a:pt x="2" y="35"/>
                  <a:pt x="3" y="35"/>
                </a:cubicBezTo>
                <a:cubicBezTo>
                  <a:pt x="7" y="35"/>
                  <a:pt x="29" y="35"/>
                  <a:pt x="29" y="35"/>
                </a:cubicBezTo>
                <a:cubicBezTo>
                  <a:pt x="34" y="32"/>
                  <a:pt x="34" y="32"/>
                  <a:pt x="34" y="32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3" y="23"/>
                  <a:pt x="33" y="23"/>
                  <a:pt x="33" y="23"/>
                </a:cubicBezTo>
                <a:cubicBezTo>
                  <a:pt x="29" y="15"/>
                  <a:pt x="29" y="15"/>
                  <a:pt x="29" y="15"/>
                </a:cubicBezTo>
                <a:cubicBezTo>
                  <a:pt x="24" y="8"/>
                  <a:pt x="24" y="8"/>
                  <a:pt x="24" y="8"/>
                </a:cubicBezTo>
                <a:cubicBezTo>
                  <a:pt x="31" y="12"/>
                  <a:pt x="31" y="12"/>
                  <a:pt x="31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1"/>
                  <a:pt x="30" y="1"/>
                  <a:pt x="30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2"/>
                  <a:pt x="1" y="2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Freeform 307"/>
          <p:cNvSpPr/>
          <p:nvPr/>
        </p:nvSpPr>
        <p:spPr>
          <a:xfrm>
            <a:off x="6716880" y="5380200"/>
            <a:ext cx="582480" cy="554040"/>
          </a:xfrm>
          <a:custGeom>
            <a:avLst/>
            <a:gdLst/>
            <a:ahLst/>
            <a:rect l="l" t="t" r="r" b="b"/>
            <a:pathLst>
              <a:path w="52" h="50">
                <a:moveTo>
                  <a:pt x="4" y="6"/>
                </a:move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9"/>
                  <a:pt x="0" y="29"/>
                  <a:pt x="0" y="29"/>
                </a:cubicBezTo>
                <a:cubicBezTo>
                  <a:pt x="6" y="34"/>
                  <a:pt x="6" y="34"/>
                  <a:pt x="6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17" y="36"/>
                  <a:pt x="17" y="36"/>
                  <a:pt x="17" y="36"/>
                </a:cubicBezTo>
                <a:cubicBezTo>
                  <a:pt x="19" y="38"/>
                  <a:pt x="19" y="38"/>
                  <a:pt x="19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7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8" y="50"/>
                  <a:pt x="48" y="50"/>
                  <a:pt x="48" y="50"/>
                </a:cubicBezTo>
                <a:cubicBezTo>
                  <a:pt x="48" y="47"/>
                  <a:pt x="48" y="47"/>
                  <a:pt x="48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2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0" y="41"/>
                  <a:pt x="51" y="16"/>
                  <a:pt x="51" y="16"/>
                </a:cubicBezTo>
                <a:cubicBezTo>
                  <a:pt x="51" y="16"/>
                  <a:pt x="50" y="14"/>
                  <a:pt x="50" y="14"/>
                </a:cubicBezTo>
                <a:cubicBezTo>
                  <a:pt x="50" y="13"/>
                  <a:pt x="49" y="11"/>
                  <a:pt x="49" y="11"/>
                </a:cubicBezTo>
                <a:cubicBezTo>
                  <a:pt x="50" y="8"/>
                  <a:pt x="50" y="8"/>
                  <a:pt x="50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48" y="5"/>
                  <a:pt x="48" y="5"/>
                  <a:pt x="48" y="5"/>
                </a:cubicBezTo>
                <a:cubicBezTo>
                  <a:pt x="45" y="3"/>
                  <a:pt x="45" y="3"/>
                  <a:pt x="45" y="3"/>
                </a:cubicBezTo>
                <a:cubicBezTo>
                  <a:pt x="41" y="2"/>
                  <a:pt x="41" y="2"/>
                  <a:pt x="41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8"/>
                  <a:pt x="35" y="8"/>
                  <a:pt x="35" y="8"/>
                </a:cubicBezTo>
                <a:cubicBezTo>
                  <a:pt x="29" y="10"/>
                  <a:pt x="29" y="10"/>
                  <a:pt x="29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2" y="5"/>
                  <a:pt x="22" y="5"/>
                  <a:pt x="22" y="5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8" y="0"/>
                  <a:pt x="8" y="0"/>
                  <a:pt x="8" y="0"/>
                </a:cubicBezTo>
                <a:cubicBezTo>
                  <a:pt x="8" y="2"/>
                  <a:pt x="8" y="2"/>
                  <a:pt x="8" y="2"/>
                </a:cubicBezTo>
                <a:lnTo>
                  <a:pt x="4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Freeform 308"/>
          <p:cNvSpPr/>
          <p:nvPr/>
        </p:nvSpPr>
        <p:spPr>
          <a:xfrm>
            <a:off x="6661080" y="5214960"/>
            <a:ext cx="146160" cy="276120"/>
          </a:xfrm>
          <a:custGeom>
            <a:avLst/>
            <a:gdLst/>
            <a:ahLst/>
            <a:rect l="l" t="t" r="r" b="b"/>
            <a:pathLst>
              <a:path w="78" h="150">
                <a:moveTo>
                  <a:pt x="18" y="12"/>
                </a:moveTo>
                <a:lnTo>
                  <a:pt x="18" y="30"/>
                </a:lnTo>
                <a:lnTo>
                  <a:pt x="18" y="54"/>
                </a:lnTo>
                <a:lnTo>
                  <a:pt x="0" y="78"/>
                </a:lnTo>
                <a:lnTo>
                  <a:pt x="0" y="90"/>
                </a:lnTo>
                <a:lnTo>
                  <a:pt x="12" y="102"/>
                </a:lnTo>
                <a:lnTo>
                  <a:pt x="18" y="108"/>
                </a:lnTo>
                <a:lnTo>
                  <a:pt x="36" y="120"/>
                </a:lnTo>
                <a:lnTo>
                  <a:pt x="36" y="144"/>
                </a:lnTo>
                <a:lnTo>
                  <a:pt x="42" y="150"/>
                </a:lnTo>
                <a:lnTo>
                  <a:pt x="48" y="144"/>
                </a:lnTo>
                <a:lnTo>
                  <a:pt x="54" y="126"/>
                </a:lnTo>
                <a:lnTo>
                  <a:pt x="78" y="102"/>
                </a:lnTo>
                <a:lnTo>
                  <a:pt x="78" y="90"/>
                </a:lnTo>
                <a:lnTo>
                  <a:pt x="60" y="84"/>
                </a:lnTo>
                <a:lnTo>
                  <a:pt x="42" y="72"/>
                </a:lnTo>
                <a:lnTo>
                  <a:pt x="66" y="36"/>
                </a:lnTo>
                <a:lnTo>
                  <a:pt x="60" y="12"/>
                </a:lnTo>
                <a:lnTo>
                  <a:pt x="36" y="0"/>
                </a:lnTo>
                <a:lnTo>
                  <a:pt x="24" y="0"/>
                </a:lnTo>
                <a:lnTo>
                  <a:pt x="24" y="6"/>
                </a:lnTo>
                <a:lnTo>
                  <a:pt x="18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Freeform 309"/>
          <p:cNvSpPr/>
          <p:nvPr/>
        </p:nvSpPr>
        <p:spPr>
          <a:xfrm>
            <a:off x="5940360" y="5281560"/>
            <a:ext cx="422280" cy="322200"/>
          </a:xfrm>
          <a:custGeom>
            <a:avLst/>
            <a:gdLst/>
            <a:ahLst/>
            <a:rect l="l" t="t" r="r" b="b"/>
            <a:pathLst>
              <a:path w="228" h="174">
                <a:moveTo>
                  <a:pt x="90" y="156"/>
                </a:moveTo>
                <a:lnTo>
                  <a:pt x="114" y="138"/>
                </a:lnTo>
                <a:lnTo>
                  <a:pt x="144" y="120"/>
                </a:lnTo>
                <a:lnTo>
                  <a:pt x="180" y="108"/>
                </a:lnTo>
                <a:lnTo>
                  <a:pt x="186" y="96"/>
                </a:lnTo>
                <a:lnTo>
                  <a:pt x="192" y="84"/>
                </a:lnTo>
                <a:lnTo>
                  <a:pt x="216" y="78"/>
                </a:lnTo>
                <a:lnTo>
                  <a:pt x="228" y="72"/>
                </a:lnTo>
                <a:lnTo>
                  <a:pt x="222" y="42"/>
                </a:lnTo>
                <a:lnTo>
                  <a:pt x="216" y="12"/>
                </a:lnTo>
                <a:lnTo>
                  <a:pt x="210" y="12"/>
                </a:lnTo>
                <a:lnTo>
                  <a:pt x="186" y="12"/>
                </a:lnTo>
                <a:lnTo>
                  <a:pt x="168" y="12"/>
                </a:lnTo>
                <a:lnTo>
                  <a:pt x="144" y="0"/>
                </a:lnTo>
                <a:lnTo>
                  <a:pt x="120" y="36"/>
                </a:lnTo>
                <a:lnTo>
                  <a:pt x="96" y="60"/>
                </a:lnTo>
                <a:lnTo>
                  <a:pt x="72" y="90"/>
                </a:lnTo>
                <a:lnTo>
                  <a:pt x="66" y="138"/>
                </a:lnTo>
                <a:lnTo>
                  <a:pt x="12" y="162"/>
                </a:lnTo>
                <a:lnTo>
                  <a:pt x="0" y="174"/>
                </a:lnTo>
                <a:lnTo>
                  <a:pt x="84" y="174"/>
                </a:lnTo>
                <a:lnTo>
                  <a:pt x="90" y="15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Freeform 310"/>
          <p:cNvSpPr/>
          <p:nvPr/>
        </p:nvSpPr>
        <p:spPr>
          <a:xfrm>
            <a:off x="5813280" y="5603760"/>
            <a:ext cx="292320" cy="252360"/>
          </a:xfrm>
          <a:custGeom>
            <a:avLst/>
            <a:gdLst/>
            <a:ahLst/>
            <a:rect l="l" t="t" r="r" b="b"/>
            <a:pathLst>
              <a:path w="26" h="23">
                <a:moveTo>
                  <a:pt x="13" y="16"/>
                </a:moveTo>
                <a:cubicBezTo>
                  <a:pt x="15" y="14"/>
                  <a:pt x="15" y="14"/>
                  <a:pt x="15" y="14"/>
                </a:cubicBezTo>
                <a:cubicBezTo>
                  <a:pt x="16" y="6"/>
                  <a:pt x="16" y="6"/>
                  <a:pt x="1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2"/>
                  <a:pt x="9" y="2"/>
                  <a:pt x="9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22"/>
                  <a:pt x="0" y="22"/>
                  <a:pt x="0" y="22"/>
                </a:cubicBezTo>
                <a:cubicBezTo>
                  <a:pt x="4" y="22"/>
                  <a:pt x="12" y="23"/>
                  <a:pt x="12" y="23"/>
                </a:cubicBezTo>
                <a:cubicBezTo>
                  <a:pt x="13" y="23"/>
                  <a:pt x="13" y="16"/>
                  <a:pt x="13" y="1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Freeform 311"/>
          <p:cNvSpPr/>
          <p:nvPr/>
        </p:nvSpPr>
        <p:spPr>
          <a:xfrm>
            <a:off x="5827680" y="6168960"/>
            <a:ext cx="87480" cy="6660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4"/>
                </a:moveTo>
                <a:lnTo>
                  <a:pt x="48" y="6"/>
                </a:lnTo>
                <a:lnTo>
                  <a:pt x="48" y="0"/>
                </a:lnTo>
                <a:lnTo>
                  <a:pt x="36" y="0"/>
                </a:lnTo>
                <a:lnTo>
                  <a:pt x="6" y="6"/>
                </a:lnTo>
                <a:lnTo>
                  <a:pt x="0" y="6"/>
                </a:lnTo>
                <a:lnTo>
                  <a:pt x="18" y="36"/>
                </a:lnTo>
                <a:lnTo>
                  <a:pt x="36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Freeform 312"/>
          <p:cNvSpPr/>
          <p:nvPr/>
        </p:nvSpPr>
        <p:spPr>
          <a:xfrm>
            <a:off x="7176960" y="5781600"/>
            <a:ext cx="577800" cy="709560"/>
          </a:xfrm>
          <a:custGeom>
            <a:avLst/>
            <a:gdLst/>
            <a:ahLst/>
            <a:rect l="l" t="t" r="r" b="b"/>
            <a:pathLst>
              <a:path w="52" h="64">
                <a:moveTo>
                  <a:pt x="37" y="5"/>
                </a:moveTo>
                <a:cubicBezTo>
                  <a:pt x="37" y="5"/>
                  <a:pt x="15" y="5"/>
                  <a:pt x="11" y="5"/>
                </a:cubicBezTo>
                <a:cubicBezTo>
                  <a:pt x="10" y="11"/>
                  <a:pt x="10" y="11"/>
                  <a:pt x="10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25"/>
                  <a:pt x="5" y="25"/>
                  <a:pt x="5" y="25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3" y="41"/>
                  <a:pt x="3" y="41"/>
                  <a:pt x="3" y="41"/>
                </a:cubicBezTo>
                <a:cubicBezTo>
                  <a:pt x="5" y="45"/>
                  <a:pt x="5" y="45"/>
                  <a:pt x="5" y="45"/>
                </a:cubicBezTo>
                <a:cubicBezTo>
                  <a:pt x="8" y="50"/>
                  <a:pt x="8" y="50"/>
                  <a:pt x="8" y="50"/>
                </a:cubicBezTo>
                <a:cubicBezTo>
                  <a:pt x="12" y="52"/>
                  <a:pt x="12" y="52"/>
                  <a:pt x="12" y="52"/>
                </a:cubicBezTo>
                <a:cubicBezTo>
                  <a:pt x="18" y="58"/>
                  <a:pt x="18" y="58"/>
                  <a:pt x="18" y="58"/>
                </a:cubicBezTo>
                <a:cubicBezTo>
                  <a:pt x="20" y="61"/>
                  <a:pt x="20" y="61"/>
                  <a:pt x="20" y="61"/>
                </a:cubicBezTo>
                <a:cubicBezTo>
                  <a:pt x="25" y="61"/>
                  <a:pt x="25" y="61"/>
                  <a:pt x="25" y="61"/>
                </a:cubicBezTo>
                <a:cubicBezTo>
                  <a:pt x="29" y="64"/>
                  <a:pt x="29" y="64"/>
                  <a:pt x="29" y="64"/>
                </a:cubicBezTo>
                <a:cubicBezTo>
                  <a:pt x="36" y="63"/>
                  <a:pt x="36" y="63"/>
                  <a:pt x="36" y="63"/>
                </a:cubicBezTo>
                <a:cubicBezTo>
                  <a:pt x="41" y="61"/>
                  <a:pt x="41" y="61"/>
                  <a:pt x="41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44" y="59"/>
                  <a:pt x="44" y="59"/>
                  <a:pt x="44" y="59"/>
                </a:cubicBezTo>
                <a:cubicBezTo>
                  <a:pt x="42" y="57"/>
                  <a:pt x="42" y="57"/>
                  <a:pt x="42" y="57"/>
                </a:cubicBezTo>
                <a:cubicBezTo>
                  <a:pt x="39" y="54"/>
                  <a:pt x="39" y="54"/>
                  <a:pt x="39" y="54"/>
                </a:cubicBezTo>
                <a:cubicBezTo>
                  <a:pt x="35" y="51"/>
                  <a:pt x="35" y="51"/>
                  <a:pt x="35" y="51"/>
                </a:cubicBezTo>
                <a:cubicBezTo>
                  <a:pt x="36" y="48"/>
                  <a:pt x="36" y="48"/>
                  <a:pt x="36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2"/>
                  <a:pt x="39" y="42"/>
                  <a:pt x="39" y="42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32"/>
                  <a:pt x="46" y="32"/>
                  <a:pt x="46" y="32"/>
                </a:cubicBezTo>
                <a:cubicBezTo>
                  <a:pt x="47" y="21"/>
                  <a:pt x="47" y="21"/>
                  <a:pt x="47" y="21"/>
                </a:cubicBezTo>
                <a:cubicBezTo>
                  <a:pt x="50" y="19"/>
                  <a:pt x="50" y="19"/>
                  <a:pt x="50" y="19"/>
                </a:cubicBezTo>
                <a:cubicBezTo>
                  <a:pt x="52" y="18"/>
                  <a:pt x="52" y="18"/>
                  <a:pt x="52" y="18"/>
                </a:cubicBezTo>
                <a:cubicBezTo>
                  <a:pt x="50" y="13"/>
                  <a:pt x="50" y="13"/>
                  <a:pt x="50" y="13"/>
                </a:cubicBezTo>
                <a:cubicBezTo>
                  <a:pt x="47" y="4"/>
                  <a:pt x="47" y="4"/>
                  <a:pt x="47" y="4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2"/>
                  <a:pt x="42" y="2"/>
                  <a:pt x="42" y="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Freeform 313"/>
          <p:cNvSpPr/>
          <p:nvPr/>
        </p:nvSpPr>
        <p:spPr>
          <a:xfrm>
            <a:off x="6105600" y="6246720"/>
            <a:ext cx="210960" cy="211320"/>
          </a:xfrm>
          <a:custGeom>
            <a:avLst/>
            <a:gdLst/>
            <a:ahLst/>
            <a:rect l="l" t="t" r="r" b="b"/>
            <a:pathLst>
              <a:path w="19" h="19">
                <a:moveTo>
                  <a:pt x="17" y="10"/>
                </a:moveTo>
                <a:cubicBezTo>
                  <a:pt x="19" y="6"/>
                  <a:pt x="19" y="6"/>
                  <a:pt x="19" y="6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1"/>
                  <a:pt x="8" y="1"/>
                  <a:pt x="8" y="1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4"/>
                  <a:pt x="1" y="14"/>
                </a:cubicBezTo>
                <a:cubicBezTo>
                  <a:pt x="1" y="14"/>
                  <a:pt x="4" y="16"/>
                  <a:pt x="4" y="16"/>
                </a:cubicBezTo>
                <a:cubicBezTo>
                  <a:pt x="4" y="19"/>
                  <a:pt x="4" y="19"/>
                  <a:pt x="4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15" y="16"/>
                  <a:pt x="15" y="16"/>
                  <a:pt x="15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7" y="13"/>
                  <a:pt x="17" y="13"/>
                  <a:pt x="17" y="13"/>
                </a:cubicBezTo>
                <a:lnTo>
                  <a:pt x="17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Freeform 314"/>
          <p:cNvSpPr/>
          <p:nvPr/>
        </p:nvSpPr>
        <p:spPr>
          <a:xfrm>
            <a:off x="5996160" y="6326280"/>
            <a:ext cx="152280" cy="131760"/>
          </a:xfrm>
          <a:custGeom>
            <a:avLst/>
            <a:gdLst/>
            <a:ahLst/>
            <a:rect l="l" t="t" r="r" b="b"/>
            <a:pathLst>
              <a:path w="14" h="12">
                <a:moveTo>
                  <a:pt x="11" y="7"/>
                </a:moveTo>
                <a:cubicBezTo>
                  <a:pt x="10" y="7"/>
                  <a:pt x="11" y="4"/>
                  <a:pt x="11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4"/>
                  <a:pt x="6" y="1"/>
                  <a:pt x="6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5"/>
                  <a:pt x="0" y="5"/>
                  <a:pt x="0" y="5"/>
                </a:cubicBezTo>
                <a:cubicBezTo>
                  <a:pt x="1" y="6"/>
                  <a:pt x="1" y="6"/>
                  <a:pt x="1" y="6"/>
                </a:cubicBezTo>
                <a:cubicBezTo>
                  <a:pt x="10" y="12"/>
                  <a:pt x="10" y="12"/>
                  <a:pt x="10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1" y="7"/>
                  <a:pt x="11" y="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Freeform 315"/>
          <p:cNvSpPr/>
          <p:nvPr/>
        </p:nvSpPr>
        <p:spPr>
          <a:xfrm>
            <a:off x="5925960" y="6281640"/>
            <a:ext cx="113040" cy="98640"/>
          </a:xfrm>
          <a:custGeom>
            <a:avLst/>
            <a:gdLst/>
            <a:ahLst/>
            <a:rect l="l" t="t" r="r" b="b"/>
            <a:pathLst>
              <a:path w="60" h="54">
                <a:moveTo>
                  <a:pt x="54" y="36"/>
                </a:moveTo>
                <a:lnTo>
                  <a:pt x="60" y="24"/>
                </a:lnTo>
                <a:lnTo>
                  <a:pt x="54" y="18"/>
                </a:lnTo>
                <a:lnTo>
                  <a:pt x="42" y="0"/>
                </a:lnTo>
                <a:lnTo>
                  <a:pt x="18" y="0"/>
                </a:lnTo>
                <a:lnTo>
                  <a:pt x="12" y="12"/>
                </a:lnTo>
                <a:lnTo>
                  <a:pt x="0" y="18"/>
                </a:lnTo>
                <a:lnTo>
                  <a:pt x="12" y="30"/>
                </a:lnTo>
                <a:lnTo>
                  <a:pt x="36" y="54"/>
                </a:lnTo>
                <a:lnTo>
                  <a:pt x="42" y="42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Rectangle 316"/>
          <p:cNvSpPr/>
          <p:nvPr/>
        </p:nvSpPr>
        <p:spPr>
          <a:xfrm>
            <a:off x="6091200" y="5603760"/>
            <a:ext cx="14400" cy="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Freeform 317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Freeform 318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Freeform 327"/>
          <p:cNvSpPr/>
          <p:nvPr/>
        </p:nvSpPr>
        <p:spPr>
          <a:xfrm>
            <a:off x="8169120" y="5202360"/>
            <a:ext cx="34920" cy="2376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Freeform 328"/>
          <p:cNvSpPr/>
          <p:nvPr/>
        </p:nvSpPr>
        <p:spPr>
          <a:xfrm>
            <a:off x="8116920" y="5148360"/>
            <a:ext cx="20520" cy="33120"/>
          </a:xfrm>
          <a:custGeom>
            <a:avLst/>
            <a:gdLst/>
            <a:ahLst/>
            <a:rect l="l" t="t" r="r" b="b"/>
            <a:pathLst>
              <a:path w="12" h="18">
                <a:moveTo>
                  <a:pt x="0" y="0"/>
                </a:moveTo>
                <a:lnTo>
                  <a:pt x="12" y="18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Freeform 334"/>
          <p:cNvSpPr/>
          <p:nvPr/>
        </p:nvSpPr>
        <p:spPr>
          <a:xfrm>
            <a:off x="7129440" y="3138480"/>
            <a:ext cx="379440" cy="833400"/>
          </a:xfrm>
          <a:custGeom>
            <a:avLst/>
            <a:gdLst/>
            <a:ahLst/>
            <a:rect l="l" t="t" r="r" b="b"/>
            <a:pathLst>
              <a:path w="34" h="75">
                <a:moveTo>
                  <a:pt x="34" y="55"/>
                </a:moveTo>
                <a:cubicBezTo>
                  <a:pt x="32" y="54"/>
                  <a:pt x="32" y="54"/>
                  <a:pt x="32" y="54"/>
                </a:cubicBezTo>
                <a:cubicBezTo>
                  <a:pt x="30" y="52"/>
                  <a:pt x="30" y="52"/>
                  <a:pt x="30" y="52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47"/>
                  <a:pt x="30" y="46"/>
                  <a:pt x="30" y="45"/>
                </a:cubicBezTo>
                <a:cubicBezTo>
                  <a:pt x="29" y="45"/>
                  <a:pt x="30" y="43"/>
                  <a:pt x="30" y="43"/>
                </a:cubicBezTo>
                <a:cubicBezTo>
                  <a:pt x="29" y="42"/>
                  <a:pt x="29" y="42"/>
                  <a:pt x="29" y="42"/>
                </a:cubicBezTo>
                <a:cubicBezTo>
                  <a:pt x="29" y="40"/>
                  <a:pt x="29" y="40"/>
                  <a:pt x="29" y="40"/>
                </a:cubicBezTo>
                <a:cubicBezTo>
                  <a:pt x="28" y="38"/>
                  <a:pt x="28" y="38"/>
                  <a:pt x="28" y="38"/>
                </a:cubicBezTo>
                <a:cubicBezTo>
                  <a:pt x="30" y="36"/>
                  <a:pt x="30" y="36"/>
                  <a:pt x="30" y="36"/>
                </a:cubicBezTo>
                <a:cubicBezTo>
                  <a:pt x="27" y="27"/>
                  <a:pt x="27" y="27"/>
                  <a:pt x="27" y="27"/>
                </a:cubicBezTo>
                <a:cubicBezTo>
                  <a:pt x="30" y="21"/>
                  <a:pt x="30" y="21"/>
                  <a:pt x="30" y="21"/>
                </a:cubicBezTo>
                <a:cubicBezTo>
                  <a:pt x="28" y="17"/>
                  <a:pt x="28" y="17"/>
                  <a:pt x="28" y="17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3"/>
                  <a:pt x="27" y="3"/>
                  <a:pt x="27" y="3"/>
                </a:cubicBezTo>
                <a:cubicBezTo>
                  <a:pt x="24" y="0"/>
                  <a:pt x="24" y="0"/>
                  <a:pt x="24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5" y="8"/>
                  <a:pt x="15" y="8"/>
                  <a:pt x="15" y="8"/>
                </a:cubicBezTo>
                <a:cubicBezTo>
                  <a:pt x="12" y="11"/>
                  <a:pt x="12" y="11"/>
                  <a:pt x="12" y="11"/>
                </a:cubicBezTo>
                <a:cubicBezTo>
                  <a:pt x="11" y="10"/>
                  <a:pt x="11" y="10"/>
                  <a:pt x="11" y="10"/>
                </a:cubicBezTo>
                <a:cubicBezTo>
                  <a:pt x="8" y="11"/>
                  <a:pt x="8" y="11"/>
                  <a:pt x="8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3" y="8"/>
                  <a:pt x="3" y="8"/>
                  <a:pt x="3" y="8"/>
                </a:cubicBezTo>
                <a:cubicBezTo>
                  <a:pt x="2" y="6"/>
                  <a:pt x="2" y="6"/>
                  <a:pt x="2" y="6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10"/>
                  <a:pt x="1" y="10"/>
                  <a:pt x="1" y="10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12" y="36"/>
                  <a:pt x="12" y="36"/>
                  <a:pt x="12" y="36"/>
                </a:cubicBezTo>
                <a:cubicBezTo>
                  <a:pt x="14" y="40"/>
                  <a:pt x="14" y="40"/>
                  <a:pt x="14" y="40"/>
                </a:cubicBezTo>
                <a:cubicBezTo>
                  <a:pt x="9" y="49"/>
                  <a:pt x="9" y="49"/>
                  <a:pt x="9" y="49"/>
                </a:cubicBezTo>
                <a:cubicBezTo>
                  <a:pt x="4" y="53"/>
                  <a:pt x="4" y="53"/>
                  <a:pt x="4" y="53"/>
                </a:cubicBezTo>
                <a:cubicBezTo>
                  <a:pt x="1" y="58"/>
                  <a:pt x="1" y="58"/>
                  <a:pt x="1" y="58"/>
                </a:cubicBezTo>
                <a:cubicBezTo>
                  <a:pt x="2" y="66"/>
                  <a:pt x="2" y="66"/>
                  <a:pt x="2" y="66"/>
                </a:cubicBezTo>
                <a:cubicBezTo>
                  <a:pt x="3" y="71"/>
                  <a:pt x="3" y="71"/>
                  <a:pt x="3" y="71"/>
                </a:cubicBezTo>
                <a:cubicBezTo>
                  <a:pt x="5" y="73"/>
                  <a:pt x="5" y="73"/>
                  <a:pt x="5" y="73"/>
                </a:cubicBezTo>
                <a:cubicBezTo>
                  <a:pt x="7" y="75"/>
                  <a:pt x="7" y="75"/>
                  <a:pt x="7" y="75"/>
                </a:cubicBezTo>
                <a:cubicBezTo>
                  <a:pt x="12" y="75"/>
                  <a:pt x="12" y="75"/>
                  <a:pt x="12" y="75"/>
                </a:cubicBezTo>
                <a:cubicBezTo>
                  <a:pt x="20" y="72"/>
                  <a:pt x="20" y="72"/>
                  <a:pt x="20" y="72"/>
                </a:cubicBezTo>
                <a:cubicBezTo>
                  <a:pt x="22" y="72"/>
                  <a:pt x="22" y="72"/>
                  <a:pt x="22" y="72"/>
                </a:cubicBezTo>
                <a:cubicBezTo>
                  <a:pt x="34" y="58"/>
                  <a:pt x="34" y="58"/>
                  <a:pt x="34" y="58"/>
                </a:cubicBezTo>
                <a:lnTo>
                  <a:pt x="34" y="5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Freeform 335"/>
          <p:cNvSpPr/>
          <p:nvPr/>
        </p:nvSpPr>
        <p:spPr>
          <a:xfrm>
            <a:off x="7520040" y="4459320"/>
            <a:ext cx="23760" cy="1116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0" y="0"/>
                </a:lnTo>
                <a:lnTo>
                  <a:pt x="0" y="6"/>
                </a:lnTo>
                <a:lnTo>
                  <a:pt x="12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Freeform 336"/>
          <p:cNvSpPr/>
          <p:nvPr/>
        </p:nvSpPr>
        <p:spPr>
          <a:xfrm>
            <a:off x="7375680" y="2203560"/>
            <a:ext cx="5394240" cy="2887560"/>
          </a:xfrm>
          <a:custGeom>
            <a:avLst/>
            <a:gdLst/>
            <a:ahLst/>
            <a:rect l="l" t="t" r="r" b="b"/>
            <a:pathLst>
              <a:path w="483" h="260">
                <a:moveTo>
                  <a:pt x="482" y="127"/>
                </a:moveTo>
                <a:cubicBezTo>
                  <a:pt x="483" y="96"/>
                  <a:pt x="483" y="96"/>
                  <a:pt x="483" y="96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78" y="94"/>
                  <a:pt x="478" y="94"/>
                  <a:pt x="478" y="94"/>
                </a:cubicBezTo>
                <a:cubicBezTo>
                  <a:pt x="478" y="94"/>
                  <a:pt x="474" y="90"/>
                  <a:pt x="474" y="90"/>
                </a:cubicBezTo>
                <a:cubicBezTo>
                  <a:pt x="473" y="89"/>
                  <a:pt x="470" y="89"/>
                  <a:pt x="470" y="89"/>
                </a:cubicBezTo>
                <a:cubicBezTo>
                  <a:pt x="463" y="88"/>
                  <a:pt x="463" y="88"/>
                  <a:pt x="463" y="88"/>
                </a:cubicBezTo>
                <a:cubicBezTo>
                  <a:pt x="459" y="87"/>
                  <a:pt x="459" y="87"/>
                  <a:pt x="459" y="87"/>
                </a:cubicBezTo>
                <a:cubicBezTo>
                  <a:pt x="456" y="87"/>
                  <a:pt x="456" y="87"/>
                  <a:pt x="456" y="87"/>
                </a:cubicBezTo>
                <a:cubicBezTo>
                  <a:pt x="454" y="87"/>
                  <a:pt x="454" y="87"/>
                  <a:pt x="454" y="87"/>
                </a:cubicBezTo>
                <a:cubicBezTo>
                  <a:pt x="455" y="95"/>
                  <a:pt x="455" y="95"/>
                  <a:pt x="455" y="95"/>
                </a:cubicBezTo>
                <a:cubicBezTo>
                  <a:pt x="455" y="95"/>
                  <a:pt x="451" y="97"/>
                  <a:pt x="451" y="97"/>
                </a:cubicBezTo>
                <a:cubicBezTo>
                  <a:pt x="450" y="97"/>
                  <a:pt x="448" y="94"/>
                  <a:pt x="448" y="94"/>
                </a:cubicBezTo>
                <a:cubicBezTo>
                  <a:pt x="445" y="91"/>
                  <a:pt x="445" y="91"/>
                  <a:pt x="445" y="91"/>
                </a:cubicBezTo>
                <a:cubicBezTo>
                  <a:pt x="445" y="89"/>
                  <a:pt x="445" y="89"/>
                  <a:pt x="445" y="89"/>
                </a:cubicBezTo>
                <a:cubicBezTo>
                  <a:pt x="440" y="89"/>
                  <a:pt x="440" y="89"/>
                  <a:pt x="440" y="89"/>
                </a:cubicBezTo>
                <a:cubicBezTo>
                  <a:pt x="437" y="90"/>
                  <a:pt x="437" y="90"/>
                  <a:pt x="437" y="90"/>
                </a:cubicBezTo>
                <a:cubicBezTo>
                  <a:pt x="431" y="89"/>
                  <a:pt x="431" y="89"/>
                  <a:pt x="431" y="89"/>
                </a:cubicBezTo>
                <a:cubicBezTo>
                  <a:pt x="426" y="89"/>
                  <a:pt x="426" y="89"/>
                  <a:pt x="426" y="89"/>
                </a:cubicBezTo>
                <a:cubicBezTo>
                  <a:pt x="423" y="90"/>
                  <a:pt x="423" y="90"/>
                  <a:pt x="423" y="90"/>
                </a:cubicBezTo>
                <a:cubicBezTo>
                  <a:pt x="419" y="87"/>
                  <a:pt x="419" y="87"/>
                  <a:pt x="419" y="87"/>
                </a:cubicBezTo>
                <a:cubicBezTo>
                  <a:pt x="419" y="80"/>
                  <a:pt x="419" y="80"/>
                  <a:pt x="419" y="80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03" y="77"/>
                  <a:pt x="403" y="77"/>
                  <a:pt x="403" y="77"/>
                </a:cubicBezTo>
                <a:cubicBezTo>
                  <a:pt x="394" y="77"/>
                  <a:pt x="394" y="77"/>
                  <a:pt x="394" y="77"/>
                </a:cubicBezTo>
                <a:cubicBezTo>
                  <a:pt x="393" y="75"/>
                  <a:pt x="393" y="75"/>
                  <a:pt x="393" y="75"/>
                </a:cubicBezTo>
                <a:cubicBezTo>
                  <a:pt x="392" y="72"/>
                  <a:pt x="392" y="72"/>
                  <a:pt x="392" y="72"/>
                </a:cubicBezTo>
                <a:cubicBezTo>
                  <a:pt x="386" y="69"/>
                  <a:pt x="386" y="69"/>
                  <a:pt x="386" y="69"/>
                </a:cubicBezTo>
                <a:cubicBezTo>
                  <a:pt x="386" y="64"/>
                  <a:pt x="386" y="64"/>
                  <a:pt x="386" y="64"/>
                </a:cubicBezTo>
                <a:cubicBezTo>
                  <a:pt x="362" y="59"/>
                  <a:pt x="362" y="59"/>
                  <a:pt x="362" y="59"/>
                </a:cubicBezTo>
                <a:cubicBezTo>
                  <a:pt x="361" y="61"/>
                  <a:pt x="361" y="61"/>
                  <a:pt x="361" y="61"/>
                </a:cubicBezTo>
                <a:cubicBezTo>
                  <a:pt x="356" y="65"/>
                  <a:pt x="356" y="65"/>
                  <a:pt x="356" y="65"/>
                </a:cubicBezTo>
                <a:cubicBezTo>
                  <a:pt x="357" y="71"/>
                  <a:pt x="357" y="71"/>
                  <a:pt x="357" y="71"/>
                </a:cubicBezTo>
                <a:cubicBezTo>
                  <a:pt x="351" y="73"/>
                  <a:pt x="351" y="73"/>
                  <a:pt x="351" y="73"/>
                </a:cubicBezTo>
                <a:cubicBezTo>
                  <a:pt x="347" y="72"/>
                  <a:pt x="347" y="72"/>
                  <a:pt x="347" y="72"/>
                </a:cubicBezTo>
                <a:cubicBezTo>
                  <a:pt x="342" y="70"/>
                  <a:pt x="342" y="70"/>
                  <a:pt x="342" y="70"/>
                </a:cubicBezTo>
                <a:cubicBezTo>
                  <a:pt x="340" y="72"/>
                  <a:pt x="340" y="72"/>
                  <a:pt x="340" y="72"/>
                </a:cubicBezTo>
                <a:cubicBezTo>
                  <a:pt x="336" y="71"/>
                  <a:pt x="336" y="71"/>
                  <a:pt x="336" y="71"/>
                </a:cubicBezTo>
                <a:cubicBezTo>
                  <a:pt x="332" y="68"/>
                  <a:pt x="332" y="68"/>
                  <a:pt x="332" y="68"/>
                </a:cubicBezTo>
                <a:cubicBezTo>
                  <a:pt x="331" y="74"/>
                  <a:pt x="331" y="74"/>
                  <a:pt x="331" y="74"/>
                </a:cubicBezTo>
                <a:cubicBezTo>
                  <a:pt x="328" y="78"/>
                  <a:pt x="328" y="78"/>
                  <a:pt x="328" y="78"/>
                </a:cubicBezTo>
                <a:cubicBezTo>
                  <a:pt x="323" y="73"/>
                  <a:pt x="323" y="73"/>
                  <a:pt x="323" y="73"/>
                </a:cubicBezTo>
                <a:cubicBezTo>
                  <a:pt x="320" y="67"/>
                  <a:pt x="320" y="67"/>
                  <a:pt x="320" y="67"/>
                </a:cubicBezTo>
                <a:cubicBezTo>
                  <a:pt x="323" y="60"/>
                  <a:pt x="323" y="60"/>
                  <a:pt x="323" y="60"/>
                </a:cubicBezTo>
                <a:cubicBezTo>
                  <a:pt x="323" y="57"/>
                  <a:pt x="323" y="57"/>
                  <a:pt x="323" y="57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316" y="51"/>
                  <a:pt x="316" y="51"/>
                  <a:pt x="316" y="51"/>
                </a:cubicBezTo>
                <a:cubicBezTo>
                  <a:pt x="312" y="51"/>
                  <a:pt x="312" y="51"/>
                  <a:pt x="312" y="51"/>
                </a:cubicBezTo>
                <a:cubicBezTo>
                  <a:pt x="310" y="49"/>
                  <a:pt x="310" y="49"/>
                  <a:pt x="310" y="49"/>
                </a:cubicBezTo>
                <a:cubicBezTo>
                  <a:pt x="306" y="46"/>
                  <a:pt x="306" y="46"/>
                  <a:pt x="306" y="46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292" y="55"/>
                  <a:pt x="292" y="55"/>
                  <a:pt x="292" y="55"/>
                </a:cubicBezTo>
                <a:cubicBezTo>
                  <a:pt x="287" y="53"/>
                  <a:pt x="287" y="53"/>
                  <a:pt x="287" y="53"/>
                </a:cubicBezTo>
                <a:cubicBezTo>
                  <a:pt x="286" y="49"/>
                  <a:pt x="286" y="49"/>
                  <a:pt x="286" y="49"/>
                </a:cubicBezTo>
                <a:cubicBezTo>
                  <a:pt x="277" y="49"/>
                  <a:pt x="277" y="49"/>
                  <a:pt x="277" y="49"/>
                </a:cubicBezTo>
                <a:cubicBezTo>
                  <a:pt x="272" y="52"/>
                  <a:pt x="272" y="52"/>
                  <a:pt x="272" y="52"/>
                </a:cubicBezTo>
                <a:cubicBezTo>
                  <a:pt x="271" y="49"/>
                  <a:pt x="271" y="49"/>
                  <a:pt x="271" y="49"/>
                </a:cubicBezTo>
                <a:cubicBezTo>
                  <a:pt x="268" y="45"/>
                  <a:pt x="268" y="45"/>
                  <a:pt x="268" y="45"/>
                </a:cubicBezTo>
                <a:cubicBezTo>
                  <a:pt x="264" y="44"/>
                  <a:pt x="264" y="44"/>
                  <a:pt x="264" y="44"/>
                </a:cubicBezTo>
                <a:cubicBezTo>
                  <a:pt x="259" y="49"/>
                  <a:pt x="259" y="49"/>
                  <a:pt x="259" y="49"/>
                </a:cubicBezTo>
                <a:cubicBezTo>
                  <a:pt x="253" y="52"/>
                  <a:pt x="253" y="52"/>
                  <a:pt x="253" y="52"/>
                </a:cubicBezTo>
                <a:cubicBezTo>
                  <a:pt x="247" y="57"/>
                  <a:pt x="247" y="57"/>
                  <a:pt x="247" y="57"/>
                </a:cubicBezTo>
                <a:cubicBezTo>
                  <a:pt x="251" y="51"/>
                  <a:pt x="251" y="51"/>
                  <a:pt x="251" y="51"/>
                </a:cubicBezTo>
                <a:cubicBezTo>
                  <a:pt x="255" y="48"/>
                  <a:pt x="255" y="48"/>
                  <a:pt x="255" y="48"/>
                </a:cubicBezTo>
                <a:cubicBezTo>
                  <a:pt x="262" y="39"/>
                  <a:pt x="262" y="39"/>
                  <a:pt x="262" y="39"/>
                </a:cubicBezTo>
                <a:cubicBezTo>
                  <a:pt x="266" y="35"/>
                  <a:pt x="266" y="35"/>
                  <a:pt x="266" y="35"/>
                </a:cubicBezTo>
                <a:cubicBezTo>
                  <a:pt x="270" y="29"/>
                  <a:pt x="270" y="29"/>
                  <a:pt x="270" y="2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0" y="12"/>
                  <a:pt x="260" y="12"/>
                  <a:pt x="260" y="12"/>
                </a:cubicBezTo>
                <a:cubicBezTo>
                  <a:pt x="254" y="11"/>
                  <a:pt x="254" y="11"/>
                  <a:pt x="254" y="11"/>
                </a:cubicBezTo>
                <a:cubicBezTo>
                  <a:pt x="254" y="8"/>
                  <a:pt x="254" y="8"/>
                  <a:pt x="254" y="8"/>
                </a:cubicBezTo>
                <a:cubicBezTo>
                  <a:pt x="249" y="1"/>
                  <a:pt x="249" y="1"/>
                  <a:pt x="249" y="1"/>
                </a:cubicBezTo>
                <a:cubicBezTo>
                  <a:pt x="249" y="1"/>
                  <a:pt x="242" y="0"/>
                  <a:pt x="241" y="0"/>
                </a:cubicBezTo>
                <a:cubicBezTo>
                  <a:pt x="241" y="1"/>
                  <a:pt x="233" y="9"/>
                  <a:pt x="233" y="9"/>
                </a:cubicBezTo>
                <a:cubicBezTo>
                  <a:pt x="231" y="16"/>
                  <a:pt x="231" y="16"/>
                  <a:pt x="231" y="16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6" y="19"/>
                  <a:pt x="216" y="19"/>
                  <a:pt x="216" y="19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195" y="29"/>
                  <a:pt x="195" y="29"/>
                  <a:pt x="195" y="29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90" y="35"/>
                  <a:pt x="189" y="46"/>
                  <a:pt x="188" y="46"/>
                </a:cubicBezTo>
                <a:cubicBezTo>
                  <a:pt x="187" y="46"/>
                  <a:pt x="172" y="50"/>
                  <a:pt x="172" y="50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69" y="54"/>
                  <a:pt x="171" y="63"/>
                  <a:pt x="170" y="64"/>
                </a:cubicBezTo>
                <a:cubicBezTo>
                  <a:pt x="170" y="64"/>
                  <a:pt x="167" y="63"/>
                  <a:pt x="167" y="63"/>
                </a:cubicBezTo>
                <a:cubicBezTo>
                  <a:pt x="162" y="61"/>
                  <a:pt x="162" y="61"/>
                  <a:pt x="162" y="61"/>
                </a:cubicBezTo>
                <a:cubicBezTo>
                  <a:pt x="162" y="61"/>
                  <a:pt x="160" y="65"/>
                  <a:pt x="158" y="66"/>
                </a:cubicBezTo>
                <a:cubicBezTo>
                  <a:pt x="155" y="67"/>
                  <a:pt x="155" y="62"/>
                  <a:pt x="155" y="62"/>
                </a:cubicBezTo>
                <a:cubicBezTo>
                  <a:pt x="152" y="59"/>
                  <a:pt x="152" y="59"/>
                  <a:pt x="152" y="59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48" y="65"/>
                  <a:pt x="148" y="65"/>
                  <a:pt x="148" y="65"/>
                </a:cubicBezTo>
                <a:cubicBezTo>
                  <a:pt x="148" y="65"/>
                  <a:pt x="148" y="70"/>
                  <a:pt x="148" y="70"/>
                </a:cubicBezTo>
                <a:cubicBezTo>
                  <a:pt x="149" y="71"/>
                  <a:pt x="148" y="79"/>
                  <a:pt x="148" y="79"/>
                </a:cubicBezTo>
                <a:cubicBezTo>
                  <a:pt x="145" y="80"/>
                  <a:pt x="145" y="80"/>
                  <a:pt x="145" y="80"/>
                </a:cubicBezTo>
                <a:cubicBezTo>
                  <a:pt x="143" y="76"/>
                  <a:pt x="143" y="76"/>
                  <a:pt x="143" y="76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3"/>
                  <a:pt x="144" y="63"/>
                  <a:pt x="144" y="63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37" y="56"/>
                  <a:pt x="137" y="56"/>
                  <a:pt x="137" y="56"/>
                </a:cubicBezTo>
                <a:cubicBezTo>
                  <a:pt x="131" y="56"/>
                  <a:pt x="131" y="56"/>
                  <a:pt x="131" y="56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5" y="73"/>
                  <a:pt x="125" y="73"/>
                  <a:pt x="125" y="73"/>
                </a:cubicBezTo>
                <a:cubicBezTo>
                  <a:pt x="123" y="76"/>
                  <a:pt x="123" y="76"/>
                  <a:pt x="123" y="76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28" y="101"/>
                  <a:pt x="128" y="101"/>
                  <a:pt x="128" y="101"/>
                </a:cubicBezTo>
                <a:cubicBezTo>
                  <a:pt x="121" y="94"/>
                  <a:pt x="121" y="94"/>
                  <a:pt x="121" y="94"/>
                </a:cubicBezTo>
                <a:cubicBezTo>
                  <a:pt x="113" y="88"/>
                  <a:pt x="113" y="88"/>
                  <a:pt x="113" y="88"/>
                </a:cubicBezTo>
                <a:cubicBezTo>
                  <a:pt x="108" y="88"/>
                  <a:pt x="108" y="88"/>
                  <a:pt x="108" y="88"/>
                </a:cubicBezTo>
                <a:cubicBezTo>
                  <a:pt x="103" y="88"/>
                  <a:pt x="103" y="88"/>
                  <a:pt x="103" y="88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98" y="95"/>
                  <a:pt x="98" y="95"/>
                  <a:pt x="98" y="95"/>
                </a:cubicBezTo>
                <a:cubicBezTo>
                  <a:pt x="93" y="97"/>
                  <a:pt x="93" y="97"/>
                  <a:pt x="93" y="97"/>
                </a:cubicBezTo>
                <a:cubicBezTo>
                  <a:pt x="89" y="98"/>
                  <a:pt x="89" y="98"/>
                  <a:pt x="89" y="98"/>
                </a:cubicBezTo>
                <a:cubicBezTo>
                  <a:pt x="85" y="99"/>
                  <a:pt x="85" y="99"/>
                  <a:pt x="85" y="99"/>
                </a:cubicBezTo>
                <a:cubicBezTo>
                  <a:pt x="83" y="97"/>
                  <a:pt x="83" y="97"/>
                  <a:pt x="83" y="97"/>
                </a:cubicBezTo>
                <a:cubicBezTo>
                  <a:pt x="79" y="98"/>
                  <a:pt x="79" y="98"/>
                  <a:pt x="79" y="98"/>
                </a:cubicBezTo>
                <a:cubicBezTo>
                  <a:pt x="73" y="102"/>
                  <a:pt x="73" y="102"/>
                  <a:pt x="73" y="102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7" y="106"/>
                  <a:pt x="57" y="106"/>
                  <a:pt x="57" y="106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59" y="100"/>
                  <a:pt x="59" y="100"/>
                  <a:pt x="59" y="100"/>
                </a:cubicBezTo>
                <a:cubicBezTo>
                  <a:pt x="55" y="99"/>
                  <a:pt x="55" y="99"/>
                  <a:pt x="55" y="99"/>
                </a:cubicBezTo>
                <a:cubicBezTo>
                  <a:pt x="53" y="99"/>
                  <a:pt x="53" y="99"/>
                  <a:pt x="53" y="99"/>
                </a:cubicBezTo>
                <a:cubicBezTo>
                  <a:pt x="50" y="98"/>
                  <a:pt x="50" y="98"/>
                  <a:pt x="50" y="98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49" y="116"/>
                  <a:pt x="49" y="116"/>
                  <a:pt x="49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3" y="118"/>
                  <a:pt x="43" y="118"/>
                  <a:pt x="43" y="118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41" y="130"/>
                  <a:pt x="41" y="130"/>
                  <a:pt x="41" y="130"/>
                </a:cubicBezTo>
                <a:cubicBezTo>
                  <a:pt x="41" y="130"/>
                  <a:pt x="39" y="129"/>
                  <a:pt x="39" y="129"/>
                </a:cubicBezTo>
                <a:cubicBezTo>
                  <a:pt x="38" y="128"/>
                  <a:pt x="33" y="128"/>
                  <a:pt x="33" y="128"/>
                </a:cubicBezTo>
                <a:cubicBezTo>
                  <a:pt x="30" y="127"/>
                  <a:pt x="30" y="127"/>
                  <a:pt x="30" y="127"/>
                </a:cubicBezTo>
                <a:cubicBezTo>
                  <a:pt x="30" y="129"/>
                  <a:pt x="30" y="129"/>
                  <a:pt x="30" y="129"/>
                </a:cubicBezTo>
                <a:cubicBezTo>
                  <a:pt x="32" y="132"/>
                  <a:pt x="32" y="132"/>
                  <a:pt x="32" y="132"/>
                </a:cubicBezTo>
                <a:cubicBezTo>
                  <a:pt x="33" y="135"/>
                  <a:pt x="33" y="135"/>
                  <a:pt x="33" y="135"/>
                </a:cubicBezTo>
                <a:cubicBezTo>
                  <a:pt x="31" y="136"/>
                  <a:pt x="31" y="136"/>
                  <a:pt x="31" y="136"/>
                </a:cubicBezTo>
                <a:cubicBezTo>
                  <a:pt x="26" y="133"/>
                  <a:pt x="26" y="133"/>
                  <a:pt x="26" y="133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23" y="128"/>
                  <a:pt x="23" y="128"/>
                  <a:pt x="23" y="128"/>
                </a:cubicBezTo>
                <a:cubicBezTo>
                  <a:pt x="21" y="123"/>
                  <a:pt x="21" y="123"/>
                  <a:pt x="21" y="123"/>
                </a:cubicBezTo>
                <a:cubicBezTo>
                  <a:pt x="23" y="121"/>
                  <a:pt x="23" y="121"/>
                  <a:pt x="23" y="121"/>
                </a:cubicBezTo>
                <a:cubicBezTo>
                  <a:pt x="23" y="118"/>
                  <a:pt x="23" y="118"/>
                  <a:pt x="23" y="118"/>
                </a:cubicBezTo>
                <a:cubicBezTo>
                  <a:pt x="19" y="116"/>
                  <a:pt x="19" y="116"/>
                  <a:pt x="19" y="116"/>
                </a:cubicBezTo>
                <a:cubicBezTo>
                  <a:pt x="15" y="113"/>
                  <a:pt x="15" y="113"/>
                  <a:pt x="15" y="113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22" y="113"/>
                  <a:pt x="22" y="113"/>
                </a:cubicBezTo>
                <a:cubicBezTo>
                  <a:pt x="23" y="113"/>
                  <a:pt x="24" y="116"/>
                  <a:pt x="24" y="116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8" y="117"/>
                  <a:pt x="38" y="117"/>
                  <a:pt x="38" y="117"/>
                </a:cubicBezTo>
                <a:cubicBezTo>
                  <a:pt x="42" y="114"/>
                  <a:pt x="42" y="114"/>
                  <a:pt x="42" y="114"/>
                </a:cubicBezTo>
                <a:cubicBezTo>
                  <a:pt x="43" y="109"/>
                  <a:pt x="43" y="109"/>
                  <a:pt x="43" y="109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0" y="97"/>
                  <a:pt x="30" y="97"/>
                  <a:pt x="30" y="97"/>
                </a:cubicBezTo>
                <a:cubicBezTo>
                  <a:pt x="26" y="93"/>
                  <a:pt x="26" y="93"/>
                  <a:pt x="26" y="93"/>
                </a:cubicBezTo>
                <a:cubicBezTo>
                  <a:pt x="20" y="91"/>
                  <a:pt x="20" y="91"/>
                  <a:pt x="20" y="91"/>
                </a:cubicBezTo>
                <a:cubicBezTo>
                  <a:pt x="17" y="90"/>
                  <a:pt x="17" y="90"/>
                  <a:pt x="17" y="90"/>
                </a:cubicBezTo>
                <a:cubicBezTo>
                  <a:pt x="17" y="87"/>
                  <a:pt x="17" y="87"/>
                  <a:pt x="17" y="87"/>
                </a:cubicBezTo>
                <a:cubicBezTo>
                  <a:pt x="13" y="87"/>
                  <a:pt x="13" y="87"/>
                  <a:pt x="13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9" y="87"/>
                  <a:pt x="9" y="87"/>
                  <a:pt x="9" y="87"/>
                </a:cubicBezTo>
                <a:cubicBezTo>
                  <a:pt x="8" y="89"/>
                  <a:pt x="8" y="89"/>
                  <a:pt x="8" y="89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4"/>
                  <a:pt x="4" y="94"/>
                  <a:pt x="4" y="94"/>
                </a:cubicBezTo>
                <a:cubicBezTo>
                  <a:pt x="3" y="95"/>
                  <a:pt x="3" y="95"/>
                  <a:pt x="3" y="95"/>
                </a:cubicBezTo>
                <a:cubicBezTo>
                  <a:pt x="3" y="96"/>
                  <a:pt x="3" y="96"/>
                  <a:pt x="3" y="96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0"/>
                  <a:pt x="3" y="100"/>
                  <a:pt x="3" y="100"/>
                </a:cubicBezTo>
                <a:cubicBezTo>
                  <a:pt x="6" y="102"/>
                  <a:pt x="6" y="102"/>
                  <a:pt x="6" y="102"/>
                </a:cubicBezTo>
                <a:cubicBezTo>
                  <a:pt x="8" y="107"/>
                  <a:pt x="8" y="107"/>
                  <a:pt x="8" y="107"/>
                </a:cubicBezTo>
                <a:cubicBezTo>
                  <a:pt x="4" y="112"/>
                  <a:pt x="4" y="112"/>
                  <a:pt x="4" y="112"/>
                </a:cubicBezTo>
                <a:cubicBezTo>
                  <a:pt x="8" y="122"/>
                  <a:pt x="8" y="122"/>
                  <a:pt x="8" y="122"/>
                </a:cubicBezTo>
                <a:cubicBezTo>
                  <a:pt x="6" y="124"/>
                  <a:pt x="6" y="124"/>
                  <a:pt x="6" y="124"/>
                </a:cubicBezTo>
                <a:cubicBezTo>
                  <a:pt x="7" y="126"/>
                  <a:pt x="7" y="126"/>
                  <a:pt x="7" y="126"/>
                </a:cubicBezTo>
                <a:cubicBezTo>
                  <a:pt x="6" y="127"/>
                  <a:pt x="6" y="127"/>
                  <a:pt x="6" y="127"/>
                </a:cubicBezTo>
                <a:cubicBezTo>
                  <a:pt x="8" y="129"/>
                  <a:pt x="8" y="129"/>
                  <a:pt x="8" y="129"/>
                </a:cubicBezTo>
                <a:cubicBezTo>
                  <a:pt x="8" y="129"/>
                  <a:pt x="7" y="131"/>
                  <a:pt x="7" y="131"/>
                </a:cubicBezTo>
                <a:cubicBezTo>
                  <a:pt x="8" y="131"/>
                  <a:pt x="9" y="133"/>
                  <a:pt x="9" y="133"/>
                </a:cubicBezTo>
                <a:cubicBezTo>
                  <a:pt x="8" y="137"/>
                  <a:pt x="8" y="137"/>
                  <a:pt x="8" y="137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1" y="143"/>
                  <a:pt x="11" y="143"/>
                  <a:pt x="11" y="143"/>
                </a:cubicBezTo>
                <a:cubicBezTo>
                  <a:pt x="0" y="157"/>
                  <a:pt x="0" y="157"/>
                  <a:pt x="0" y="157"/>
                </a:cubicBezTo>
                <a:cubicBezTo>
                  <a:pt x="2" y="157"/>
                  <a:pt x="2" y="157"/>
                  <a:pt x="2" y="157"/>
                </a:cubicBezTo>
                <a:cubicBezTo>
                  <a:pt x="4" y="158"/>
                  <a:pt x="4" y="158"/>
                  <a:pt x="4" y="158"/>
                </a:cubicBezTo>
                <a:cubicBezTo>
                  <a:pt x="4" y="163"/>
                  <a:pt x="4" y="163"/>
                  <a:pt x="4" y="163"/>
                </a:cubicBezTo>
                <a:cubicBezTo>
                  <a:pt x="1" y="163"/>
                  <a:pt x="1" y="163"/>
                  <a:pt x="1" y="163"/>
                </a:cubicBezTo>
                <a:cubicBezTo>
                  <a:pt x="2" y="164"/>
                  <a:pt x="2" y="164"/>
                  <a:pt x="2" y="164"/>
                </a:cubicBezTo>
                <a:cubicBezTo>
                  <a:pt x="1" y="168"/>
                  <a:pt x="1" y="168"/>
                  <a:pt x="1" y="168"/>
                </a:cubicBezTo>
                <a:cubicBezTo>
                  <a:pt x="1" y="171"/>
                  <a:pt x="1" y="171"/>
                  <a:pt x="1" y="171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3"/>
                  <a:pt x="2" y="183"/>
                  <a:pt x="2" y="183"/>
                </a:cubicBezTo>
                <a:cubicBezTo>
                  <a:pt x="6" y="185"/>
                  <a:pt x="6" y="185"/>
                  <a:pt x="6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13" y="195"/>
                  <a:pt x="13" y="195"/>
                  <a:pt x="13" y="195"/>
                </a:cubicBezTo>
                <a:cubicBezTo>
                  <a:pt x="16" y="197"/>
                  <a:pt x="16" y="197"/>
                  <a:pt x="16" y="197"/>
                </a:cubicBezTo>
                <a:cubicBezTo>
                  <a:pt x="15" y="199"/>
                  <a:pt x="15" y="199"/>
                  <a:pt x="15" y="199"/>
                </a:cubicBezTo>
                <a:cubicBezTo>
                  <a:pt x="12" y="201"/>
                  <a:pt x="12" y="201"/>
                  <a:pt x="12" y="201"/>
                </a:cubicBezTo>
                <a:cubicBezTo>
                  <a:pt x="13" y="204"/>
                  <a:pt x="13" y="204"/>
                  <a:pt x="13" y="204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8" y="205"/>
                  <a:pt x="18" y="205"/>
                  <a:pt x="18" y="205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22" y="209"/>
                  <a:pt x="22" y="209"/>
                  <a:pt x="22" y="209"/>
                </a:cubicBezTo>
                <a:cubicBezTo>
                  <a:pt x="34" y="214"/>
                  <a:pt x="34" y="214"/>
                  <a:pt x="34" y="214"/>
                </a:cubicBezTo>
                <a:cubicBezTo>
                  <a:pt x="35" y="214"/>
                  <a:pt x="35" y="214"/>
                  <a:pt x="35" y="214"/>
                </a:cubicBezTo>
                <a:cubicBezTo>
                  <a:pt x="34" y="219"/>
                  <a:pt x="34" y="219"/>
                  <a:pt x="34" y="219"/>
                </a:cubicBezTo>
                <a:cubicBezTo>
                  <a:pt x="32" y="220"/>
                  <a:pt x="32" y="220"/>
                  <a:pt x="32" y="220"/>
                </a:cubicBezTo>
                <a:cubicBezTo>
                  <a:pt x="30" y="223"/>
                  <a:pt x="30" y="223"/>
                  <a:pt x="30" y="223"/>
                </a:cubicBezTo>
                <a:cubicBezTo>
                  <a:pt x="28" y="225"/>
                  <a:pt x="28" y="225"/>
                  <a:pt x="28" y="225"/>
                </a:cubicBezTo>
                <a:cubicBezTo>
                  <a:pt x="31" y="224"/>
                  <a:pt x="31" y="224"/>
                  <a:pt x="31" y="224"/>
                </a:cubicBezTo>
                <a:cubicBezTo>
                  <a:pt x="29" y="228"/>
                  <a:pt x="29" y="228"/>
                  <a:pt x="29" y="228"/>
                </a:cubicBezTo>
                <a:cubicBezTo>
                  <a:pt x="26" y="232"/>
                  <a:pt x="26" y="232"/>
                  <a:pt x="26" y="232"/>
                </a:cubicBezTo>
                <a:cubicBezTo>
                  <a:pt x="29" y="236"/>
                  <a:pt x="29" y="236"/>
                  <a:pt x="29" y="236"/>
                </a:cubicBezTo>
                <a:cubicBezTo>
                  <a:pt x="35" y="239"/>
                  <a:pt x="35" y="239"/>
                  <a:pt x="35" y="239"/>
                </a:cubicBezTo>
                <a:cubicBezTo>
                  <a:pt x="40" y="244"/>
                  <a:pt x="40" y="244"/>
                  <a:pt x="40" y="244"/>
                </a:cubicBezTo>
                <a:cubicBezTo>
                  <a:pt x="40" y="247"/>
                  <a:pt x="40" y="247"/>
                  <a:pt x="40" y="247"/>
                </a:cubicBezTo>
                <a:cubicBezTo>
                  <a:pt x="42" y="248"/>
                  <a:pt x="42" y="248"/>
                  <a:pt x="42" y="248"/>
                </a:cubicBezTo>
                <a:cubicBezTo>
                  <a:pt x="45" y="248"/>
                  <a:pt x="45" y="248"/>
                  <a:pt x="45" y="248"/>
                </a:cubicBezTo>
                <a:cubicBezTo>
                  <a:pt x="47" y="250"/>
                  <a:pt x="47" y="250"/>
                  <a:pt x="47" y="250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49" y="256"/>
                  <a:pt x="49" y="256"/>
                  <a:pt x="49" y="256"/>
                </a:cubicBezTo>
                <a:cubicBezTo>
                  <a:pt x="52" y="259"/>
                  <a:pt x="52" y="259"/>
                  <a:pt x="52" y="259"/>
                </a:cubicBezTo>
                <a:cubicBezTo>
                  <a:pt x="56" y="259"/>
                  <a:pt x="56" y="259"/>
                  <a:pt x="56" y="259"/>
                </a:cubicBezTo>
                <a:cubicBezTo>
                  <a:pt x="59" y="256"/>
                  <a:pt x="59" y="256"/>
                  <a:pt x="59" y="256"/>
                </a:cubicBezTo>
                <a:cubicBezTo>
                  <a:pt x="61" y="258"/>
                  <a:pt x="61" y="258"/>
                  <a:pt x="61" y="258"/>
                </a:cubicBezTo>
                <a:cubicBezTo>
                  <a:pt x="61" y="260"/>
                  <a:pt x="61" y="260"/>
                  <a:pt x="61" y="260"/>
                </a:cubicBezTo>
                <a:cubicBezTo>
                  <a:pt x="62" y="260"/>
                  <a:pt x="62" y="260"/>
                  <a:pt x="62" y="260"/>
                </a:cubicBezTo>
                <a:cubicBezTo>
                  <a:pt x="64" y="257"/>
                  <a:pt x="64" y="257"/>
                  <a:pt x="64" y="257"/>
                </a:cubicBezTo>
                <a:cubicBezTo>
                  <a:pt x="67" y="253"/>
                  <a:pt x="67" y="253"/>
                  <a:pt x="67" y="253"/>
                </a:cubicBezTo>
                <a:cubicBezTo>
                  <a:pt x="67" y="253"/>
                  <a:pt x="64" y="244"/>
                  <a:pt x="63" y="244"/>
                </a:cubicBezTo>
                <a:cubicBezTo>
                  <a:pt x="62" y="243"/>
                  <a:pt x="56" y="235"/>
                  <a:pt x="56" y="235"/>
                </a:cubicBezTo>
                <a:cubicBezTo>
                  <a:pt x="59" y="229"/>
                  <a:pt x="59" y="229"/>
                  <a:pt x="59" y="229"/>
                </a:cubicBezTo>
                <a:cubicBezTo>
                  <a:pt x="63" y="226"/>
                  <a:pt x="63" y="226"/>
                  <a:pt x="63" y="226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4" y="226"/>
                  <a:pt x="64" y="226"/>
                  <a:pt x="64" y="226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0" y="222"/>
                  <a:pt x="60" y="222"/>
                  <a:pt x="60" y="222"/>
                </a:cubicBezTo>
                <a:cubicBezTo>
                  <a:pt x="63" y="214"/>
                  <a:pt x="63" y="214"/>
                  <a:pt x="63" y="214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7" y="212"/>
                  <a:pt x="87" y="212"/>
                  <a:pt x="87" y="212"/>
                </a:cubicBezTo>
                <a:cubicBezTo>
                  <a:pt x="93" y="211"/>
                  <a:pt x="93" y="211"/>
                  <a:pt x="93" y="211"/>
                </a:cubicBezTo>
                <a:cubicBezTo>
                  <a:pt x="100" y="213"/>
                  <a:pt x="100" y="213"/>
                  <a:pt x="100" y="213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05" y="205"/>
                  <a:pt x="105" y="205"/>
                  <a:pt x="105" y="205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22" y="191"/>
                  <a:pt x="122" y="191"/>
                  <a:pt x="122" y="191"/>
                </a:cubicBezTo>
                <a:cubicBezTo>
                  <a:pt x="134" y="189"/>
                  <a:pt x="134" y="189"/>
                  <a:pt x="134" y="189"/>
                </a:cubicBezTo>
                <a:cubicBezTo>
                  <a:pt x="142" y="198"/>
                  <a:pt x="142" y="198"/>
                  <a:pt x="142" y="198"/>
                </a:cubicBezTo>
                <a:cubicBezTo>
                  <a:pt x="151" y="195"/>
                  <a:pt x="151" y="195"/>
                  <a:pt x="151" y="195"/>
                </a:cubicBezTo>
                <a:cubicBezTo>
                  <a:pt x="156" y="194"/>
                  <a:pt x="156" y="194"/>
                  <a:pt x="156" y="194"/>
                </a:cubicBezTo>
                <a:cubicBezTo>
                  <a:pt x="160" y="203"/>
                  <a:pt x="160" y="203"/>
                  <a:pt x="160" y="203"/>
                </a:cubicBezTo>
                <a:cubicBezTo>
                  <a:pt x="164" y="212"/>
                  <a:pt x="164" y="212"/>
                  <a:pt x="164" y="212"/>
                </a:cubicBezTo>
                <a:cubicBezTo>
                  <a:pt x="174" y="212"/>
                  <a:pt x="174" y="212"/>
                  <a:pt x="174" y="212"/>
                </a:cubicBezTo>
                <a:cubicBezTo>
                  <a:pt x="182" y="216"/>
                  <a:pt x="182" y="216"/>
                  <a:pt x="182" y="216"/>
                </a:cubicBezTo>
                <a:cubicBezTo>
                  <a:pt x="189" y="217"/>
                  <a:pt x="189" y="217"/>
                  <a:pt x="189" y="217"/>
                </a:cubicBezTo>
                <a:cubicBezTo>
                  <a:pt x="189" y="223"/>
                  <a:pt x="189" y="223"/>
                  <a:pt x="189" y="223"/>
                </a:cubicBezTo>
                <a:cubicBezTo>
                  <a:pt x="191" y="222"/>
                  <a:pt x="191" y="222"/>
                  <a:pt x="191" y="222"/>
                </a:cubicBezTo>
                <a:cubicBezTo>
                  <a:pt x="192" y="223"/>
                  <a:pt x="192" y="223"/>
                  <a:pt x="192" y="223"/>
                </a:cubicBezTo>
                <a:cubicBezTo>
                  <a:pt x="194" y="219"/>
                  <a:pt x="194" y="219"/>
                  <a:pt x="194" y="219"/>
                </a:cubicBezTo>
                <a:cubicBezTo>
                  <a:pt x="201" y="214"/>
                  <a:pt x="201" y="214"/>
                  <a:pt x="201" y="214"/>
                </a:cubicBezTo>
                <a:cubicBezTo>
                  <a:pt x="212" y="213"/>
                  <a:pt x="212" y="213"/>
                  <a:pt x="212" y="213"/>
                </a:cubicBezTo>
                <a:cubicBezTo>
                  <a:pt x="220" y="217"/>
                  <a:pt x="220" y="217"/>
                  <a:pt x="220" y="217"/>
                </a:cubicBezTo>
                <a:cubicBezTo>
                  <a:pt x="224" y="211"/>
                  <a:pt x="224" y="211"/>
                  <a:pt x="224" y="211"/>
                </a:cubicBezTo>
                <a:cubicBezTo>
                  <a:pt x="228" y="206"/>
                  <a:pt x="228" y="206"/>
                  <a:pt x="228" y="206"/>
                </a:cubicBezTo>
                <a:cubicBezTo>
                  <a:pt x="240" y="211"/>
                  <a:pt x="240" y="211"/>
                  <a:pt x="240" y="211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53" y="215"/>
                  <a:pt x="253" y="215"/>
                  <a:pt x="253" y="215"/>
                </a:cubicBezTo>
                <a:cubicBezTo>
                  <a:pt x="259" y="220"/>
                  <a:pt x="259" y="220"/>
                  <a:pt x="259" y="220"/>
                </a:cubicBezTo>
                <a:cubicBezTo>
                  <a:pt x="275" y="216"/>
                  <a:pt x="275" y="216"/>
                  <a:pt x="275" y="216"/>
                </a:cubicBezTo>
                <a:cubicBezTo>
                  <a:pt x="282" y="218"/>
                  <a:pt x="282" y="218"/>
                  <a:pt x="282" y="218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9" y="216"/>
                  <a:pt x="289" y="216"/>
                  <a:pt x="289" y="216"/>
                </a:cubicBezTo>
                <a:cubicBezTo>
                  <a:pt x="295" y="205"/>
                  <a:pt x="295" y="205"/>
                  <a:pt x="295" y="205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307" y="200"/>
                  <a:pt x="307" y="200"/>
                  <a:pt x="307" y="200"/>
                </a:cubicBezTo>
                <a:cubicBezTo>
                  <a:pt x="317" y="218"/>
                  <a:pt x="317" y="218"/>
                  <a:pt x="317" y="218"/>
                </a:cubicBezTo>
                <a:cubicBezTo>
                  <a:pt x="325" y="220"/>
                  <a:pt x="325" y="220"/>
                  <a:pt x="325" y="220"/>
                </a:cubicBezTo>
                <a:cubicBezTo>
                  <a:pt x="327" y="224"/>
                  <a:pt x="327" y="224"/>
                  <a:pt x="327" y="224"/>
                </a:cubicBezTo>
                <a:cubicBezTo>
                  <a:pt x="339" y="223"/>
                  <a:pt x="339" y="223"/>
                  <a:pt x="339" y="223"/>
                </a:cubicBezTo>
                <a:cubicBezTo>
                  <a:pt x="334" y="238"/>
                  <a:pt x="334" y="238"/>
                  <a:pt x="334" y="238"/>
                </a:cubicBezTo>
                <a:cubicBezTo>
                  <a:pt x="329" y="239"/>
                  <a:pt x="329" y="239"/>
                  <a:pt x="329" y="239"/>
                </a:cubicBezTo>
                <a:cubicBezTo>
                  <a:pt x="326" y="250"/>
                  <a:pt x="326" y="250"/>
                  <a:pt x="326" y="250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29" y="250"/>
                  <a:pt x="329" y="250"/>
                  <a:pt x="329" y="250"/>
                </a:cubicBezTo>
                <a:cubicBezTo>
                  <a:pt x="331" y="249"/>
                  <a:pt x="331" y="249"/>
                  <a:pt x="331" y="249"/>
                </a:cubicBezTo>
                <a:cubicBezTo>
                  <a:pt x="332" y="249"/>
                  <a:pt x="332" y="249"/>
                  <a:pt x="332" y="249"/>
                </a:cubicBezTo>
                <a:cubicBezTo>
                  <a:pt x="335" y="250"/>
                  <a:pt x="335" y="250"/>
                  <a:pt x="335" y="250"/>
                </a:cubicBezTo>
                <a:cubicBezTo>
                  <a:pt x="342" y="245"/>
                  <a:pt x="342" y="245"/>
                  <a:pt x="342" y="245"/>
                </a:cubicBezTo>
                <a:cubicBezTo>
                  <a:pt x="345" y="241"/>
                  <a:pt x="345" y="241"/>
                  <a:pt x="345" y="241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7" y="223"/>
                  <a:pt x="357" y="223"/>
                  <a:pt x="357" y="223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60" y="203"/>
                  <a:pt x="360" y="203"/>
                  <a:pt x="360" y="203"/>
                </a:cubicBezTo>
                <a:cubicBezTo>
                  <a:pt x="360" y="199"/>
                  <a:pt x="360" y="199"/>
                  <a:pt x="360" y="199"/>
                </a:cubicBezTo>
                <a:cubicBezTo>
                  <a:pt x="355" y="194"/>
                  <a:pt x="355" y="194"/>
                  <a:pt x="355" y="194"/>
                </a:cubicBezTo>
                <a:cubicBezTo>
                  <a:pt x="355" y="194"/>
                  <a:pt x="349" y="198"/>
                  <a:pt x="349" y="198"/>
                </a:cubicBezTo>
                <a:cubicBezTo>
                  <a:pt x="348" y="198"/>
                  <a:pt x="346" y="196"/>
                  <a:pt x="346" y="196"/>
                </a:cubicBezTo>
                <a:cubicBezTo>
                  <a:pt x="344" y="192"/>
                  <a:pt x="344" y="192"/>
                  <a:pt x="344" y="192"/>
                </a:cubicBezTo>
                <a:cubicBezTo>
                  <a:pt x="341" y="192"/>
                  <a:pt x="341" y="192"/>
                  <a:pt x="341" y="192"/>
                </a:cubicBezTo>
                <a:cubicBezTo>
                  <a:pt x="344" y="190"/>
                  <a:pt x="344" y="190"/>
                  <a:pt x="344" y="190"/>
                </a:cubicBezTo>
                <a:cubicBezTo>
                  <a:pt x="349" y="185"/>
                  <a:pt x="349" y="185"/>
                  <a:pt x="349" y="185"/>
                </a:cubicBezTo>
                <a:cubicBezTo>
                  <a:pt x="353" y="180"/>
                  <a:pt x="353" y="180"/>
                  <a:pt x="353" y="180"/>
                </a:cubicBezTo>
                <a:cubicBezTo>
                  <a:pt x="354" y="178"/>
                  <a:pt x="354" y="178"/>
                  <a:pt x="354" y="178"/>
                </a:cubicBezTo>
                <a:cubicBezTo>
                  <a:pt x="367" y="165"/>
                  <a:pt x="367" y="165"/>
                  <a:pt x="367" y="165"/>
                </a:cubicBezTo>
                <a:cubicBezTo>
                  <a:pt x="371" y="164"/>
                  <a:pt x="371" y="164"/>
                  <a:pt x="371" y="164"/>
                </a:cubicBezTo>
                <a:cubicBezTo>
                  <a:pt x="381" y="164"/>
                  <a:pt x="381" y="164"/>
                  <a:pt x="381" y="164"/>
                </a:cubicBezTo>
                <a:cubicBezTo>
                  <a:pt x="386" y="163"/>
                  <a:pt x="386" y="163"/>
                  <a:pt x="386" y="163"/>
                </a:cubicBezTo>
                <a:cubicBezTo>
                  <a:pt x="392" y="165"/>
                  <a:pt x="392" y="165"/>
                  <a:pt x="392" y="165"/>
                </a:cubicBezTo>
                <a:cubicBezTo>
                  <a:pt x="392" y="168"/>
                  <a:pt x="392" y="168"/>
                  <a:pt x="392" y="168"/>
                </a:cubicBezTo>
                <a:cubicBezTo>
                  <a:pt x="392" y="168"/>
                  <a:pt x="400" y="166"/>
                  <a:pt x="401" y="166"/>
                </a:cubicBezTo>
                <a:cubicBezTo>
                  <a:pt x="401" y="167"/>
                  <a:pt x="403" y="166"/>
                  <a:pt x="403" y="166"/>
                </a:cubicBezTo>
                <a:cubicBezTo>
                  <a:pt x="402" y="164"/>
                  <a:pt x="402" y="164"/>
                  <a:pt x="402" y="164"/>
                </a:cubicBezTo>
                <a:cubicBezTo>
                  <a:pt x="403" y="159"/>
                  <a:pt x="403" y="159"/>
                  <a:pt x="403" y="159"/>
                </a:cubicBezTo>
                <a:cubicBezTo>
                  <a:pt x="406" y="153"/>
                  <a:pt x="406" y="153"/>
                  <a:pt x="406" y="153"/>
                </a:cubicBezTo>
                <a:cubicBezTo>
                  <a:pt x="411" y="149"/>
                  <a:pt x="411" y="149"/>
                  <a:pt x="411" y="149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21" y="155"/>
                  <a:pt x="421" y="155"/>
                  <a:pt x="421" y="155"/>
                </a:cubicBezTo>
                <a:cubicBezTo>
                  <a:pt x="426" y="151"/>
                  <a:pt x="426" y="151"/>
                  <a:pt x="426" y="151"/>
                </a:cubicBezTo>
                <a:cubicBezTo>
                  <a:pt x="433" y="144"/>
                  <a:pt x="433" y="144"/>
                  <a:pt x="433" y="144"/>
                </a:cubicBezTo>
                <a:cubicBezTo>
                  <a:pt x="433" y="152"/>
                  <a:pt x="433" y="152"/>
                  <a:pt x="433" y="152"/>
                </a:cubicBezTo>
                <a:cubicBezTo>
                  <a:pt x="427" y="158"/>
                  <a:pt x="427" y="158"/>
                  <a:pt x="427" y="158"/>
                </a:cubicBezTo>
                <a:cubicBezTo>
                  <a:pt x="423" y="160"/>
                  <a:pt x="423" y="160"/>
                  <a:pt x="423" y="160"/>
                </a:cubicBezTo>
                <a:cubicBezTo>
                  <a:pt x="419" y="166"/>
                  <a:pt x="419" y="166"/>
                  <a:pt x="419" y="166"/>
                </a:cubicBezTo>
                <a:cubicBezTo>
                  <a:pt x="416" y="171"/>
                  <a:pt x="416" y="171"/>
                  <a:pt x="416" y="171"/>
                </a:cubicBezTo>
                <a:cubicBezTo>
                  <a:pt x="416" y="171"/>
                  <a:pt x="411" y="173"/>
                  <a:pt x="411" y="174"/>
                </a:cubicBezTo>
                <a:cubicBezTo>
                  <a:pt x="410" y="174"/>
                  <a:pt x="409" y="175"/>
                  <a:pt x="409" y="175"/>
                </a:cubicBezTo>
                <a:cubicBezTo>
                  <a:pt x="405" y="186"/>
                  <a:pt x="405" y="186"/>
                  <a:pt x="405" y="186"/>
                </a:cubicBezTo>
                <a:cubicBezTo>
                  <a:pt x="410" y="210"/>
                  <a:pt x="410" y="210"/>
                  <a:pt x="410" y="210"/>
                </a:cubicBezTo>
                <a:cubicBezTo>
                  <a:pt x="416" y="202"/>
                  <a:pt x="416" y="202"/>
                  <a:pt x="416" y="202"/>
                </a:cubicBezTo>
                <a:cubicBezTo>
                  <a:pt x="418" y="201"/>
                  <a:pt x="418" y="201"/>
                  <a:pt x="418" y="201"/>
                </a:cubicBezTo>
                <a:cubicBezTo>
                  <a:pt x="420" y="196"/>
                  <a:pt x="420" y="196"/>
                  <a:pt x="420" y="196"/>
                </a:cubicBezTo>
                <a:cubicBezTo>
                  <a:pt x="422" y="193"/>
                  <a:pt x="422" y="193"/>
                  <a:pt x="422" y="193"/>
                </a:cubicBezTo>
                <a:cubicBezTo>
                  <a:pt x="426" y="191"/>
                  <a:pt x="426" y="191"/>
                  <a:pt x="426" y="191"/>
                </a:cubicBezTo>
                <a:cubicBezTo>
                  <a:pt x="426" y="186"/>
                  <a:pt x="426" y="186"/>
                  <a:pt x="426" y="186"/>
                </a:cubicBezTo>
                <a:cubicBezTo>
                  <a:pt x="427" y="184"/>
                  <a:pt x="427" y="184"/>
                  <a:pt x="427" y="184"/>
                </a:cubicBezTo>
                <a:cubicBezTo>
                  <a:pt x="429" y="177"/>
                  <a:pt x="429" y="177"/>
                  <a:pt x="429" y="177"/>
                </a:cubicBezTo>
                <a:cubicBezTo>
                  <a:pt x="429" y="175"/>
                  <a:pt x="429" y="175"/>
                  <a:pt x="429" y="175"/>
                </a:cubicBezTo>
                <a:cubicBezTo>
                  <a:pt x="426" y="174"/>
                  <a:pt x="426" y="174"/>
                  <a:pt x="426" y="174"/>
                </a:cubicBezTo>
                <a:cubicBezTo>
                  <a:pt x="430" y="165"/>
                  <a:pt x="430" y="165"/>
                  <a:pt x="430" y="165"/>
                </a:cubicBezTo>
                <a:cubicBezTo>
                  <a:pt x="432" y="162"/>
                  <a:pt x="432" y="162"/>
                  <a:pt x="432" y="162"/>
                </a:cubicBezTo>
                <a:cubicBezTo>
                  <a:pt x="435" y="161"/>
                  <a:pt x="435" y="161"/>
                  <a:pt x="435" y="161"/>
                </a:cubicBezTo>
                <a:cubicBezTo>
                  <a:pt x="438" y="160"/>
                  <a:pt x="438" y="160"/>
                  <a:pt x="438" y="160"/>
                </a:cubicBezTo>
                <a:cubicBezTo>
                  <a:pt x="439" y="162"/>
                  <a:pt x="439" y="162"/>
                  <a:pt x="439" y="162"/>
                </a:cubicBezTo>
                <a:cubicBezTo>
                  <a:pt x="446" y="157"/>
                  <a:pt x="446" y="157"/>
                  <a:pt x="446" y="157"/>
                </a:cubicBezTo>
                <a:cubicBezTo>
                  <a:pt x="446" y="157"/>
                  <a:pt x="452" y="162"/>
                  <a:pt x="452" y="162"/>
                </a:cubicBezTo>
                <a:cubicBezTo>
                  <a:pt x="453" y="162"/>
                  <a:pt x="454" y="157"/>
                  <a:pt x="454" y="157"/>
                </a:cubicBezTo>
                <a:cubicBezTo>
                  <a:pt x="457" y="156"/>
                  <a:pt x="457" y="156"/>
                  <a:pt x="457" y="156"/>
                </a:cubicBezTo>
                <a:cubicBezTo>
                  <a:pt x="457" y="156"/>
                  <a:pt x="463" y="150"/>
                  <a:pt x="464" y="149"/>
                </a:cubicBezTo>
                <a:cubicBezTo>
                  <a:pt x="464" y="149"/>
                  <a:pt x="472" y="145"/>
                  <a:pt x="472" y="145"/>
                </a:cubicBezTo>
                <a:cubicBezTo>
                  <a:pt x="473" y="145"/>
                  <a:pt x="476" y="145"/>
                  <a:pt x="476" y="145"/>
                </a:cubicBezTo>
                <a:cubicBezTo>
                  <a:pt x="480" y="146"/>
                  <a:pt x="480" y="146"/>
                  <a:pt x="480" y="146"/>
                </a:cubicBezTo>
                <a:cubicBezTo>
                  <a:pt x="480" y="144"/>
                  <a:pt x="480" y="144"/>
                  <a:pt x="480" y="144"/>
                </a:cubicBezTo>
                <a:cubicBezTo>
                  <a:pt x="479" y="140"/>
                  <a:pt x="479" y="140"/>
                  <a:pt x="479" y="140"/>
                </a:cubicBezTo>
                <a:cubicBezTo>
                  <a:pt x="478" y="135"/>
                  <a:pt x="478" y="135"/>
                  <a:pt x="478" y="135"/>
                </a:cubicBezTo>
                <a:cubicBezTo>
                  <a:pt x="474" y="131"/>
                  <a:pt x="474" y="131"/>
                  <a:pt x="474" y="131"/>
                </a:cubicBezTo>
                <a:cubicBezTo>
                  <a:pt x="477" y="129"/>
                  <a:pt x="477" y="129"/>
                  <a:pt x="477" y="129"/>
                </a:cubicBezTo>
                <a:lnTo>
                  <a:pt x="482" y="1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1" name="Freeform 337"/>
          <p:cNvSpPr/>
          <p:nvPr/>
        </p:nvSpPr>
        <p:spPr>
          <a:xfrm>
            <a:off x="8204040" y="5214960"/>
            <a:ext cx="101880" cy="11160"/>
          </a:xfrm>
          <a:custGeom>
            <a:avLst/>
            <a:gdLst/>
            <a:ahLst/>
            <a:rect l="l" t="t" r="r" b="b"/>
            <a:pathLst>
              <a:path w="54" h="6">
                <a:moveTo>
                  <a:pt x="6" y="6"/>
                </a:moveTo>
                <a:lnTo>
                  <a:pt x="30" y="6"/>
                </a:lnTo>
                <a:lnTo>
                  <a:pt x="54" y="0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Freeform 338"/>
          <p:cNvSpPr/>
          <p:nvPr/>
        </p:nvSpPr>
        <p:spPr>
          <a:xfrm>
            <a:off x="8048520" y="4281480"/>
            <a:ext cx="1438560" cy="1008000"/>
          </a:xfrm>
          <a:custGeom>
            <a:avLst/>
            <a:gdLst/>
            <a:ahLst/>
            <a:rect l="l" t="t" r="r" b="b"/>
            <a:pathLst>
              <a:path w="129" h="91">
                <a:moveTo>
                  <a:pt x="89" y="79"/>
                </a:moveTo>
                <a:cubicBezTo>
                  <a:pt x="87" y="77"/>
                  <a:pt x="87" y="77"/>
                  <a:pt x="87" y="77"/>
                </a:cubicBezTo>
                <a:cubicBezTo>
                  <a:pt x="88" y="73"/>
                  <a:pt x="88" y="73"/>
                  <a:pt x="88" y="73"/>
                </a:cubicBezTo>
                <a:cubicBezTo>
                  <a:pt x="96" y="71"/>
                  <a:pt x="96" y="71"/>
                  <a:pt x="96" y="71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5" y="63"/>
                  <a:pt x="105" y="63"/>
                  <a:pt x="105" y="63"/>
                </a:cubicBezTo>
                <a:cubicBezTo>
                  <a:pt x="107" y="51"/>
                  <a:pt x="107" y="51"/>
                  <a:pt x="107" y="51"/>
                </a:cubicBezTo>
                <a:cubicBezTo>
                  <a:pt x="114" y="50"/>
                  <a:pt x="114" y="50"/>
                  <a:pt x="114" y="50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124" y="41"/>
                  <a:pt x="124" y="41"/>
                  <a:pt x="124" y="41"/>
                </a:cubicBezTo>
                <a:cubicBezTo>
                  <a:pt x="126" y="35"/>
                  <a:pt x="126" y="35"/>
                  <a:pt x="126" y="35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122" y="27"/>
                  <a:pt x="122" y="27"/>
                  <a:pt x="122" y="27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0" y="14"/>
                  <a:pt x="100" y="14"/>
                  <a:pt x="100" y="14"/>
                </a:cubicBezTo>
                <a:cubicBezTo>
                  <a:pt x="96" y="6"/>
                  <a:pt x="96" y="6"/>
                  <a:pt x="96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82" y="9"/>
                  <a:pt x="82" y="9"/>
                  <a:pt x="82" y="9"/>
                </a:cubicBezTo>
                <a:cubicBezTo>
                  <a:pt x="74" y="0"/>
                  <a:pt x="74" y="0"/>
                  <a:pt x="74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49" y="7"/>
                  <a:pt x="49" y="7"/>
                  <a:pt x="49" y="7"/>
                </a:cubicBezTo>
                <a:cubicBezTo>
                  <a:pt x="45" y="16"/>
                  <a:pt x="45" y="16"/>
                  <a:pt x="45" y="16"/>
                </a:cubicBezTo>
                <a:cubicBezTo>
                  <a:pt x="47" y="23"/>
                  <a:pt x="47" y="23"/>
                  <a:pt x="47" y="23"/>
                </a:cubicBezTo>
                <a:cubicBezTo>
                  <a:pt x="40" y="24"/>
                  <a:pt x="40" y="24"/>
                  <a:pt x="40" y="24"/>
                </a:cubicBezTo>
                <a:cubicBezTo>
                  <a:pt x="33" y="23"/>
                  <a:pt x="33" y="23"/>
                  <a:pt x="33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2" y="20"/>
                  <a:pt x="22" y="20"/>
                  <a:pt x="22" y="20"/>
                </a:cubicBezTo>
                <a:cubicBezTo>
                  <a:pt x="13" y="21"/>
                  <a:pt x="13" y="21"/>
                  <a:pt x="1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7"/>
                  <a:pt x="4" y="37"/>
                  <a:pt x="4" y="37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41"/>
                  <a:pt x="13" y="41"/>
                  <a:pt x="1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6" y="49"/>
                  <a:pt x="26" y="49"/>
                  <a:pt x="26" y="49"/>
                </a:cubicBezTo>
                <a:cubicBezTo>
                  <a:pt x="20" y="50"/>
                  <a:pt x="20" y="50"/>
                  <a:pt x="20" y="50"/>
                </a:cubicBezTo>
                <a:cubicBezTo>
                  <a:pt x="16" y="50"/>
                  <a:pt x="16" y="50"/>
                  <a:pt x="16" y="50"/>
                </a:cubicBezTo>
                <a:cubicBezTo>
                  <a:pt x="13" y="52"/>
                  <a:pt x="13" y="52"/>
                  <a:pt x="13" y="52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20" y="62"/>
                  <a:pt x="20" y="63"/>
                </a:cubicBezTo>
                <a:cubicBezTo>
                  <a:pt x="20" y="64"/>
                  <a:pt x="20" y="72"/>
                  <a:pt x="20" y="72"/>
                </a:cubicBezTo>
                <a:cubicBezTo>
                  <a:pt x="24" y="76"/>
                  <a:pt x="24" y="76"/>
                  <a:pt x="24" y="76"/>
                </a:cubicBezTo>
                <a:cubicBezTo>
                  <a:pt x="23" y="84"/>
                  <a:pt x="23" y="84"/>
                  <a:pt x="23" y="84"/>
                </a:cubicBezTo>
                <a:cubicBezTo>
                  <a:pt x="24" y="82"/>
                  <a:pt x="24" y="82"/>
                  <a:pt x="24" y="82"/>
                </a:cubicBezTo>
                <a:cubicBezTo>
                  <a:pt x="29" y="80"/>
                  <a:pt x="29" y="80"/>
                  <a:pt x="29" y="80"/>
                </a:cubicBezTo>
                <a:cubicBezTo>
                  <a:pt x="33" y="79"/>
                  <a:pt x="33" y="79"/>
                  <a:pt x="33" y="79"/>
                </a:cubicBezTo>
                <a:cubicBezTo>
                  <a:pt x="38" y="82"/>
                  <a:pt x="38" y="82"/>
                  <a:pt x="38" y="82"/>
                </a:cubicBezTo>
                <a:cubicBezTo>
                  <a:pt x="42" y="85"/>
                  <a:pt x="42" y="85"/>
                  <a:pt x="42" y="85"/>
                </a:cubicBezTo>
                <a:cubicBezTo>
                  <a:pt x="46" y="86"/>
                  <a:pt x="46" y="86"/>
                  <a:pt x="46" y="86"/>
                </a:cubicBezTo>
                <a:cubicBezTo>
                  <a:pt x="46" y="89"/>
                  <a:pt x="46" y="89"/>
                  <a:pt x="46" y="89"/>
                </a:cubicBezTo>
                <a:cubicBezTo>
                  <a:pt x="48" y="90"/>
                  <a:pt x="48" y="90"/>
                  <a:pt x="48" y="90"/>
                </a:cubicBezTo>
                <a:cubicBezTo>
                  <a:pt x="51" y="91"/>
                  <a:pt x="51" y="91"/>
                  <a:pt x="51" y="91"/>
                </a:cubicBezTo>
                <a:cubicBezTo>
                  <a:pt x="53" y="89"/>
                  <a:pt x="53" y="89"/>
                  <a:pt x="53" y="89"/>
                </a:cubicBezTo>
                <a:cubicBezTo>
                  <a:pt x="58" y="87"/>
                  <a:pt x="58" y="87"/>
                  <a:pt x="58" y="87"/>
                </a:cubicBezTo>
                <a:cubicBezTo>
                  <a:pt x="59" y="82"/>
                  <a:pt x="59" y="82"/>
                  <a:pt x="59" y="82"/>
                </a:cubicBezTo>
                <a:cubicBezTo>
                  <a:pt x="63" y="83"/>
                  <a:pt x="63" y="83"/>
                  <a:pt x="63" y="83"/>
                </a:cubicBezTo>
                <a:cubicBezTo>
                  <a:pt x="66" y="83"/>
                  <a:pt x="66" y="83"/>
                  <a:pt x="66" y="83"/>
                </a:cubicBezTo>
                <a:cubicBezTo>
                  <a:pt x="68" y="85"/>
                  <a:pt x="68" y="85"/>
                  <a:pt x="68" y="85"/>
                </a:cubicBezTo>
                <a:cubicBezTo>
                  <a:pt x="72" y="84"/>
                  <a:pt x="72" y="84"/>
                  <a:pt x="72" y="84"/>
                </a:cubicBezTo>
                <a:cubicBezTo>
                  <a:pt x="74" y="82"/>
                  <a:pt x="74" y="82"/>
                  <a:pt x="74" y="82"/>
                </a:cubicBezTo>
                <a:cubicBezTo>
                  <a:pt x="77" y="79"/>
                  <a:pt x="77" y="79"/>
                  <a:pt x="77" y="79"/>
                </a:cubicBezTo>
                <a:cubicBezTo>
                  <a:pt x="78" y="80"/>
                  <a:pt x="78" y="80"/>
                  <a:pt x="78" y="80"/>
                </a:cubicBezTo>
                <a:cubicBezTo>
                  <a:pt x="79" y="83"/>
                  <a:pt x="79" y="83"/>
                  <a:pt x="79" y="83"/>
                </a:cubicBezTo>
                <a:cubicBezTo>
                  <a:pt x="82" y="83"/>
                  <a:pt x="82" y="83"/>
                  <a:pt x="82" y="83"/>
                </a:cubicBezTo>
                <a:cubicBezTo>
                  <a:pt x="86" y="82"/>
                  <a:pt x="86" y="82"/>
                  <a:pt x="86" y="82"/>
                </a:cubicBezTo>
                <a:cubicBezTo>
                  <a:pt x="88" y="82"/>
                  <a:pt x="88" y="82"/>
                  <a:pt x="88" y="82"/>
                </a:cubicBezTo>
                <a:cubicBezTo>
                  <a:pt x="88" y="83"/>
                  <a:pt x="88" y="83"/>
                  <a:pt x="88" y="83"/>
                </a:cubicBezTo>
                <a:cubicBezTo>
                  <a:pt x="90" y="82"/>
                  <a:pt x="90" y="82"/>
                  <a:pt x="90" y="82"/>
                </a:cubicBezTo>
                <a:lnTo>
                  <a:pt x="89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3" name="Freeform 339"/>
          <p:cNvSpPr/>
          <p:nvPr/>
        </p:nvSpPr>
        <p:spPr>
          <a:xfrm>
            <a:off x="8137440" y="5181480"/>
            <a:ext cx="31680" cy="208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0" y="12"/>
                </a:lnTo>
                <a:lnTo>
                  <a:pt x="18" y="12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4" name="Rectangle 340"/>
          <p:cNvSpPr/>
          <p:nvPr/>
        </p:nvSpPr>
        <p:spPr>
          <a:xfrm>
            <a:off x="6973920" y="4657680"/>
            <a:ext cx="144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3360" bIns="-63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Freeform 347"/>
          <p:cNvSpPr/>
          <p:nvPr/>
        </p:nvSpPr>
        <p:spPr>
          <a:xfrm>
            <a:off x="6566040" y="3014640"/>
            <a:ext cx="923760" cy="1090800"/>
          </a:xfrm>
          <a:custGeom>
            <a:avLst/>
            <a:gdLst/>
            <a:ahLst/>
            <a:rect l="l" t="t" r="r" b="b"/>
            <a:pathLst>
              <a:path w="83" h="98">
                <a:moveTo>
                  <a:pt x="23" y="87"/>
                </a:moveTo>
                <a:cubicBezTo>
                  <a:pt x="23" y="87"/>
                  <a:pt x="24" y="87"/>
                  <a:pt x="24" y="86"/>
                </a:cubicBezTo>
                <a:cubicBezTo>
                  <a:pt x="24" y="86"/>
                  <a:pt x="24" y="82"/>
                  <a:pt x="24" y="82"/>
                </a:cubicBezTo>
                <a:cubicBezTo>
                  <a:pt x="24" y="80"/>
                  <a:pt x="24" y="80"/>
                  <a:pt x="24" y="80"/>
                </a:cubicBezTo>
                <a:cubicBezTo>
                  <a:pt x="26" y="78"/>
                  <a:pt x="26" y="78"/>
                  <a:pt x="26" y="78"/>
                </a:cubicBezTo>
                <a:cubicBezTo>
                  <a:pt x="24" y="75"/>
                  <a:pt x="24" y="75"/>
                  <a:pt x="24" y="75"/>
                </a:cubicBezTo>
                <a:cubicBezTo>
                  <a:pt x="24" y="75"/>
                  <a:pt x="23" y="70"/>
                  <a:pt x="23" y="70"/>
                </a:cubicBezTo>
                <a:cubicBezTo>
                  <a:pt x="23" y="69"/>
                  <a:pt x="24" y="65"/>
                  <a:pt x="24" y="65"/>
                </a:cubicBezTo>
                <a:cubicBezTo>
                  <a:pt x="24" y="65"/>
                  <a:pt x="24" y="62"/>
                  <a:pt x="24" y="62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59"/>
                  <a:pt x="30" y="59"/>
                  <a:pt x="30" y="59"/>
                </a:cubicBezTo>
                <a:cubicBezTo>
                  <a:pt x="30" y="56"/>
                  <a:pt x="30" y="56"/>
                  <a:pt x="30" y="56"/>
                </a:cubicBezTo>
                <a:cubicBezTo>
                  <a:pt x="29" y="54"/>
                  <a:pt x="29" y="54"/>
                  <a:pt x="29" y="54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44"/>
                  <a:pt x="32" y="44"/>
                  <a:pt x="32" y="44"/>
                </a:cubicBezTo>
                <a:cubicBezTo>
                  <a:pt x="34" y="43"/>
                  <a:pt x="34" y="43"/>
                  <a:pt x="34" y="43"/>
                </a:cubicBezTo>
                <a:cubicBezTo>
                  <a:pt x="36" y="38"/>
                  <a:pt x="36" y="38"/>
                  <a:pt x="36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8" y="30"/>
                  <a:pt x="38" y="30"/>
                  <a:pt x="38" y="30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4" y="24"/>
                  <a:pt x="44" y="24"/>
                  <a:pt x="44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49" y="24"/>
                  <a:pt x="49" y="24"/>
                  <a:pt x="49" y="24"/>
                </a:cubicBezTo>
                <a:cubicBezTo>
                  <a:pt x="49" y="22"/>
                  <a:pt x="49" y="22"/>
                  <a:pt x="49" y="22"/>
                </a:cubicBezTo>
                <a:cubicBezTo>
                  <a:pt x="50" y="19"/>
                  <a:pt x="50" y="19"/>
                  <a:pt x="50" y="19"/>
                </a:cubicBezTo>
                <a:cubicBezTo>
                  <a:pt x="51" y="19"/>
                  <a:pt x="51" y="19"/>
                  <a:pt x="51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7"/>
                  <a:pt x="53" y="17"/>
                  <a:pt x="53" y="17"/>
                </a:cubicBezTo>
                <a:cubicBezTo>
                  <a:pt x="54" y="19"/>
                  <a:pt x="54" y="19"/>
                  <a:pt x="54" y="19"/>
                </a:cubicBezTo>
                <a:cubicBezTo>
                  <a:pt x="56" y="21"/>
                  <a:pt x="56" y="21"/>
                  <a:pt x="56" y="21"/>
                </a:cubicBezTo>
                <a:cubicBezTo>
                  <a:pt x="59" y="22"/>
                  <a:pt x="59" y="22"/>
                  <a:pt x="59" y="22"/>
                </a:cubicBezTo>
                <a:cubicBezTo>
                  <a:pt x="62" y="21"/>
                  <a:pt x="62" y="21"/>
                  <a:pt x="62" y="21"/>
                </a:cubicBezTo>
                <a:cubicBezTo>
                  <a:pt x="63" y="22"/>
                  <a:pt x="63" y="22"/>
                  <a:pt x="63" y="22"/>
                </a:cubicBezTo>
                <a:cubicBezTo>
                  <a:pt x="66" y="19"/>
                  <a:pt x="66" y="19"/>
                  <a:pt x="66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70" y="12"/>
                  <a:pt x="70" y="12"/>
                  <a:pt x="70" y="12"/>
                </a:cubicBezTo>
                <a:cubicBezTo>
                  <a:pt x="75" y="11"/>
                  <a:pt x="75" y="11"/>
                  <a:pt x="75" y="11"/>
                </a:cubicBezTo>
                <a:cubicBezTo>
                  <a:pt x="78" y="14"/>
                  <a:pt x="78" y="14"/>
                  <a:pt x="78" y="14"/>
                </a:cubicBezTo>
                <a:cubicBezTo>
                  <a:pt x="78" y="17"/>
                  <a:pt x="78" y="17"/>
                  <a:pt x="78" y="17"/>
                </a:cubicBezTo>
                <a:cubicBezTo>
                  <a:pt x="77" y="19"/>
                  <a:pt x="77" y="19"/>
                  <a:pt x="77" y="19"/>
                </a:cubicBezTo>
                <a:cubicBezTo>
                  <a:pt x="78" y="18"/>
                  <a:pt x="78" y="18"/>
                  <a:pt x="78" y="18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1" y="15"/>
                  <a:pt x="81" y="15"/>
                  <a:pt x="81" y="15"/>
                </a:cubicBezTo>
                <a:cubicBezTo>
                  <a:pt x="82" y="13"/>
                  <a:pt x="82" y="13"/>
                  <a:pt x="82" y="13"/>
                </a:cubicBezTo>
                <a:cubicBezTo>
                  <a:pt x="81" y="12"/>
                  <a:pt x="81" y="12"/>
                  <a:pt x="81" y="12"/>
                </a:cubicBezTo>
                <a:cubicBezTo>
                  <a:pt x="80" y="9"/>
                  <a:pt x="80" y="9"/>
                  <a:pt x="80" y="9"/>
                </a:cubicBezTo>
                <a:cubicBezTo>
                  <a:pt x="83" y="6"/>
                  <a:pt x="83" y="6"/>
                  <a:pt x="83" y="6"/>
                </a:cubicBezTo>
                <a:cubicBezTo>
                  <a:pt x="80" y="4"/>
                  <a:pt x="80" y="4"/>
                  <a:pt x="80" y="4"/>
                </a:cubicBezTo>
                <a:cubicBezTo>
                  <a:pt x="76" y="0"/>
                  <a:pt x="76" y="0"/>
                  <a:pt x="76" y="0"/>
                </a:cubicBezTo>
                <a:cubicBezTo>
                  <a:pt x="72" y="4"/>
                  <a:pt x="72" y="4"/>
                  <a:pt x="72" y="4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9" y="1"/>
                  <a:pt x="69" y="1"/>
                </a:cubicBezTo>
                <a:cubicBezTo>
                  <a:pt x="66" y="1"/>
                  <a:pt x="66" y="1"/>
                  <a:pt x="66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6"/>
                  <a:pt x="56" y="6"/>
                  <a:pt x="56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3" y="8"/>
                  <a:pt x="53" y="8"/>
                  <a:pt x="53" y="8"/>
                </a:cubicBezTo>
                <a:cubicBezTo>
                  <a:pt x="50" y="8"/>
                  <a:pt x="50" y="8"/>
                  <a:pt x="50" y="8"/>
                </a:cubicBezTo>
                <a:cubicBezTo>
                  <a:pt x="48" y="13"/>
                  <a:pt x="48" y="13"/>
                  <a:pt x="48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2" y="28"/>
                  <a:pt x="32" y="28"/>
                  <a:pt x="32" y="28"/>
                </a:cubicBezTo>
                <a:cubicBezTo>
                  <a:pt x="32" y="31"/>
                  <a:pt x="32" y="31"/>
                  <a:pt x="32" y="31"/>
                </a:cubicBezTo>
                <a:cubicBezTo>
                  <a:pt x="28" y="38"/>
                  <a:pt x="28" y="38"/>
                  <a:pt x="28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6"/>
                  <a:pt x="25" y="46"/>
                  <a:pt x="25" y="46"/>
                </a:cubicBezTo>
                <a:cubicBezTo>
                  <a:pt x="23" y="49"/>
                  <a:pt x="23" y="49"/>
                  <a:pt x="23" y="49"/>
                </a:cubicBezTo>
                <a:cubicBezTo>
                  <a:pt x="17" y="60"/>
                  <a:pt x="17" y="60"/>
                  <a:pt x="17" y="60"/>
                </a:cubicBezTo>
                <a:cubicBezTo>
                  <a:pt x="13" y="63"/>
                  <a:pt x="13" y="63"/>
                  <a:pt x="13" y="63"/>
                </a:cubicBezTo>
                <a:cubicBezTo>
                  <a:pt x="8" y="65"/>
                  <a:pt x="8" y="65"/>
                  <a:pt x="8" y="65"/>
                </a:cubicBezTo>
                <a:cubicBezTo>
                  <a:pt x="6" y="69"/>
                  <a:pt x="6" y="69"/>
                  <a:pt x="6" y="69"/>
                </a:cubicBezTo>
                <a:cubicBezTo>
                  <a:pt x="4" y="71"/>
                  <a:pt x="4" y="71"/>
                  <a:pt x="4" y="71"/>
                </a:cubicBezTo>
                <a:cubicBezTo>
                  <a:pt x="3" y="73"/>
                  <a:pt x="3" y="73"/>
                  <a:pt x="3" y="73"/>
                </a:cubicBezTo>
                <a:cubicBezTo>
                  <a:pt x="2" y="76"/>
                  <a:pt x="2" y="76"/>
                  <a:pt x="2" y="76"/>
                </a:cubicBezTo>
                <a:cubicBezTo>
                  <a:pt x="0" y="79"/>
                  <a:pt x="0" y="79"/>
                  <a:pt x="0" y="79"/>
                </a:cubicBezTo>
                <a:cubicBezTo>
                  <a:pt x="1" y="84"/>
                  <a:pt x="1" y="84"/>
                  <a:pt x="1" y="84"/>
                </a:cubicBezTo>
                <a:cubicBezTo>
                  <a:pt x="2" y="87"/>
                  <a:pt x="2" y="87"/>
                  <a:pt x="2" y="87"/>
                </a:cubicBezTo>
                <a:cubicBezTo>
                  <a:pt x="3" y="91"/>
                  <a:pt x="3" y="91"/>
                  <a:pt x="3" y="91"/>
                </a:cubicBezTo>
                <a:cubicBezTo>
                  <a:pt x="3" y="95"/>
                  <a:pt x="3" y="95"/>
                  <a:pt x="3" y="95"/>
                </a:cubicBezTo>
                <a:cubicBezTo>
                  <a:pt x="7" y="98"/>
                  <a:pt x="7" y="98"/>
                  <a:pt x="7" y="98"/>
                </a:cubicBezTo>
                <a:cubicBezTo>
                  <a:pt x="11" y="97"/>
                  <a:pt x="11" y="97"/>
                  <a:pt x="11" y="97"/>
                </a:cubicBezTo>
                <a:cubicBezTo>
                  <a:pt x="16" y="93"/>
                  <a:pt x="16" y="93"/>
                  <a:pt x="16" y="93"/>
                </a:cubicBezTo>
                <a:cubicBezTo>
                  <a:pt x="19" y="91"/>
                  <a:pt x="19" y="91"/>
                  <a:pt x="19" y="91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2"/>
                  <a:pt x="21" y="92"/>
                  <a:pt x="21" y="92"/>
                </a:cubicBezTo>
                <a:lnTo>
                  <a:pt x="23" y="8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6" name="Freeform 348"/>
          <p:cNvSpPr/>
          <p:nvPr/>
        </p:nvSpPr>
        <p:spPr>
          <a:xfrm>
            <a:off x="6786720" y="3225960"/>
            <a:ext cx="455400" cy="1042920"/>
          </a:xfrm>
          <a:custGeom>
            <a:avLst/>
            <a:gdLst/>
            <a:ahLst/>
            <a:rect l="l" t="t" r="r" b="b"/>
            <a:pathLst>
              <a:path w="10000" h="9895">
                <a:moveTo>
                  <a:pt x="10000" y="2316"/>
                </a:moveTo>
                <a:lnTo>
                  <a:pt x="10000" y="2211"/>
                </a:lnTo>
                <a:lnTo>
                  <a:pt x="9756" y="1895"/>
                </a:lnTo>
                <a:lnTo>
                  <a:pt x="9756" y="1579"/>
                </a:lnTo>
                <a:lnTo>
                  <a:pt x="9756" y="1158"/>
                </a:lnTo>
                <a:lnTo>
                  <a:pt x="9268" y="632"/>
                </a:lnTo>
                <a:lnTo>
                  <a:pt x="9024" y="632"/>
                </a:lnTo>
                <a:lnTo>
                  <a:pt x="8537" y="526"/>
                </a:lnTo>
                <a:lnTo>
                  <a:pt x="7805" y="211"/>
                </a:lnTo>
                <a:lnTo>
                  <a:pt x="7561" y="0"/>
                </a:lnTo>
                <a:lnTo>
                  <a:pt x="7317" y="0"/>
                </a:lnTo>
                <a:lnTo>
                  <a:pt x="7073" y="316"/>
                </a:lnTo>
                <a:lnTo>
                  <a:pt x="7073" y="526"/>
                </a:lnTo>
                <a:lnTo>
                  <a:pt x="6585" y="526"/>
                </a:lnTo>
                <a:lnTo>
                  <a:pt x="5854" y="526"/>
                </a:lnTo>
                <a:lnTo>
                  <a:pt x="5366" y="947"/>
                </a:lnTo>
                <a:lnTo>
                  <a:pt x="5122" y="947"/>
                </a:lnTo>
                <a:lnTo>
                  <a:pt x="4390" y="1158"/>
                </a:lnTo>
                <a:lnTo>
                  <a:pt x="4146" y="1368"/>
                </a:lnTo>
                <a:lnTo>
                  <a:pt x="4390" y="1684"/>
                </a:lnTo>
                <a:lnTo>
                  <a:pt x="3902" y="2000"/>
                </a:lnTo>
                <a:lnTo>
                  <a:pt x="3415" y="2526"/>
                </a:lnTo>
                <a:lnTo>
                  <a:pt x="2927" y="2632"/>
                </a:lnTo>
                <a:lnTo>
                  <a:pt x="2683" y="3263"/>
                </a:lnTo>
                <a:lnTo>
                  <a:pt x="2195" y="3684"/>
                </a:lnTo>
                <a:lnTo>
                  <a:pt x="2439" y="3895"/>
                </a:lnTo>
                <a:lnTo>
                  <a:pt x="2439" y="4211"/>
                </a:lnTo>
                <a:lnTo>
                  <a:pt x="1463" y="4316"/>
                </a:lnTo>
                <a:lnTo>
                  <a:pt x="976" y="4526"/>
                </a:lnTo>
                <a:lnTo>
                  <a:pt x="976" y="4842"/>
                </a:lnTo>
                <a:cubicBezTo>
                  <a:pt x="976" y="4842"/>
                  <a:pt x="732" y="5263"/>
                  <a:pt x="732" y="5368"/>
                </a:cubicBezTo>
                <a:cubicBezTo>
                  <a:pt x="813" y="5544"/>
                  <a:pt x="895" y="5719"/>
                  <a:pt x="976" y="5895"/>
                </a:cubicBezTo>
                <a:lnTo>
                  <a:pt x="1463" y="6211"/>
                </a:lnTo>
                <a:lnTo>
                  <a:pt x="976" y="6421"/>
                </a:lnTo>
                <a:lnTo>
                  <a:pt x="976" y="6632"/>
                </a:lnTo>
                <a:lnTo>
                  <a:pt x="976" y="7053"/>
                </a:lnTo>
                <a:cubicBezTo>
                  <a:pt x="976" y="7158"/>
                  <a:pt x="732" y="7158"/>
                  <a:pt x="732" y="7158"/>
                </a:cubicBezTo>
                <a:lnTo>
                  <a:pt x="244" y="7684"/>
                </a:lnTo>
                <a:lnTo>
                  <a:pt x="0" y="7789"/>
                </a:lnTo>
                <a:cubicBezTo>
                  <a:pt x="488" y="8316"/>
                  <a:pt x="329" y="8217"/>
                  <a:pt x="488" y="8316"/>
                </a:cubicBezTo>
                <a:cubicBezTo>
                  <a:pt x="647" y="8415"/>
                  <a:pt x="746" y="8264"/>
                  <a:pt x="955" y="8384"/>
                </a:cubicBezTo>
                <a:cubicBezTo>
                  <a:pt x="1164" y="8504"/>
                  <a:pt x="1597" y="8867"/>
                  <a:pt x="1740" y="9038"/>
                </a:cubicBezTo>
                <a:cubicBezTo>
                  <a:pt x="1883" y="9209"/>
                  <a:pt x="1786" y="9301"/>
                  <a:pt x="1814" y="9410"/>
                </a:cubicBezTo>
                <a:cubicBezTo>
                  <a:pt x="1842" y="9519"/>
                  <a:pt x="1865" y="9637"/>
                  <a:pt x="1909" y="9693"/>
                </a:cubicBezTo>
                <a:cubicBezTo>
                  <a:pt x="1953" y="9749"/>
                  <a:pt x="1990" y="9709"/>
                  <a:pt x="2078" y="9743"/>
                </a:cubicBezTo>
                <a:cubicBezTo>
                  <a:pt x="2166" y="9777"/>
                  <a:pt x="2338" y="9905"/>
                  <a:pt x="2439" y="9895"/>
                </a:cubicBezTo>
                <a:cubicBezTo>
                  <a:pt x="2540" y="9885"/>
                  <a:pt x="2602" y="9754"/>
                  <a:pt x="2683" y="9684"/>
                </a:cubicBezTo>
                <a:lnTo>
                  <a:pt x="3171" y="9474"/>
                </a:lnTo>
                <a:lnTo>
                  <a:pt x="3902" y="9474"/>
                </a:lnTo>
                <a:lnTo>
                  <a:pt x="4390" y="9053"/>
                </a:lnTo>
                <a:cubicBezTo>
                  <a:pt x="4471" y="8807"/>
                  <a:pt x="4553" y="8562"/>
                  <a:pt x="4634" y="8316"/>
                </a:cubicBezTo>
                <a:lnTo>
                  <a:pt x="4634" y="7895"/>
                </a:lnTo>
                <a:lnTo>
                  <a:pt x="5122" y="7789"/>
                </a:lnTo>
                <a:lnTo>
                  <a:pt x="5854" y="7684"/>
                </a:lnTo>
                <a:lnTo>
                  <a:pt x="5854" y="7158"/>
                </a:lnTo>
                <a:lnTo>
                  <a:pt x="5610" y="6842"/>
                </a:lnTo>
                <a:lnTo>
                  <a:pt x="4878" y="6632"/>
                </a:lnTo>
                <a:cubicBezTo>
                  <a:pt x="4959" y="6386"/>
                  <a:pt x="5041" y="6141"/>
                  <a:pt x="5122" y="5895"/>
                </a:cubicBezTo>
                <a:lnTo>
                  <a:pt x="5122" y="5368"/>
                </a:lnTo>
                <a:lnTo>
                  <a:pt x="5854" y="4842"/>
                </a:lnTo>
                <a:lnTo>
                  <a:pt x="6585" y="4632"/>
                </a:lnTo>
                <a:lnTo>
                  <a:pt x="8049" y="4211"/>
                </a:lnTo>
                <a:lnTo>
                  <a:pt x="8293" y="3895"/>
                </a:lnTo>
                <a:lnTo>
                  <a:pt x="8049" y="3579"/>
                </a:lnTo>
                <a:lnTo>
                  <a:pt x="8537" y="3263"/>
                </a:lnTo>
                <a:lnTo>
                  <a:pt x="9268" y="2842"/>
                </a:lnTo>
                <a:lnTo>
                  <a:pt x="10000" y="2947"/>
                </a:lnTo>
                <a:lnTo>
                  <a:pt x="10000" y="2842"/>
                </a:lnTo>
                <a:lnTo>
                  <a:pt x="10000" y="23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Freeform 349"/>
          <p:cNvSpPr/>
          <p:nvPr/>
        </p:nvSpPr>
        <p:spPr>
          <a:xfrm>
            <a:off x="7176960" y="4459320"/>
            <a:ext cx="635040" cy="407880"/>
          </a:xfrm>
          <a:custGeom>
            <a:avLst/>
            <a:gdLst/>
            <a:ahLst/>
            <a:rect l="l" t="t" r="r" b="b"/>
            <a:pathLst>
              <a:path w="57" h="37">
                <a:moveTo>
                  <a:pt x="54" y="22"/>
                </a:moveTo>
                <a:cubicBezTo>
                  <a:pt x="56" y="21"/>
                  <a:pt x="56" y="21"/>
                  <a:pt x="56" y="21"/>
                </a:cubicBezTo>
                <a:cubicBezTo>
                  <a:pt x="57" y="16"/>
                  <a:pt x="57" y="16"/>
                  <a:pt x="57" y="16"/>
                </a:cubicBezTo>
                <a:cubicBezTo>
                  <a:pt x="57" y="14"/>
                  <a:pt x="57" y="14"/>
                  <a:pt x="57" y="14"/>
                </a:cubicBezTo>
                <a:cubicBezTo>
                  <a:pt x="52" y="12"/>
                  <a:pt x="52" y="12"/>
                  <a:pt x="52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5" y="9"/>
                  <a:pt x="45" y="9"/>
                  <a:pt x="45" y="9"/>
                </a:cubicBezTo>
                <a:cubicBezTo>
                  <a:pt x="42" y="7"/>
                  <a:pt x="42" y="7"/>
                  <a:pt x="42" y="7"/>
                </a:cubicBezTo>
                <a:cubicBezTo>
                  <a:pt x="40" y="4"/>
                  <a:pt x="40" y="4"/>
                  <a:pt x="40" y="4"/>
                </a:cubicBezTo>
                <a:cubicBezTo>
                  <a:pt x="33" y="1"/>
                  <a:pt x="33" y="1"/>
                  <a:pt x="33" y="1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6"/>
                  <a:pt x="28" y="6"/>
                  <a:pt x="28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4"/>
                  <a:pt x="5" y="4"/>
                  <a:pt x="5" y="4"/>
                </a:cubicBezTo>
                <a:cubicBezTo>
                  <a:pt x="6" y="8"/>
                  <a:pt x="6" y="8"/>
                  <a:pt x="6" y="8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12" y="20"/>
                  <a:pt x="12" y="20"/>
                  <a:pt x="12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6" y="26"/>
                  <a:pt x="25" y="28"/>
                </a:cubicBezTo>
                <a:cubicBezTo>
                  <a:pt x="25" y="29"/>
                  <a:pt x="22" y="30"/>
                  <a:pt x="22" y="30"/>
                </a:cubicBezTo>
                <a:cubicBezTo>
                  <a:pt x="21" y="33"/>
                  <a:pt x="21" y="33"/>
                  <a:pt x="21" y="33"/>
                </a:cubicBezTo>
                <a:cubicBezTo>
                  <a:pt x="24" y="34"/>
                  <a:pt x="24" y="34"/>
                  <a:pt x="24" y="34"/>
                </a:cubicBezTo>
                <a:cubicBezTo>
                  <a:pt x="25" y="32"/>
                  <a:pt x="25" y="32"/>
                  <a:pt x="25" y="32"/>
                </a:cubicBezTo>
                <a:cubicBezTo>
                  <a:pt x="30" y="29"/>
                  <a:pt x="30" y="29"/>
                  <a:pt x="30" y="29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34" y="34"/>
                  <a:pt x="34" y="34"/>
                  <a:pt x="34" y="34"/>
                </a:cubicBezTo>
                <a:cubicBezTo>
                  <a:pt x="37" y="37"/>
                  <a:pt x="37" y="37"/>
                  <a:pt x="37" y="37"/>
                </a:cubicBezTo>
                <a:cubicBezTo>
                  <a:pt x="45" y="34"/>
                  <a:pt x="45" y="34"/>
                  <a:pt x="45" y="34"/>
                </a:cubicBezTo>
                <a:cubicBezTo>
                  <a:pt x="41" y="31"/>
                  <a:pt x="41" y="31"/>
                  <a:pt x="41" y="31"/>
                </a:cubicBezTo>
                <a:cubicBezTo>
                  <a:pt x="43" y="28"/>
                  <a:pt x="43" y="28"/>
                  <a:pt x="43" y="28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5"/>
                  <a:pt x="51" y="25"/>
                </a:cubicBezTo>
                <a:lnTo>
                  <a:pt x="54" y="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8" name="Freeform 350"/>
          <p:cNvSpPr/>
          <p:nvPr/>
        </p:nvSpPr>
        <p:spPr>
          <a:xfrm>
            <a:off x="7543800" y="4459320"/>
            <a:ext cx="77760" cy="42840"/>
          </a:xfrm>
          <a:custGeom>
            <a:avLst/>
            <a:gdLst/>
            <a:ahLst/>
            <a:rect l="l" t="t" r="r" b="b"/>
            <a:pathLst>
              <a:path w="42" h="24">
                <a:moveTo>
                  <a:pt x="36" y="24"/>
                </a:moveTo>
                <a:lnTo>
                  <a:pt x="18" y="0"/>
                </a:lnTo>
                <a:lnTo>
                  <a:pt x="0" y="6"/>
                </a:lnTo>
                <a:lnTo>
                  <a:pt x="42" y="24"/>
                </a:lnTo>
                <a:lnTo>
                  <a:pt x="3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9" name="Freeform 359"/>
          <p:cNvSpPr/>
          <p:nvPr/>
        </p:nvSpPr>
        <p:spPr>
          <a:xfrm>
            <a:off x="7097760" y="4281480"/>
            <a:ext cx="111240" cy="66600"/>
          </a:xfrm>
          <a:custGeom>
            <a:avLst/>
            <a:gdLst/>
            <a:ahLst/>
            <a:rect l="l" t="t" r="r" b="b"/>
            <a:pathLst>
              <a:path w="60" h="36">
                <a:moveTo>
                  <a:pt x="54" y="36"/>
                </a:moveTo>
                <a:lnTo>
                  <a:pt x="60" y="24"/>
                </a:lnTo>
                <a:lnTo>
                  <a:pt x="54" y="12"/>
                </a:lnTo>
                <a:lnTo>
                  <a:pt x="42" y="6"/>
                </a:lnTo>
                <a:lnTo>
                  <a:pt x="30" y="0"/>
                </a:lnTo>
                <a:lnTo>
                  <a:pt x="18" y="0"/>
                </a:lnTo>
                <a:lnTo>
                  <a:pt x="6" y="12"/>
                </a:lnTo>
                <a:lnTo>
                  <a:pt x="0" y="18"/>
                </a:lnTo>
                <a:lnTo>
                  <a:pt x="12" y="30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0" name="Freeform 360"/>
          <p:cNvSpPr/>
          <p:nvPr/>
        </p:nvSpPr>
        <p:spPr>
          <a:xfrm>
            <a:off x="6897600" y="4314960"/>
            <a:ext cx="344520" cy="309600"/>
          </a:xfrm>
          <a:custGeom>
            <a:avLst/>
            <a:gdLst/>
            <a:ahLst/>
            <a:rect l="l" t="t" r="r" b="b"/>
            <a:pathLst>
              <a:path w="31" h="28">
                <a:moveTo>
                  <a:pt x="1" y="9"/>
                </a:moveTo>
                <a:cubicBezTo>
                  <a:pt x="1" y="10"/>
                  <a:pt x="1" y="10"/>
                  <a:pt x="1" y="10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7"/>
                  <a:pt x="2" y="17"/>
                </a:cubicBezTo>
                <a:cubicBezTo>
                  <a:pt x="2" y="17"/>
                  <a:pt x="2" y="19"/>
                  <a:pt x="2" y="20"/>
                </a:cubicBezTo>
                <a:cubicBezTo>
                  <a:pt x="6" y="22"/>
                  <a:pt x="6" y="22"/>
                  <a:pt x="6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9" y="28"/>
                  <a:pt x="19" y="28"/>
                  <a:pt x="19" y="28"/>
                </a:cubicBezTo>
                <a:cubicBezTo>
                  <a:pt x="23" y="28"/>
                  <a:pt x="23" y="28"/>
                  <a:pt x="23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9" y="23"/>
                  <a:pt x="29" y="23"/>
                  <a:pt x="29" y="23"/>
                </a:cubicBezTo>
                <a:cubicBezTo>
                  <a:pt x="31" y="21"/>
                  <a:pt x="31" y="21"/>
                  <a:pt x="31" y="21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5"/>
                  <a:pt x="30" y="15"/>
                  <a:pt x="30" y="15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6"/>
                  <a:pt x="30" y="6"/>
                  <a:pt x="30" y="6"/>
                </a:cubicBezTo>
                <a:cubicBezTo>
                  <a:pt x="28" y="3"/>
                  <a:pt x="28" y="3"/>
                  <a:pt x="28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5" y="1"/>
                  <a:pt x="15" y="1"/>
                </a:cubicBezTo>
                <a:cubicBezTo>
                  <a:pt x="14" y="1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lnTo>
                  <a:pt x="1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1" name="Freeform 364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2" name="Freeform 365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Freeform 366"/>
          <p:cNvSpPr/>
          <p:nvPr/>
        </p:nvSpPr>
        <p:spPr>
          <a:xfrm>
            <a:off x="5972040" y="5711760"/>
            <a:ext cx="579600" cy="546120"/>
          </a:xfrm>
          <a:custGeom>
            <a:avLst/>
            <a:gdLst/>
            <a:ahLst/>
            <a:rect l="l" t="t" r="r" b="b"/>
            <a:pathLst>
              <a:path w="52" h="49">
                <a:moveTo>
                  <a:pt x="24" y="44"/>
                </a:moveTo>
                <a:cubicBezTo>
                  <a:pt x="27" y="40"/>
                  <a:pt x="27" y="40"/>
                  <a:pt x="27" y="40"/>
                </a:cubicBezTo>
                <a:cubicBezTo>
                  <a:pt x="32" y="36"/>
                  <a:pt x="32" y="36"/>
                  <a:pt x="32" y="36"/>
                </a:cubicBezTo>
                <a:cubicBezTo>
                  <a:pt x="38" y="33"/>
                  <a:pt x="38" y="33"/>
                  <a:pt x="38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43" y="33"/>
                  <a:pt x="43" y="33"/>
                  <a:pt x="43" y="33"/>
                </a:cubicBezTo>
                <a:cubicBezTo>
                  <a:pt x="50" y="32"/>
                  <a:pt x="50" y="32"/>
                  <a:pt x="50" y="32"/>
                </a:cubicBezTo>
                <a:cubicBezTo>
                  <a:pt x="51" y="29"/>
                  <a:pt x="51" y="29"/>
                  <a:pt x="51" y="29"/>
                </a:cubicBezTo>
                <a:cubicBezTo>
                  <a:pt x="52" y="20"/>
                  <a:pt x="52" y="20"/>
                  <a:pt x="52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47" y="18"/>
                  <a:pt x="47" y="18"/>
                  <a:pt x="47" y="18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23" y="30"/>
                  <a:pt x="23" y="30"/>
                  <a:pt x="23" y="30"/>
                </a:cubicBezTo>
                <a:cubicBezTo>
                  <a:pt x="20" y="32"/>
                  <a:pt x="20" y="32"/>
                  <a:pt x="20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5" y="33"/>
                  <a:pt x="5" y="33"/>
                  <a:pt x="5" y="33"/>
                </a:cubicBezTo>
                <a:cubicBezTo>
                  <a:pt x="3" y="31"/>
                  <a:pt x="3" y="31"/>
                  <a:pt x="3" y="31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3" y="42"/>
                  <a:pt x="3" y="42"/>
                  <a:pt x="3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2" y="43"/>
                  <a:pt x="2" y="43"/>
                  <a:pt x="2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6" y="43"/>
                  <a:pt x="10" y="42"/>
                  <a:pt x="10" y="42"/>
                </a:cubicBezTo>
                <a:cubicBezTo>
                  <a:pt x="11" y="42"/>
                  <a:pt x="11" y="44"/>
                  <a:pt x="11" y="44"/>
                </a:cubicBezTo>
                <a:cubicBezTo>
                  <a:pt x="13" y="49"/>
                  <a:pt x="13" y="49"/>
                  <a:pt x="13" y="49"/>
                </a:cubicBezTo>
                <a:cubicBezTo>
                  <a:pt x="15" y="48"/>
                  <a:pt x="15" y="48"/>
                  <a:pt x="1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22" y="49"/>
                  <a:pt x="22" y="49"/>
                  <a:pt x="22" y="49"/>
                </a:cubicBezTo>
                <a:cubicBezTo>
                  <a:pt x="23" y="49"/>
                  <a:pt x="23" y="49"/>
                  <a:pt x="23" y="49"/>
                </a:cubicBezTo>
                <a:cubicBezTo>
                  <a:pt x="23" y="47"/>
                  <a:pt x="23" y="47"/>
                  <a:pt x="23" y="47"/>
                </a:cubicBezTo>
                <a:lnTo>
                  <a:pt x="24" y="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4" name="Freeform 367"/>
          <p:cNvSpPr/>
          <p:nvPr/>
        </p:nvSpPr>
        <p:spPr>
          <a:xfrm>
            <a:off x="7859880" y="6215040"/>
            <a:ext cx="333360" cy="452520"/>
          </a:xfrm>
          <a:custGeom>
            <a:avLst/>
            <a:gdLst/>
            <a:ahLst/>
            <a:rect l="l" t="t" r="r" b="b"/>
            <a:pathLst>
              <a:path w="180" h="246">
                <a:moveTo>
                  <a:pt x="72" y="18"/>
                </a:moveTo>
                <a:lnTo>
                  <a:pt x="48" y="12"/>
                </a:lnTo>
                <a:lnTo>
                  <a:pt x="48" y="6"/>
                </a:lnTo>
                <a:lnTo>
                  <a:pt x="30" y="18"/>
                </a:lnTo>
                <a:lnTo>
                  <a:pt x="42" y="36"/>
                </a:lnTo>
                <a:lnTo>
                  <a:pt x="84" y="60"/>
                </a:lnTo>
                <a:lnTo>
                  <a:pt x="126" y="66"/>
                </a:lnTo>
                <a:lnTo>
                  <a:pt x="78" y="120"/>
                </a:lnTo>
                <a:lnTo>
                  <a:pt x="36" y="132"/>
                </a:lnTo>
                <a:lnTo>
                  <a:pt x="18" y="144"/>
                </a:lnTo>
                <a:lnTo>
                  <a:pt x="24" y="150"/>
                </a:lnTo>
                <a:lnTo>
                  <a:pt x="18" y="144"/>
                </a:lnTo>
                <a:lnTo>
                  <a:pt x="18" y="150"/>
                </a:lnTo>
                <a:lnTo>
                  <a:pt x="0" y="168"/>
                </a:lnTo>
                <a:lnTo>
                  <a:pt x="0" y="228"/>
                </a:lnTo>
                <a:lnTo>
                  <a:pt x="12" y="246"/>
                </a:lnTo>
                <a:lnTo>
                  <a:pt x="42" y="204"/>
                </a:lnTo>
                <a:lnTo>
                  <a:pt x="90" y="180"/>
                </a:lnTo>
                <a:lnTo>
                  <a:pt x="132" y="132"/>
                </a:lnTo>
                <a:lnTo>
                  <a:pt x="168" y="48"/>
                </a:lnTo>
                <a:lnTo>
                  <a:pt x="180" y="0"/>
                </a:lnTo>
                <a:lnTo>
                  <a:pt x="7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5" name="Freeform 368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Freeform 369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7" name="Freeform 370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  <a:lnTo>
                  <a:pt x="36" y="31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Freeform 371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9" name="Freeform 372"/>
          <p:cNvSpPr/>
          <p:nvPr/>
        </p:nvSpPr>
        <p:spPr>
          <a:xfrm>
            <a:off x="6988320" y="7412040"/>
            <a:ext cx="566640" cy="503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48" y="1"/>
                </a:moveTo>
                <a:cubicBezTo>
                  <a:pt x="47" y="1"/>
                  <a:pt x="47" y="1"/>
                  <a:pt x="47" y="1"/>
                </a:cubicBezTo>
                <a:cubicBezTo>
                  <a:pt x="46" y="2"/>
                  <a:pt x="46" y="2"/>
                  <a:pt x="46" y="2"/>
                </a:cubicBezTo>
                <a:cubicBezTo>
                  <a:pt x="47" y="1"/>
                  <a:pt x="47" y="1"/>
                  <a:pt x="47" y="1"/>
                </a:cubicBezTo>
                <a:cubicBezTo>
                  <a:pt x="41" y="0"/>
                  <a:pt x="41" y="0"/>
                  <a:pt x="41" y="0"/>
                </a:cubicBezTo>
                <a:cubicBezTo>
                  <a:pt x="34" y="5"/>
                  <a:pt x="34" y="5"/>
                  <a:pt x="34" y="5"/>
                </a:cubicBezTo>
                <a:cubicBezTo>
                  <a:pt x="26" y="12"/>
                  <a:pt x="26" y="12"/>
                  <a:pt x="26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15"/>
                  <a:pt x="17" y="15"/>
                  <a:pt x="17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3"/>
                  <a:pt x="13" y="13"/>
                  <a:pt x="13" y="13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23"/>
                  <a:pt x="9" y="23"/>
                  <a:pt x="9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4"/>
                  <a:pt x="0" y="24"/>
                </a:cubicBezTo>
                <a:cubicBezTo>
                  <a:pt x="2" y="27"/>
                  <a:pt x="2" y="27"/>
                  <a:pt x="2" y="27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9"/>
                  <a:pt x="5" y="39"/>
                  <a:pt x="5" y="39"/>
                </a:cubicBezTo>
                <a:cubicBezTo>
                  <a:pt x="9" y="45"/>
                  <a:pt x="9" y="45"/>
                  <a:pt x="9" y="45"/>
                </a:cubicBezTo>
                <a:cubicBezTo>
                  <a:pt x="17" y="43"/>
                  <a:pt x="17" y="43"/>
                  <a:pt x="17" y="43"/>
                </a:cubicBezTo>
                <a:cubicBezTo>
                  <a:pt x="25" y="42"/>
                  <a:pt x="25" y="42"/>
                  <a:pt x="25" y="42"/>
                </a:cubicBezTo>
                <a:cubicBezTo>
                  <a:pt x="32" y="41"/>
                  <a:pt x="32" y="41"/>
                  <a:pt x="32" y="41"/>
                </a:cubicBezTo>
                <a:cubicBezTo>
                  <a:pt x="47" y="25"/>
                  <a:pt x="47" y="25"/>
                  <a:pt x="47" y="25"/>
                </a:cubicBezTo>
                <a:cubicBezTo>
                  <a:pt x="47" y="25"/>
                  <a:pt x="50" y="19"/>
                  <a:pt x="51" y="16"/>
                </a:cubicBezTo>
                <a:cubicBezTo>
                  <a:pt x="51" y="16"/>
                  <a:pt x="51" y="16"/>
                  <a:pt x="51" y="16"/>
                </a:cubicBezTo>
                <a:cubicBezTo>
                  <a:pt x="49" y="16"/>
                  <a:pt x="49" y="16"/>
                  <a:pt x="49" y="16"/>
                </a:cubicBezTo>
                <a:lnTo>
                  <a:pt x="48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Freeform 373"/>
          <p:cNvSpPr/>
          <p:nvPr/>
        </p:nvSpPr>
        <p:spPr>
          <a:xfrm>
            <a:off x="7110360" y="7246800"/>
            <a:ext cx="335160" cy="335160"/>
          </a:xfrm>
          <a:custGeom>
            <a:avLst/>
            <a:gdLst/>
            <a:ahLst/>
            <a:rect l="l" t="t" r="r" b="b"/>
            <a:pathLst>
              <a:path w="180" h="180">
                <a:moveTo>
                  <a:pt x="144" y="54"/>
                </a:moveTo>
                <a:lnTo>
                  <a:pt x="132" y="54"/>
                </a:lnTo>
                <a:lnTo>
                  <a:pt x="114" y="30"/>
                </a:lnTo>
                <a:lnTo>
                  <a:pt x="102" y="6"/>
                </a:lnTo>
                <a:lnTo>
                  <a:pt x="96" y="6"/>
                </a:lnTo>
                <a:lnTo>
                  <a:pt x="84" y="12"/>
                </a:lnTo>
                <a:lnTo>
                  <a:pt x="96" y="6"/>
                </a:lnTo>
                <a:lnTo>
                  <a:pt x="84" y="0"/>
                </a:lnTo>
                <a:lnTo>
                  <a:pt x="66" y="6"/>
                </a:lnTo>
                <a:lnTo>
                  <a:pt x="18" y="18"/>
                </a:lnTo>
                <a:lnTo>
                  <a:pt x="12" y="84"/>
                </a:lnTo>
                <a:lnTo>
                  <a:pt x="0" y="90"/>
                </a:lnTo>
                <a:lnTo>
                  <a:pt x="0" y="144"/>
                </a:lnTo>
                <a:lnTo>
                  <a:pt x="12" y="168"/>
                </a:lnTo>
                <a:lnTo>
                  <a:pt x="18" y="180"/>
                </a:lnTo>
                <a:lnTo>
                  <a:pt x="36" y="180"/>
                </a:lnTo>
                <a:lnTo>
                  <a:pt x="66" y="162"/>
                </a:lnTo>
                <a:lnTo>
                  <a:pt x="90" y="162"/>
                </a:lnTo>
                <a:lnTo>
                  <a:pt x="138" y="120"/>
                </a:lnTo>
                <a:lnTo>
                  <a:pt x="180" y="90"/>
                </a:lnTo>
                <a:lnTo>
                  <a:pt x="150" y="78"/>
                </a:lnTo>
                <a:lnTo>
                  <a:pt x="144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1" name="Freeform 374"/>
          <p:cNvSpPr/>
          <p:nvPr/>
        </p:nvSpPr>
        <p:spPr>
          <a:xfrm>
            <a:off x="7454880" y="6989760"/>
            <a:ext cx="382680" cy="601560"/>
          </a:xfrm>
          <a:custGeom>
            <a:avLst/>
            <a:gdLst/>
            <a:ahLst/>
            <a:rect l="l" t="t" r="r" b="b"/>
            <a:pathLst>
              <a:path w="34" h="54">
                <a:moveTo>
                  <a:pt x="22" y="2"/>
                </a:moveTo>
                <a:cubicBezTo>
                  <a:pt x="17" y="3"/>
                  <a:pt x="17" y="3"/>
                  <a:pt x="17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6" y="8"/>
                  <a:pt x="16" y="8"/>
                  <a:pt x="16" y="8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6"/>
                  <a:pt x="19" y="16"/>
                  <a:pt x="19" y="16"/>
                </a:cubicBezTo>
                <a:cubicBezTo>
                  <a:pt x="16" y="18"/>
                  <a:pt x="16" y="18"/>
                  <a:pt x="16" y="18"/>
                </a:cubicBezTo>
                <a:cubicBezTo>
                  <a:pt x="15" y="16"/>
                  <a:pt x="15" y="16"/>
                  <a:pt x="15" y="16"/>
                </a:cubicBezTo>
                <a:cubicBezTo>
                  <a:pt x="13" y="13"/>
                  <a:pt x="13" y="13"/>
                  <a:pt x="13" y="13"/>
                </a:cubicBezTo>
                <a:cubicBezTo>
                  <a:pt x="9" y="11"/>
                  <a:pt x="9" y="11"/>
                  <a:pt x="9" y="1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36"/>
                  <a:pt x="7" y="36"/>
                  <a:pt x="7" y="36"/>
                </a:cubicBezTo>
                <a:cubicBezTo>
                  <a:pt x="5" y="39"/>
                  <a:pt x="5" y="39"/>
                  <a:pt x="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7" y="54"/>
                  <a:pt x="7" y="54"/>
                  <a:pt x="7" y="54"/>
                </a:cubicBezTo>
                <a:cubicBezTo>
                  <a:pt x="9" y="54"/>
                  <a:pt x="9" y="54"/>
                  <a:pt x="9" y="54"/>
                </a:cubicBezTo>
                <a:cubicBezTo>
                  <a:pt x="10" y="51"/>
                  <a:pt x="9" y="51"/>
                  <a:pt x="9" y="51"/>
                </a:cubicBezTo>
                <a:cubicBezTo>
                  <a:pt x="16" y="45"/>
                  <a:pt x="16" y="45"/>
                  <a:pt x="16" y="45"/>
                </a:cubicBezTo>
                <a:cubicBezTo>
                  <a:pt x="18" y="40"/>
                  <a:pt x="18" y="40"/>
                  <a:pt x="18" y="40"/>
                </a:cubicBezTo>
                <a:cubicBezTo>
                  <a:pt x="16" y="31"/>
                  <a:pt x="16" y="31"/>
                  <a:pt x="16" y="31"/>
                </a:cubicBezTo>
                <a:cubicBezTo>
                  <a:pt x="21" y="25"/>
                  <a:pt x="21" y="25"/>
                  <a:pt x="21" y="25"/>
                </a:cubicBezTo>
                <a:cubicBezTo>
                  <a:pt x="30" y="20"/>
                  <a:pt x="30" y="20"/>
                  <a:pt x="30" y="20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1"/>
                  <a:pt x="34" y="11"/>
                  <a:pt x="34" y="11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1"/>
                  <a:pt x="30" y="1"/>
                  <a:pt x="30" y="1"/>
                </a:cubicBezTo>
                <a:lnTo>
                  <a:pt x="22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Freeform 375"/>
          <p:cNvSpPr/>
          <p:nvPr/>
        </p:nvSpPr>
        <p:spPr>
          <a:xfrm>
            <a:off x="7454880" y="6647040"/>
            <a:ext cx="370080" cy="377640"/>
          </a:xfrm>
          <a:custGeom>
            <a:avLst/>
            <a:gdLst/>
            <a:ahLst/>
            <a:rect l="l" t="t" r="r" b="b"/>
            <a:pathLst>
              <a:path w="33" h="34">
                <a:moveTo>
                  <a:pt x="25" y="6"/>
                </a:move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5"/>
                  <a:pt x="12" y="5"/>
                  <a:pt x="12" y="5"/>
                </a:cubicBezTo>
                <a:cubicBezTo>
                  <a:pt x="8" y="5"/>
                  <a:pt x="8" y="5"/>
                  <a:pt x="8" y="5"/>
                </a:cubicBezTo>
                <a:cubicBezTo>
                  <a:pt x="6" y="1"/>
                  <a:pt x="6" y="1"/>
                  <a:pt x="6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8"/>
                  <a:pt x="2" y="8"/>
                  <a:pt x="2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9"/>
                  <a:pt x="2" y="19"/>
                  <a:pt x="2" y="19"/>
                </a:cubicBezTo>
                <a:cubicBezTo>
                  <a:pt x="4" y="24"/>
                  <a:pt x="4" y="24"/>
                  <a:pt x="4" y="24"/>
                </a:cubicBezTo>
                <a:cubicBezTo>
                  <a:pt x="4" y="24"/>
                  <a:pt x="8" y="26"/>
                  <a:pt x="9" y="26"/>
                </a:cubicBezTo>
                <a:cubicBezTo>
                  <a:pt x="9" y="26"/>
                  <a:pt x="14" y="27"/>
                  <a:pt x="14" y="27"/>
                </a:cubicBezTo>
                <a:cubicBezTo>
                  <a:pt x="15" y="29"/>
                  <a:pt x="15" y="29"/>
                  <a:pt x="15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22" y="33"/>
                  <a:pt x="22" y="33"/>
                  <a:pt x="22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1" y="28"/>
                  <a:pt x="31" y="28"/>
                  <a:pt x="31" y="28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28" y="15"/>
                  <a:pt x="28" y="14"/>
                </a:cubicBezTo>
                <a:cubicBezTo>
                  <a:pt x="28" y="13"/>
                  <a:pt x="29" y="12"/>
                  <a:pt x="30" y="12"/>
                </a:cubicBezTo>
                <a:cubicBezTo>
                  <a:pt x="25" y="9"/>
                  <a:pt x="25" y="9"/>
                  <a:pt x="25" y="9"/>
                </a:cubicBezTo>
                <a:lnTo>
                  <a:pt x="25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3" name="Freeform 376"/>
          <p:cNvSpPr/>
          <p:nvPr/>
        </p:nvSpPr>
        <p:spPr>
          <a:xfrm>
            <a:off x="6829560" y="6823080"/>
            <a:ext cx="425160" cy="42372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7"/>
                </a:moveTo>
                <a:cubicBezTo>
                  <a:pt x="18" y="37"/>
                  <a:pt x="18" y="37"/>
                  <a:pt x="18" y="37"/>
                </a:cubicBezTo>
                <a:cubicBezTo>
                  <a:pt x="20" y="38"/>
                  <a:pt x="20" y="38"/>
                  <a:pt x="20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34" y="37"/>
                  <a:pt x="34" y="37"/>
                  <a:pt x="34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22"/>
                  <a:pt x="32" y="22"/>
                  <a:pt x="32" y="22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2" y="16"/>
                  <a:pt x="32" y="16"/>
                  <a:pt x="32" y="16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5" y="4"/>
                  <a:pt x="24" y="4"/>
                </a:cubicBezTo>
                <a:cubicBezTo>
                  <a:pt x="24" y="4"/>
                  <a:pt x="22" y="6"/>
                  <a:pt x="21" y="6"/>
                </a:cubicBezTo>
                <a:cubicBezTo>
                  <a:pt x="20" y="7"/>
                  <a:pt x="19" y="6"/>
                  <a:pt x="18" y="6"/>
                </a:cubicBezTo>
                <a:cubicBezTo>
                  <a:pt x="17" y="6"/>
                  <a:pt x="13" y="0"/>
                  <a:pt x="12" y="0"/>
                </a:cubicBezTo>
                <a:cubicBezTo>
                  <a:pt x="11" y="0"/>
                  <a:pt x="4" y="0"/>
                  <a:pt x="4" y="0"/>
                </a:cubicBezTo>
                <a:cubicBezTo>
                  <a:pt x="1" y="2"/>
                  <a:pt x="1" y="2"/>
                  <a:pt x="1" y="2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1"/>
                  <a:pt x="4" y="21"/>
                  <a:pt x="4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5"/>
                  <a:pt x="2" y="35"/>
                  <a:pt x="2" y="35"/>
                </a:cubicBezTo>
                <a:lnTo>
                  <a:pt x="4" y="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4" name="Freeform 377"/>
          <p:cNvSpPr/>
          <p:nvPr/>
        </p:nvSpPr>
        <p:spPr>
          <a:xfrm>
            <a:off x="6829560" y="6423120"/>
            <a:ext cx="660240" cy="655560"/>
          </a:xfrm>
          <a:custGeom>
            <a:avLst/>
            <a:gdLst/>
            <a:ahLst/>
            <a:rect l="l" t="t" r="r" b="b"/>
            <a:pathLst>
              <a:path w="59" h="59">
                <a:moveTo>
                  <a:pt x="21" y="6"/>
                </a:moveTo>
                <a:cubicBezTo>
                  <a:pt x="18" y="18"/>
                  <a:pt x="18" y="18"/>
                  <a:pt x="18" y="18"/>
                </a:cubicBezTo>
                <a:cubicBezTo>
                  <a:pt x="15" y="21"/>
                  <a:pt x="15" y="21"/>
                  <a:pt x="15" y="21"/>
                </a:cubicBezTo>
                <a:cubicBezTo>
                  <a:pt x="11" y="29"/>
                  <a:pt x="11" y="29"/>
                  <a:pt x="11" y="29"/>
                </a:cubicBezTo>
                <a:cubicBezTo>
                  <a:pt x="7" y="32"/>
                  <a:pt x="7" y="32"/>
                  <a:pt x="7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36"/>
                  <a:pt x="11" y="36"/>
                  <a:pt x="12" y="36"/>
                </a:cubicBezTo>
                <a:cubicBezTo>
                  <a:pt x="13" y="36"/>
                  <a:pt x="17" y="42"/>
                  <a:pt x="18" y="42"/>
                </a:cubicBezTo>
                <a:cubicBezTo>
                  <a:pt x="19" y="42"/>
                  <a:pt x="20" y="43"/>
                  <a:pt x="21" y="42"/>
                </a:cubicBezTo>
                <a:cubicBezTo>
                  <a:pt x="22" y="42"/>
                  <a:pt x="24" y="40"/>
                  <a:pt x="24" y="40"/>
                </a:cubicBezTo>
                <a:cubicBezTo>
                  <a:pt x="25" y="40"/>
                  <a:pt x="30" y="40"/>
                  <a:pt x="30" y="40"/>
                </a:cubicBezTo>
                <a:cubicBezTo>
                  <a:pt x="32" y="52"/>
                  <a:pt x="32" y="52"/>
                  <a:pt x="32" y="52"/>
                </a:cubicBezTo>
                <a:cubicBezTo>
                  <a:pt x="38" y="53"/>
                  <a:pt x="38" y="53"/>
                  <a:pt x="38" y="53"/>
                </a:cubicBezTo>
                <a:cubicBezTo>
                  <a:pt x="43" y="53"/>
                  <a:pt x="43" y="53"/>
                  <a:pt x="43" y="53"/>
                </a:cubicBezTo>
                <a:cubicBezTo>
                  <a:pt x="49" y="56"/>
                  <a:pt x="49" y="56"/>
                  <a:pt x="49" y="56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7"/>
                  <a:pt x="55" y="57"/>
                  <a:pt x="55" y="57"/>
                </a:cubicBezTo>
                <a:cubicBezTo>
                  <a:pt x="52" y="53"/>
                  <a:pt x="52" y="53"/>
                  <a:pt x="52" y="53"/>
                </a:cubicBezTo>
                <a:cubicBezTo>
                  <a:pt x="53" y="50"/>
                  <a:pt x="53" y="50"/>
                  <a:pt x="53" y="50"/>
                </a:cubicBezTo>
                <a:cubicBezTo>
                  <a:pt x="54" y="44"/>
                  <a:pt x="54" y="44"/>
                  <a:pt x="54" y="44"/>
                </a:cubicBezTo>
                <a:cubicBezTo>
                  <a:pt x="57" y="43"/>
                  <a:pt x="57" y="43"/>
                  <a:pt x="57" y="43"/>
                </a:cubicBezTo>
                <a:cubicBezTo>
                  <a:pt x="55" y="37"/>
                  <a:pt x="55" y="37"/>
                  <a:pt x="55" y="37"/>
                </a:cubicBezTo>
                <a:cubicBezTo>
                  <a:pt x="54" y="31"/>
                  <a:pt x="54" y="31"/>
                  <a:pt x="54" y="31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18"/>
                  <a:pt x="55" y="18"/>
                  <a:pt x="55" y="18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3"/>
                  <a:pt x="56" y="3"/>
                  <a:pt x="56" y="3"/>
                </a:cubicBezTo>
                <a:cubicBezTo>
                  <a:pt x="51" y="3"/>
                  <a:pt x="51" y="3"/>
                  <a:pt x="51" y="3"/>
                </a:cubicBezTo>
                <a:cubicBezTo>
                  <a:pt x="49" y="0"/>
                  <a:pt x="49" y="0"/>
                  <a:pt x="49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7" y="1"/>
                  <a:pt x="27" y="1"/>
                  <a:pt x="27" y="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6"/>
                  <a:pt x="21" y="6"/>
                  <a:pt x="21" y="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5" name="Freeform 378"/>
          <p:cNvSpPr/>
          <p:nvPr/>
        </p:nvSpPr>
        <p:spPr>
          <a:xfrm>
            <a:off x="7566120" y="5978520"/>
            <a:ext cx="525240" cy="503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22" y="45"/>
                </a:moveTo>
                <a:cubicBezTo>
                  <a:pt x="23" y="45"/>
                  <a:pt x="24" y="44"/>
                  <a:pt x="24" y="44"/>
                </a:cubicBezTo>
                <a:cubicBezTo>
                  <a:pt x="27" y="45"/>
                  <a:pt x="27" y="45"/>
                  <a:pt x="27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32" y="43"/>
                  <a:pt x="32" y="43"/>
                  <a:pt x="32" y="43"/>
                </a:cubicBezTo>
                <a:cubicBezTo>
                  <a:pt x="39" y="41"/>
                  <a:pt x="39" y="41"/>
                  <a:pt x="39" y="41"/>
                </a:cubicBezTo>
                <a:cubicBezTo>
                  <a:pt x="47" y="32"/>
                  <a:pt x="47" y="32"/>
                  <a:pt x="47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33" y="27"/>
                  <a:pt x="33" y="27"/>
                  <a:pt x="33" y="27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3" y="20"/>
                  <a:pt x="33" y="20"/>
                  <a:pt x="33" y="20"/>
                </a:cubicBezTo>
                <a:cubicBezTo>
                  <a:pt x="25" y="8"/>
                  <a:pt x="25" y="8"/>
                  <a:pt x="25" y="8"/>
                </a:cubicBezTo>
                <a:cubicBezTo>
                  <a:pt x="20" y="6"/>
                  <a:pt x="20" y="6"/>
                  <a:pt x="20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14"/>
                  <a:pt x="11" y="14"/>
                  <a:pt x="11" y="14"/>
                </a:cubicBezTo>
                <a:cubicBezTo>
                  <a:pt x="8" y="20"/>
                  <a:pt x="8" y="20"/>
                  <a:pt x="8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3" y="30"/>
                  <a:pt x="3" y="30"/>
                  <a:pt x="3" y="30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6"/>
                  <a:pt x="4" y="36"/>
                  <a:pt x="4" y="36"/>
                </a:cubicBezTo>
                <a:cubicBezTo>
                  <a:pt x="7" y="39"/>
                  <a:pt x="7" y="39"/>
                  <a:pt x="7" y="39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2"/>
                  <a:pt x="9" y="42"/>
                  <a:pt x="9" y="42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21" y="45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6" name="Freeform 379"/>
          <p:cNvSpPr/>
          <p:nvPr/>
        </p:nvSpPr>
        <p:spPr>
          <a:xfrm>
            <a:off x="7599240" y="6445080"/>
            <a:ext cx="292320" cy="33516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7"/>
                </a:move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2"/>
                  <a:pt x="20" y="3"/>
                  <a:pt x="19" y="3"/>
                </a:cubicBezTo>
                <a:cubicBezTo>
                  <a:pt x="18" y="3"/>
                  <a:pt x="9" y="1"/>
                  <a:pt x="9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3" y="1"/>
                  <a:pt x="3" y="1"/>
                  <a:pt x="3" y="1"/>
                </a:cubicBezTo>
                <a:cubicBezTo>
                  <a:pt x="0" y="3"/>
                  <a:pt x="0" y="3"/>
                  <a:pt x="0" y="3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9"/>
                  <a:pt x="1" y="19"/>
                  <a:pt x="1" y="19"/>
                </a:cubicBezTo>
                <a:cubicBezTo>
                  <a:pt x="12" y="24"/>
                  <a:pt x="12" y="24"/>
                  <a:pt x="12" y="24"/>
                </a:cubicBezTo>
                <a:cubicBezTo>
                  <a:pt x="12" y="27"/>
                  <a:pt x="12" y="27"/>
                  <a:pt x="12" y="27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9"/>
                  <a:pt x="18" y="29"/>
                </a:cubicBezTo>
                <a:cubicBezTo>
                  <a:pt x="22" y="23"/>
                  <a:pt x="22" y="23"/>
                  <a:pt x="22" y="23"/>
                </a:cubicBezTo>
                <a:cubicBezTo>
                  <a:pt x="25" y="20"/>
                  <a:pt x="25" y="20"/>
                  <a:pt x="25" y="20"/>
                </a:cubicBezTo>
                <a:cubicBezTo>
                  <a:pt x="23" y="17"/>
                  <a:pt x="23" y="17"/>
                  <a:pt x="23" y="1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Freeform 380"/>
          <p:cNvSpPr/>
          <p:nvPr/>
        </p:nvSpPr>
        <p:spPr>
          <a:xfrm>
            <a:off x="7286760" y="7169040"/>
            <a:ext cx="268200" cy="254160"/>
          </a:xfrm>
          <a:custGeom>
            <a:avLst/>
            <a:gdLst/>
            <a:ahLst/>
            <a:rect l="l" t="t" r="r" b="b"/>
            <a:pathLst>
              <a:path w="24" h="23">
                <a:moveTo>
                  <a:pt x="9" y="5"/>
                </a:moveTo>
                <a:cubicBezTo>
                  <a:pt x="9" y="5"/>
                  <a:pt x="6" y="8"/>
                  <a:pt x="6" y="8"/>
                </a:cubicBezTo>
                <a:cubicBezTo>
                  <a:pt x="5" y="8"/>
                  <a:pt x="2" y="7"/>
                  <a:pt x="2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3" y="12"/>
                  <a:pt x="3" y="12"/>
                  <a:pt x="3" y="12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9" y="20"/>
                  <a:pt x="9" y="20"/>
                  <a:pt x="9" y="20"/>
                </a:cubicBezTo>
                <a:cubicBezTo>
                  <a:pt x="14" y="22"/>
                  <a:pt x="14" y="22"/>
                  <a:pt x="14" y="22"/>
                </a:cubicBezTo>
                <a:cubicBezTo>
                  <a:pt x="20" y="23"/>
                  <a:pt x="20" y="23"/>
                  <a:pt x="20" y="23"/>
                </a:cubicBezTo>
                <a:cubicBezTo>
                  <a:pt x="22" y="20"/>
                  <a:pt x="22" y="20"/>
                  <a:pt x="22" y="2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3"/>
                  <a:pt x="24" y="3"/>
                  <a:pt x="24" y="3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1"/>
                  <a:pt x="13" y="1"/>
                  <a:pt x="13" y="1"/>
                </a:cubicBezTo>
                <a:lnTo>
                  <a:pt x="9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8" name="Freeform 381"/>
          <p:cNvSpPr/>
          <p:nvPr/>
        </p:nvSpPr>
        <p:spPr>
          <a:xfrm>
            <a:off x="7186680" y="6481800"/>
            <a:ext cx="480960" cy="774720"/>
          </a:xfrm>
          <a:custGeom>
            <a:avLst/>
            <a:gdLst/>
            <a:ahLst/>
            <a:rect l="l" t="t" r="r" b="b"/>
            <a:pathLst>
              <a:path w="43" h="70">
                <a:moveTo>
                  <a:pt x="27" y="6"/>
                </a:moveTo>
                <a:cubicBezTo>
                  <a:pt x="23" y="13"/>
                  <a:pt x="23" y="13"/>
                  <a:pt x="23" y="13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6"/>
                  <a:pt x="22" y="26"/>
                  <a:pt x="22" y="26"/>
                </a:cubicBezTo>
                <a:cubicBezTo>
                  <a:pt x="23" y="32"/>
                  <a:pt x="23" y="32"/>
                  <a:pt x="23" y="32"/>
                </a:cubicBezTo>
                <a:cubicBezTo>
                  <a:pt x="25" y="38"/>
                  <a:pt x="25" y="38"/>
                  <a:pt x="25" y="38"/>
                </a:cubicBezTo>
                <a:cubicBezTo>
                  <a:pt x="22" y="39"/>
                  <a:pt x="22" y="39"/>
                  <a:pt x="22" y="39"/>
                </a:cubicBezTo>
                <a:cubicBezTo>
                  <a:pt x="21" y="45"/>
                  <a:pt x="21" y="45"/>
                  <a:pt x="21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4"/>
                  <a:pt x="23" y="54"/>
                  <a:pt x="23" y="54"/>
                </a:cubicBezTo>
                <a:cubicBezTo>
                  <a:pt x="17" y="51"/>
                  <a:pt x="17" y="51"/>
                  <a:pt x="17" y="51"/>
                </a:cubicBezTo>
                <a:cubicBezTo>
                  <a:pt x="11" y="48"/>
                  <a:pt x="11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6" y="52"/>
                  <a:pt x="6" y="52"/>
                  <a:pt x="6" y="52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4"/>
                  <a:pt x="0" y="64"/>
                  <a:pt x="0" y="64"/>
                </a:cubicBezTo>
                <a:cubicBezTo>
                  <a:pt x="2" y="68"/>
                  <a:pt x="2" y="68"/>
                  <a:pt x="2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9"/>
                  <a:pt x="8" y="69"/>
                  <a:pt x="8" y="69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0"/>
                  <a:pt x="9" y="70"/>
                  <a:pt x="9" y="70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9"/>
                  <a:pt x="14" y="70"/>
                  <a:pt x="15" y="70"/>
                </a:cubicBezTo>
                <a:cubicBezTo>
                  <a:pt x="15" y="70"/>
                  <a:pt x="18" y="67"/>
                  <a:pt x="18" y="67"/>
                </a:cubicBezTo>
                <a:cubicBezTo>
                  <a:pt x="22" y="63"/>
                  <a:pt x="22" y="63"/>
                  <a:pt x="22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4" y="62"/>
                  <a:pt x="24" y="62"/>
                  <a:pt x="24" y="62"/>
                </a:cubicBezTo>
                <a:cubicBezTo>
                  <a:pt x="24" y="61"/>
                  <a:pt x="24" y="61"/>
                  <a:pt x="24" y="61"/>
                </a:cubicBezTo>
                <a:cubicBezTo>
                  <a:pt x="33" y="57"/>
                  <a:pt x="33" y="57"/>
                  <a:pt x="33" y="57"/>
                </a:cubicBezTo>
                <a:cubicBezTo>
                  <a:pt x="37" y="59"/>
                  <a:pt x="37" y="59"/>
                  <a:pt x="37" y="59"/>
                </a:cubicBezTo>
                <a:cubicBezTo>
                  <a:pt x="39" y="62"/>
                  <a:pt x="39" y="62"/>
                  <a:pt x="39" y="62"/>
                </a:cubicBezTo>
                <a:cubicBezTo>
                  <a:pt x="40" y="64"/>
                  <a:pt x="40" y="64"/>
                  <a:pt x="40" y="64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59"/>
                  <a:pt x="43" y="59"/>
                  <a:pt x="43" y="59"/>
                </a:cubicBezTo>
                <a:cubicBezTo>
                  <a:pt x="40" y="54"/>
                  <a:pt x="40" y="54"/>
                  <a:pt x="40" y="54"/>
                </a:cubicBezTo>
                <a:cubicBezTo>
                  <a:pt x="40" y="49"/>
                  <a:pt x="40" y="49"/>
                  <a:pt x="40" y="49"/>
                </a:cubicBezTo>
                <a:cubicBezTo>
                  <a:pt x="41" y="49"/>
                  <a:pt x="41" y="49"/>
                  <a:pt x="41" y="49"/>
                </a:cubicBezTo>
                <a:cubicBezTo>
                  <a:pt x="39" y="44"/>
                  <a:pt x="39" y="44"/>
                  <a:pt x="39" y="44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3" y="41"/>
                  <a:pt x="33" y="41"/>
                </a:cubicBezTo>
                <a:cubicBezTo>
                  <a:pt x="32" y="41"/>
                  <a:pt x="28" y="39"/>
                  <a:pt x="28" y="39"/>
                </a:cubicBezTo>
                <a:cubicBezTo>
                  <a:pt x="26" y="34"/>
                  <a:pt x="26" y="34"/>
                  <a:pt x="26" y="34"/>
                </a:cubicBezTo>
                <a:cubicBezTo>
                  <a:pt x="24" y="26"/>
                  <a:pt x="24" y="26"/>
                  <a:pt x="24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5" y="16"/>
                  <a:pt x="25" y="16"/>
                  <a:pt x="25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5"/>
                  <a:pt x="37" y="15"/>
                  <a:pt x="37" y="15"/>
                </a:cubicBezTo>
                <a:cubicBezTo>
                  <a:pt x="38" y="16"/>
                  <a:pt x="38" y="16"/>
                  <a:pt x="38" y="16"/>
                </a:cubicBezTo>
                <a:cubicBezTo>
                  <a:pt x="37" y="10"/>
                  <a:pt x="37" y="10"/>
                  <a:pt x="37" y="10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2"/>
                  <a:pt x="39" y="2"/>
                  <a:pt x="39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1"/>
                  <a:pt x="28" y="1"/>
                  <a:pt x="28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lnTo>
                  <a:pt x="27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9" name="Freeform 382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  <a:lnTo>
                  <a:pt x="11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0" name="Freeform 383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Freeform 384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2" name="Freeform 385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3" name="Freeform 386"/>
          <p:cNvSpPr/>
          <p:nvPr/>
        </p:nvSpPr>
        <p:spPr>
          <a:xfrm>
            <a:off x="6294600" y="6235560"/>
            <a:ext cx="144360" cy="187560"/>
          </a:xfrm>
          <a:custGeom>
            <a:avLst/>
            <a:gdLst/>
            <a:ahLst/>
            <a:rect l="l" t="t" r="r" b="b"/>
            <a:pathLst>
              <a:path w="78" h="102">
                <a:moveTo>
                  <a:pt x="60" y="6"/>
                </a:moveTo>
                <a:lnTo>
                  <a:pt x="60" y="0"/>
                </a:lnTo>
                <a:lnTo>
                  <a:pt x="36" y="0"/>
                </a:lnTo>
                <a:lnTo>
                  <a:pt x="6" y="0"/>
                </a:lnTo>
                <a:lnTo>
                  <a:pt x="0" y="24"/>
                </a:lnTo>
                <a:lnTo>
                  <a:pt x="12" y="42"/>
                </a:lnTo>
                <a:lnTo>
                  <a:pt x="0" y="66"/>
                </a:lnTo>
                <a:lnTo>
                  <a:pt x="0" y="84"/>
                </a:lnTo>
                <a:lnTo>
                  <a:pt x="6" y="102"/>
                </a:lnTo>
                <a:lnTo>
                  <a:pt x="36" y="102"/>
                </a:lnTo>
                <a:lnTo>
                  <a:pt x="78" y="90"/>
                </a:lnTo>
                <a:lnTo>
                  <a:pt x="60" y="36"/>
                </a:lnTo>
                <a:lnTo>
                  <a:pt x="6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4" name="Freeform 387"/>
          <p:cNvSpPr/>
          <p:nvPr/>
        </p:nvSpPr>
        <p:spPr>
          <a:xfrm>
            <a:off x="6508800" y="6091200"/>
            <a:ext cx="422280" cy="379440"/>
          </a:xfrm>
          <a:custGeom>
            <a:avLst/>
            <a:gdLst/>
            <a:ahLst/>
            <a:rect l="l" t="t" r="r" b="b"/>
            <a:pathLst>
              <a:path w="228" h="205">
                <a:moveTo>
                  <a:pt x="120" y="151"/>
                </a:moveTo>
                <a:lnTo>
                  <a:pt x="150" y="163"/>
                </a:lnTo>
                <a:lnTo>
                  <a:pt x="180" y="121"/>
                </a:lnTo>
                <a:lnTo>
                  <a:pt x="198" y="73"/>
                </a:lnTo>
                <a:lnTo>
                  <a:pt x="204" y="55"/>
                </a:lnTo>
                <a:lnTo>
                  <a:pt x="222" y="49"/>
                </a:lnTo>
                <a:lnTo>
                  <a:pt x="228" y="31"/>
                </a:lnTo>
                <a:lnTo>
                  <a:pt x="210" y="25"/>
                </a:lnTo>
                <a:lnTo>
                  <a:pt x="198" y="7"/>
                </a:lnTo>
                <a:lnTo>
                  <a:pt x="204" y="0"/>
                </a:lnTo>
                <a:lnTo>
                  <a:pt x="174" y="25"/>
                </a:lnTo>
                <a:lnTo>
                  <a:pt x="144" y="31"/>
                </a:lnTo>
                <a:lnTo>
                  <a:pt x="108" y="31"/>
                </a:lnTo>
                <a:lnTo>
                  <a:pt x="84" y="43"/>
                </a:lnTo>
                <a:lnTo>
                  <a:pt x="48" y="31"/>
                </a:lnTo>
                <a:lnTo>
                  <a:pt x="24" y="31"/>
                </a:lnTo>
                <a:lnTo>
                  <a:pt x="12" y="49"/>
                </a:lnTo>
                <a:lnTo>
                  <a:pt x="12" y="67"/>
                </a:lnTo>
                <a:lnTo>
                  <a:pt x="12" y="91"/>
                </a:lnTo>
                <a:lnTo>
                  <a:pt x="0" y="133"/>
                </a:lnTo>
                <a:lnTo>
                  <a:pt x="0" y="163"/>
                </a:lnTo>
                <a:lnTo>
                  <a:pt x="24" y="163"/>
                </a:lnTo>
                <a:lnTo>
                  <a:pt x="48" y="193"/>
                </a:lnTo>
                <a:lnTo>
                  <a:pt x="72" y="199"/>
                </a:lnTo>
                <a:lnTo>
                  <a:pt x="96" y="205"/>
                </a:lnTo>
                <a:lnTo>
                  <a:pt x="102" y="175"/>
                </a:lnTo>
                <a:lnTo>
                  <a:pt x="120" y="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Freeform 388"/>
          <p:cNvSpPr/>
          <p:nvPr/>
        </p:nvSpPr>
        <p:spPr>
          <a:xfrm>
            <a:off x="6919920" y="6235560"/>
            <a:ext cx="455760" cy="266760"/>
          </a:xfrm>
          <a:custGeom>
            <a:avLst/>
            <a:gdLst/>
            <a:ahLst/>
            <a:rect l="l" t="t" r="r" b="b"/>
            <a:pathLst>
              <a:path w="246" h="144">
                <a:moveTo>
                  <a:pt x="78" y="36"/>
                </a:moveTo>
                <a:lnTo>
                  <a:pt x="72" y="48"/>
                </a:lnTo>
                <a:lnTo>
                  <a:pt x="36" y="60"/>
                </a:lnTo>
                <a:lnTo>
                  <a:pt x="12" y="66"/>
                </a:lnTo>
                <a:lnTo>
                  <a:pt x="0" y="102"/>
                </a:lnTo>
                <a:lnTo>
                  <a:pt x="12" y="132"/>
                </a:lnTo>
                <a:lnTo>
                  <a:pt x="18" y="144"/>
                </a:lnTo>
                <a:lnTo>
                  <a:pt x="42" y="132"/>
                </a:lnTo>
                <a:lnTo>
                  <a:pt x="66" y="132"/>
                </a:lnTo>
                <a:lnTo>
                  <a:pt x="78" y="138"/>
                </a:lnTo>
                <a:lnTo>
                  <a:pt x="78" y="114"/>
                </a:lnTo>
                <a:lnTo>
                  <a:pt x="114" y="108"/>
                </a:lnTo>
                <a:lnTo>
                  <a:pt x="144" y="120"/>
                </a:lnTo>
                <a:lnTo>
                  <a:pt x="198" y="108"/>
                </a:lnTo>
                <a:lnTo>
                  <a:pt x="246" y="102"/>
                </a:lnTo>
                <a:lnTo>
                  <a:pt x="210" y="66"/>
                </a:lnTo>
                <a:lnTo>
                  <a:pt x="186" y="54"/>
                </a:lnTo>
                <a:lnTo>
                  <a:pt x="168" y="24"/>
                </a:lnTo>
                <a:lnTo>
                  <a:pt x="156" y="0"/>
                </a:lnTo>
                <a:lnTo>
                  <a:pt x="108" y="30"/>
                </a:lnTo>
                <a:lnTo>
                  <a:pt x="78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6" name="Freeform 389"/>
          <p:cNvSpPr/>
          <p:nvPr/>
        </p:nvSpPr>
        <p:spPr>
          <a:xfrm>
            <a:off x="6786720" y="6481800"/>
            <a:ext cx="277560" cy="33192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66" y="162"/>
                </a:moveTo>
                <a:lnTo>
                  <a:pt x="90" y="144"/>
                </a:lnTo>
                <a:lnTo>
                  <a:pt x="114" y="96"/>
                </a:lnTo>
                <a:lnTo>
                  <a:pt x="132" y="78"/>
                </a:lnTo>
                <a:lnTo>
                  <a:pt x="150" y="6"/>
                </a:lnTo>
                <a:lnTo>
                  <a:pt x="138" y="0"/>
                </a:lnTo>
                <a:lnTo>
                  <a:pt x="114" y="0"/>
                </a:lnTo>
                <a:lnTo>
                  <a:pt x="90" y="12"/>
                </a:lnTo>
                <a:lnTo>
                  <a:pt x="72" y="18"/>
                </a:lnTo>
                <a:lnTo>
                  <a:pt x="60" y="30"/>
                </a:lnTo>
                <a:lnTo>
                  <a:pt x="48" y="36"/>
                </a:lnTo>
                <a:lnTo>
                  <a:pt x="48" y="48"/>
                </a:lnTo>
                <a:lnTo>
                  <a:pt x="60" y="54"/>
                </a:lnTo>
                <a:lnTo>
                  <a:pt x="54" y="84"/>
                </a:lnTo>
                <a:lnTo>
                  <a:pt x="48" y="114"/>
                </a:lnTo>
                <a:lnTo>
                  <a:pt x="30" y="114"/>
                </a:lnTo>
                <a:lnTo>
                  <a:pt x="12" y="126"/>
                </a:lnTo>
                <a:lnTo>
                  <a:pt x="0" y="138"/>
                </a:lnTo>
                <a:lnTo>
                  <a:pt x="18" y="156"/>
                </a:lnTo>
                <a:lnTo>
                  <a:pt x="24" y="180"/>
                </a:lnTo>
                <a:lnTo>
                  <a:pt x="42" y="162"/>
                </a:lnTo>
                <a:lnTo>
                  <a:pt x="66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7" name="Freeform 390"/>
          <p:cNvSpPr/>
          <p:nvPr/>
        </p:nvSpPr>
        <p:spPr>
          <a:xfrm>
            <a:off x="6730920" y="6550200"/>
            <a:ext cx="166680" cy="1839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60" y="78"/>
                </a:moveTo>
                <a:lnTo>
                  <a:pt x="78" y="78"/>
                </a:lnTo>
                <a:lnTo>
                  <a:pt x="84" y="48"/>
                </a:lnTo>
                <a:lnTo>
                  <a:pt x="90" y="18"/>
                </a:lnTo>
                <a:lnTo>
                  <a:pt x="78" y="12"/>
                </a:lnTo>
                <a:lnTo>
                  <a:pt x="78" y="0"/>
                </a:lnTo>
                <a:lnTo>
                  <a:pt x="48" y="0"/>
                </a:lnTo>
                <a:lnTo>
                  <a:pt x="0" y="0"/>
                </a:lnTo>
                <a:lnTo>
                  <a:pt x="0" y="18"/>
                </a:lnTo>
                <a:lnTo>
                  <a:pt x="0" y="54"/>
                </a:lnTo>
                <a:lnTo>
                  <a:pt x="30" y="102"/>
                </a:lnTo>
                <a:lnTo>
                  <a:pt x="42" y="90"/>
                </a:lnTo>
                <a:lnTo>
                  <a:pt x="6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8" name="Freeform 391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  <a:lnTo>
                  <a:pt x="144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Freeform 392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0" name="Freeform 393"/>
          <p:cNvSpPr/>
          <p:nvPr/>
        </p:nvSpPr>
        <p:spPr>
          <a:xfrm>
            <a:off x="6438960" y="6168960"/>
            <a:ext cx="90360" cy="2224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48" y="48"/>
                </a:moveTo>
                <a:lnTo>
                  <a:pt x="48" y="24"/>
                </a:lnTo>
                <a:lnTo>
                  <a:pt x="48" y="6"/>
                </a:lnTo>
                <a:lnTo>
                  <a:pt x="42" y="6"/>
                </a:lnTo>
                <a:lnTo>
                  <a:pt x="30" y="0"/>
                </a:lnTo>
                <a:lnTo>
                  <a:pt x="24" y="6"/>
                </a:lnTo>
                <a:lnTo>
                  <a:pt x="6" y="30"/>
                </a:lnTo>
                <a:lnTo>
                  <a:pt x="0" y="30"/>
                </a:lnTo>
                <a:lnTo>
                  <a:pt x="0" y="48"/>
                </a:lnTo>
                <a:lnTo>
                  <a:pt x="6" y="90"/>
                </a:lnTo>
                <a:lnTo>
                  <a:pt x="24" y="120"/>
                </a:lnTo>
                <a:lnTo>
                  <a:pt x="36" y="120"/>
                </a:lnTo>
                <a:lnTo>
                  <a:pt x="36" y="90"/>
                </a:lnTo>
                <a:lnTo>
                  <a:pt x="4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1" name="Freeform 394"/>
          <p:cNvSpPr/>
          <p:nvPr/>
        </p:nvSpPr>
        <p:spPr>
          <a:xfrm>
            <a:off x="6405480" y="6226200"/>
            <a:ext cx="79560" cy="176040"/>
          </a:xfrm>
          <a:custGeom>
            <a:avLst/>
            <a:gdLst/>
            <a:ahLst/>
            <a:rect l="l" t="t" r="r" b="b"/>
            <a:pathLst>
              <a:path w="42" h="96">
                <a:moveTo>
                  <a:pt x="18" y="18"/>
                </a:moveTo>
                <a:lnTo>
                  <a:pt x="18" y="0"/>
                </a:lnTo>
                <a:lnTo>
                  <a:pt x="6" y="6"/>
                </a:lnTo>
                <a:lnTo>
                  <a:pt x="0" y="6"/>
                </a:lnTo>
                <a:lnTo>
                  <a:pt x="0" y="12"/>
                </a:lnTo>
                <a:lnTo>
                  <a:pt x="0" y="42"/>
                </a:lnTo>
                <a:lnTo>
                  <a:pt x="18" y="96"/>
                </a:lnTo>
                <a:lnTo>
                  <a:pt x="42" y="90"/>
                </a:lnTo>
                <a:lnTo>
                  <a:pt x="24" y="60"/>
                </a:lnTo>
                <a:lnTo>
                  <a:pt x="18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Freeform 395"/>
          <p:cNvSpPr/>
          <p:nvPr/>
        </p:nvSpPr>
        <p:spPr>
          <a:xfrm>
            <a:off x="6821640" y="7215120"/>
            <a:ext cx="455400" cy="463680"/>
          </a:xfrm>
          <a:custGeom>
            <a:avLst/>
            <a:gdLst/>
            <a:ahLst/>
            <a:rect l="l" t="t" r="r" b="b"/>
            <a:pathLst>
              <a:path w="246" h="252">
                <a:moveTo>
                  <a:pt x="126" y="252"/>
                </a:moveTo>
                <a:lnTo>
                  <a:pt x="144" y="246"/>
                </a:lnTo>
                <a:lnTo>
                  <a:pt x="156" y="162"/>
                </a:lnTo>
                <a:lnTo>
                  <a:pt x="156" y="108"/>
                </a:lnTo>
                <a:lnTo>
                  <a:pt x="168" y="102"/>
                </a:lnTo>
                <a:lnTo>
                  <a:pt x="174" y="36"/>
                </a:lnTo>
                <a:lnTo>
                  <a:pt x="222" y="24"/>
                </a:lnTo>
                <a:lnTo>
                  <a:pt x="240" y="18"/>
                </a:lnTo>
                <a:lnTo>
                  <a:pt x="246" y="18"/>
                </a:lnTo>
                <a:lnTo>
                  <a:pt x="234" y="12"/>
                </a:lnTo>
                <a:lnTo>
                  <a:pt x="210" y="12"/>
                </a:lnTo>
                <a:lnTo>
                  <a:pt x="216" y="18"/>
                </a:lnTo>
                <a:lnTo>
                  <a:pt x="210" y="12"/>
                </a:lnTo>
                <a:lnTo>
                  <a:pt x="174" y="18"/>
                </a:lnTo>
                <a:lnTo>
                  <a:pt x="126" y="18"/>
                </a:lnTo>
                <a:lnTo>
                  <a:pt x="114" y="12"/>
                </a:lnTo>
                <a:lnTo>
                  <a:pt x="30" y="12"/>
                </a:lnTo>
                <a:lnTo>
                  <a:pt x="18" y="0"/>
                </a:lnTo>
                <a:lnTo>
                  <a:pt x="6" y="6"/>
                </a:lnTo>
                <a:lnTo>
                  <a:pt x="0" y="42"/>
                </a:lnTo>
                <a:lnTo>
                  <a:pt x="42" y="126"/>
                </a:lnTo>
                <a:lnTo>
                  <a:pt x="48" y="144"/>
                </a:lnTo>
                <a:lnTo>
                  <a:pt x="60" y="222"/>
                </a:lnTo>
                <a:lnTo>
                  <a:pt x="90" y="252"/>
                </a:lnTo>
                <a:lnTo>
                  <a:pt x="96" y="240"/>
                </a:lnTo>
                <a:lnTo>
                  <a:pt x="126" y="25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3" name="Freeform 396"/>
          <p:cNvSpPr/>
          <p:nvPr/>
        </p:nvSpPr>
        <p:spPr>
          <a:xfrm>
            <a:off x="6438960" y="5946840"/>
            <a:ext cx="112680" cy="13320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4" y="11"/>
                  <a:pt x="4" y="11"/>
                  <a:pt x="4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10" y="8"/>
                  <a:pt x="10" y="8"/>
                </a:cubicBezTo>
                <a:cubicBezTo>
                  <a:pt x="10" y="7"/>
                  <a:pt x="10" y="0"/>
                  <a:pt x="10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4" name="Freeform 397"/>
          <p:cNvSpPr/>
          <p:nvPr/>
        </p:nvSpPr>
        <p:spPr>
          <a:xfrm>
            <a:off x="314280" y="2998800"/>
            <a:ext cx="961920" cy="1311120"/>
          </a:xfrm>
          <a:custGeom>
            <a:avLst/>
            <a:gdLst/>
            <a:ahLst/>
            <a:rect l="l" t="t" r="r" b="b"/>
            <a:pathLst>
              <a:path w="516" h="709">
                <a:moveTo>
                  <a:pt x="504" y="96"/>
                </a:moveTo>
                <a:lnTo>
                  <a:pt x="486" y="78"/>
                </a:lnTo>
                <a:lnTo>
                  <a:pt x="432" y="84"/>
                </a:lnTo>
                <a:lnTo>
                  <a:pt x="354" y="48"/>
                </a:lnTo>
                <a:lnTo>
                  <a:pt x="318" y="54"/>
                </a:lnTo>
                <a:lnTo>
                  <a:pt x="288" y="36"/>
                </a:lnTo>
                <a:lnTo>
                  <a:pt x="282" y="18"/>
                </a:lnTo>
                <a:lnTo>
                  <a:pt x="228" y="0"/>
                </a:lnTo>
                <a:lnTo>
                  <a:pt x="198" y="24"/>
                </a:lnTo>
                <a:lnTo>
                  <a:pt x="150" y="42"/>
                </a:lnTo>
                <a:lnTo>
                  <a:pt x="114" y="66"/>
                </a:lnTo>
                <a:lnTo>
                  <a:pt x="90" y="126"/>
                </a:lnTo>
                <a:lnTo>
                  <a:pt x="42" y="138"/>
                </a:lnTo>
                <a:lnTo>
                  <a:pt x="42" y="174"/>
                </a:lnTo>
                <a:lnTo>
                  <a:pt x="78" y="222"/>
                </a:lnTo>
                <a:lnTo>
                  <a:pt x="114" y="240"/>
                </a:lnTo>
                <a:lnTo>
                  <a:pt x="114" y="264"/>
                </a:lnTo>
                <a:lnTo>
                  <a:pt x="90" y="276"/>
                </a:lnTo>
                <a:lnTo>
                  <a:pt x="60" y="264"/>
                </a:lnTo>
                <a:lnTo>
                  <a:pt x="0" y="306"/>
                </a:lnTo>
                <a:lnTo>
                  <a:pt x="18" y="324"/>
                </a:lnTo>
                <a:lnTo>
                  <a:pt x="42" y="348"/>
                </a:lnTo>
                <a:lnTo>
                  <a:pt x="96" y="348"/>
                </a:lnTo>
                <a:lnTo>
                  <a:pt x="138" y="354"/>
                </a:lnTo>
                <a:lnTo>
                  <a:pt x="120" y="396"/>
                </a:lnTo>
                <a:lnTo>
                  <a:pt x="72" y="414"/>
                </a:lnTo>
                <a:lnTo>
                  <a:pt x="36" y="438"/>
                </a:lnTo>
                <a:lnTo>
                  <a:pt x="30" y="468"/>
                </a:lnTo>
                <a:lnTo>
                  <a:pt x="72" y="498"/>
                </a:lnTo>
                <a:lnTo>
                  <a:pt x="78" y="529"/>
                </a:lnTo>
                <a:lnTo>
                  <a:pt x="108" y="541"/>
                </a:lnTo>
                <a:lnTo>
                  <a:pt x="114" y="583"/>
                </a:lnTo>
                <a:lnTo>
                  <a:pt x="156" y="577"/>
                </a:lnTo>
                <a:lnTo>
                  <a:pt x="210" y="577"/>
                </a:lnTo>
                <a:lnTo>
                  <a:pt x="180" y="631"/>
                </a:lnTo>
                <a:lnTo>
                  <a:pt x="90" y="709"/>
                </a:lnTo>
                <a:lnTo>
                  <a:pt x="192" y="655"/>
                </a:lnTo>
                <a:lnTo>
                  <a:pt x="270" y="571"/>
                </a:lnTo>
                <a:lnTo>
                  <a:pt x="264" y="553"/>
                </a:lnTo>
                <a:lnTo>
                  <a:pt x="312" y="492"/>
                </a:lnTo>
                <a:lnTo>
                  <a:pt x="324" y="517"/>
                </a:lnTo>
                <a:lnTo>
                  <a:pt x="330" y="547"/>
                </a:lnTo>
                <a:lnTo>
                  <a:pt x="366" y="517"/>
                </a:lnTo>
                <a:lnTo>
                  <a:pt x="408" y="492"/>
                </a:lnTo>
                <a:lnTo>
                  <a:pt x="426" y="505"/>
                </a:lnTo>
                <a:lnTo>
                  <a:pt x="516" y="523"/>
                </a:lnTo>
                <a:lnTo>
                  <a:pt x="516" y="96"/>
                </a:lnTo>
                <a:lnTo>
                  <a:pt x="504" y="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5" name="Freeform 398"/>
          <p:cNvSpPr/>
          <p:nvPr/>
        </p:nvSpPr>
        <p:spPr>
          <a:xfrm>
            <a:off x="1276200" y="2944800"/>
            <a:ext cx="3013200" cy="2065320"/>
          </a:xfrm>
          <a:custGeom>
            <a:avLst/>
            <a:gdLst/>
            <a:ahLst/>
            <a:rect l="l" t="t" r="r" b="b"/>
            <a:pathLst>
              <a:path w="1622" h="1117">
                <a:moveTo>
                  <a:pt x="931" y="943"/>
                </a:moveTo>
                <a:lnTo>
                  <a:pt x="973" y="955"/>
                </a:lnTo>
                <a:lnTo>
                  <a:pt x="1075" y="1003"/>
                </a:lnTo>
                <a:lnTo>
                  <a:pt x="1111" y="1081"/>
                </a:lnTo>
                <a:lnTo>
                  <a:pt x="1111" y="1117"/>
                </a:lnTo>
                <a:lnTo>
                  <a:pt x="1190" y="1093"/>
                </a:lnTo>
                <a:lnTo>
                  <a:pt x="1232" y="1057"/>
                </a:lnTo>
                <a:lnTo>
                  <a:pt x="1262" y="1051"/>
                </a:lnTo>
                <a:lnTo>
                  <a:pt x="1322" y="1039"/>
                </a:lnTo>
                <a:lnTo>
                  <a:pt x="1370" y="979"/>
                </a:lnTo>
                <a:lnTo>
                  <a:pt x="1394" y="985"/>
                </a:lnTo>
                <a:lnTo>
                  <a:pt x="1406" y="1045"/>
                </a:lnTo>
                <a:lnTo>
                  <a:pt x="1430" y="1027"/>
                </a:lnTo>
                <a:lnTo>
                  <a:pt x="1448" y="1033"/>
                </a:lnTo>
                <a:lnTo>
                  <a:pt x="1436" y="1051"/>
                </a:lnTo>
                <a:lnTo>
                  <a:pt x="1448" y="1075"/>
                </a:lnTo>
                <a:lnTo>
                  <a:pt x="1502" y="1033"/>
                </a:lnTo>
                <a:lnTo>
                  <a:pt x="1520" y="1009"/>
                </a:lnTo>
                <a:lnTo>
                  <a:pt x="1466" y="1003"/>
                </a:lnTo>
                <a:lnTo>
                  <a:pt x="1442" y="967"/>
                </a:lnTo>
                <a:lnTo>
                  <a:pt x="1460" y="949"/>
                </a:lnTo>
                <a:lnTo>
                  <a:pt x="1466" y="925"/>
                </a:lnTo>
                <a:lnTo>
                  <a:pt x="1382" y="943"/>
                </a:lnTo>
                <a:lnTo>
                  <a:pt x="1340" y="979"/>
                </a:lnTo>
                <a:lnTo>
                  <a:pt x="1358" y="937"/>
                </a:lnTo>
                <a:lnTo>
                  <a:pt x="1400" y="913"/>
                </a:lnTo>
                <a:lnTo>
                  <a:pt x="1424" y="889"/>
                </a:lnTo>
                <a:lnTo>
                  <a:pt x="1496" y="895"/>
                </a:lnTo>
                <a:lnTo>
                  <a:pt x="1550" y="889"/>
                </a:lnTo>
                <a:lnTo>
                  <a:pt x="1592" y="859"/>
                </a:lnTo>
                <a:lnTo>
                  <a:pt x="1622" y="835"/>
                </a:lnTo>
                <a:lnTo>
                  <a:pt x="1598" y="775"/>
                </a:lnTo>
                <a:lnTo>
                  <a:pt x="1592" y="745"/>
                </a:lnTo>
                <a:lnTo>
                  <a:pt x="1514" y="703"/>
                </a:lnTo>
                <a:lnTo>
                  <a:pt x="1514" y="679"/>
                </a:lnTo>
                <a:lnTo>
                  <a:pt x="1448" y="553"/>
                </a:lnTo>
                <a:lnTo>
                  <a:pt x="1430" y="607"/>
                </a:lnTo>
                <a:lnTo>
                  <a:pt x="1388" y="619"/>
                </a:lnTo>
                <a:lnTo>
                  <a:pt x="1376" y="607"/>
                </a:lnTo>
                <a:lnTo>
                  <a:pt x="1358" y="607"/>
                </a:lnTo>
                <a:lnTo>
                  <a:pt x="1358" y="522"/>
                </a:lnTo>
                <a:lnTo>
                  <a:pt x="1322" y="516"/>
                </a:lnTo>
                <a:lnTo>
                  <a:pt x="1292" y="474"/>
                </a:lnTo>
                <a:lnTo>
                  <a:pt x="1262" y="480"/>
                </a:lnTo>
                <a:lnTo>
                  <a:pt x="1226" y="468"/>
                </a:lnTo>
                <a:lnTo>
                  <a:pt x="1202" y="474"/>
                </a:lnTo>
                <a:lnTo>
                  <a:pt x="1202" y="504"/>
                </a:lnTo>
                <a:lnTo>
                  <a:pt x="1202" y="535"/>
                </a:lnTo>
                <a:lnTo>
                  <a:pt x="1196" y="601"/>
                </a:lnTo>
                <a:lnTo>
                  <a:pt x="1190" y="625"/>
                </a:lnTo>
                <a:lnTo>
                  <a:pt x="1226" y="697"/>
                </a:lnTo>
                <a:lnTo>
                  <a:pt x="1166" y="751"/>
                </a:lnTo>
                <a:lnTo>
                  <a:pt x="1178" y="841"/>
                </a:lnTo>
                <a:lnTo>
                  <a:pt x="1154" y="859"/>
                </a:lnTo>
                <a:lnTo>
                  <a:pt x="1130" y="847"/>
                </a:lnTo>
                <a:lnTo>
                  <a:pt x="1117" y="739"/>
                </a:lnTo>
                <a:lnTo>
                  <a:pt x="1057" y="733"/>
                </a:lnTo>
                <a:lnTo>
                  <a:pt x="943" y="667"/>
                </a:lnTo>
                <a:lnTo>
                  <a:pt x="919" y="667"/>
                </a:lnTo>
                <a:lnTo>
                  <a:pt x="901" y="613"/>
                </a:lnTo>
                <a:lnTo>
                  <a:pt x="883" y="595"/>
                </a:lnTo>
                <a:lnTo>
                  <a:pt x="931" y="450"/>
                </a:lnTo>
                <a:lnTo>
                  <a:pt x="961" y="420"/>
                </a:lnTo>
                <a:lnTo>
                  <a:pt x="991" y="402"/>
                </a:lnTo>
                <a:lnTo>
                  <a:pt x="1009" y="402"/>
                </a:lnTo>
                <a:lnTo>
                  <a:pt x="1027" y="342"/>
                </a:lnTo>
                <a:lnTo>
                  <a:pt x="1039" y="294"/>
                </a:lnTo>
                <a:lnTo>
                  <a:pt x="1099" y="282"/>
                </a:lnTo>
                <a:lnTo>
                  <a:pt x="1130" y="258"/>
                </a:lnTo>
                <a:lnTo>
                  <a:pt x="1111" y="204"/>
                </a:lnTo>
                <a:lnTo>
                  <a:pt x="1124" y="168"/>
                </a:lnTo>
                <a:lnTo>
                  <a:pt x="1099" y="138"/>
                </a:lnTo>
                <a:lnTo>
                  <a:pt x="1063" y="132"/>
                </a:lnTo>
                <a:lnTo>
                  <a:pt x="1051" y="192"/>
                </a:lnTo>
                <a:lnTo>
                  <a:pt x="1015" y="246"/>
                </a:lnTo>
                <a:lnTo>
                  <a:pt x="1003" y="180"/>
                </a:lnTo>
                <a:lnTo>
                  <a:pt x="985" y="156"/>
                </a:lnTo>
                <a:lnTo>
                  <a:pt x="961" y="186"/>
                </a:lnTo>
                <a:lnTo>
                  <a:pt x="949" y="156"/>
                </a:lnTo>
                <a:lnTo>
                  <a:pt x="925" y="114"/>
                </a:lnTo>
                <a:lnTo>
                  <a:pt x="913" y="60"/>
                </a:lnTo>
                <a:lnTo>
                  <a:pt x="877" y="0"/>
                </a:lnTo>
                <a:lnTo>
                  <a:pt x="847" y="84"/>
                </a:lnTo>
                <a:lnTo>
                  <a:pt x="847" y="114"/>
                </a:lnTo>
                <a:lnTo>
                  <a:pt x="889" y="150"/>
                </a:lnTo>
                <a:lnTo>
                  <a:pt x="895" y="186"/>
                </a:lnTo>
                <a:lnTo>
                  <a:pt x="865" y="216"/>
                </a:lnTo>
                <a:lnTo>
                  <a:pt x="847" y="204"/>
                </a:lnTo>
                <a:lnTo>
                  <a:pt x="823" y="204"/>
                </a:lnTo>
                <a:lnTo>
                  <a:pt x="811" y="234"/>
                </a:lnTo>
                <a:lnTo>
                  <a:pt x="769" y="222"/>
                </a:lnTo>
                <a:lnTo>
                  <a:pt x="709" y="222"/>
                </a:lnTo>
                <a:lnTo>
                  <a:pt x="673" y="198"/>
                </a:lnTo>
                <a:lnTo>
                  <a:pt x="619" y="210"/>
                </a:lnTo>
                <a:lnTo>
                  <a:pt x="625" y="228"/>
                </a:lnTo>
                <a:lnTo>
                  <a:pt x="631" y="264"/>
                </a:lnTo>
                <a:lnTo>
                  <a:pt x="613" y="258"/>
                </a:lnTo>
                <a:lnTo>
                  <a:pt x="583" y="222"/>
                </a:lnTo>
                <a:lnTo>
                  <a:pt x="517" y="234"/>
                </a:lnTo>
                <a:lnTo>
                  <a:pt x="487" y="210"/>
                </a:lnTo>
                <a:lnTo>
                  <a:pt x="499" y="186"/>
                </a:lnTo>
                <a:lnTo>
                  <a:pt x="457" y="174"/>
                </a:lnTo>
                <a:lnTo>
                  <a:pt x="409" y="150"/>
                </a:lnTo>
                <a:lnTo>
                  <a:pt x="343" y="132"/>
                </a:lnTo>
                <a:lnTo>
                  <a:pt x="301" y="144"/>
                </a:lnTo>
                <a:lnTo>
                  <a:pt x="259" y="96"/>
                </a:lnTo>
                <a:lnTo>
                  <a:pt x="145" y="150"/>
                </a:lnTo>
                <a:lnTo>
                  <a:pt x="115" y="180"/>
                </a:lnTo>
                <a:lnTo>
                  <a:pt x="67" y="168"/>
                </a:lnTo>
                <a:lnTo>
                  <a:pt x="37" y="138"/>
                </a:lnTo>
                <a:lnTo>
                  <a:pt x="0" y="126"/>
                </a:lnTo>
                <a:lnTo>
                  <a:pt x="0" y="553"/>
                </a:lnTo>
                <a:lnTo>
                  <a:pt x="61" y="583"/>
                </a:lnTo>
                <a:lnTo>
                  <a:pt x="109" y="559"/>
                </a:lnTo>
                <a:lnTo>
                  <a:pt x="175" y="679"/>
                </a:lnTo>
                <a:lnTo>
                  <a:pt x="217" y="709"/>
                </a:lnTo>
                <a:lnTo>
                  <a:pt x="211" y="757"/>
                </a:lnTo>
                <a:lnTo>
                  <a:pt x="229" y="793"/>
                </a:lnTo>
                <a:lnTo>
                  <a:pt x="277" y="859"/>
                </a:lnTo>
                <a:lnTo>
                  <a:pt x="343" y="901"/>
                </a:lnTo>
                <a:lnTo>
                  <a:pt x="349" y="931"/>
                </a:lnTo>
                <a:lnTo>
                  <a:pt x="871" y="931"/>
                </a:lnTo>
                <a:lnTo>
                  <a:pt x="931" y="9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6" name="Freeform 399"/>
          <p:cNvSpPr/>
          <p:nvPr/>
        </p:nvSpPr>
        <p:spPr>
          <a:xfrm>
            <a:off x="1844640" y="4664160"/>
            <a:ext cx="2041560" cy="1054080"/>
          </a:xfrm>
          <a:custGeom>
            <a:avLst/>
            <a:gdLst/>
            <a:ahLst/>
            <a:rect l="l" t="t" r="r" b="b"/>
            <a:pathLst>
              <a:path w="1099" h="571">
                <a:moveTo>
                  <a:pt x="252" y="439"/>
                </a:moveTo>
                <a:lnTo>
                  <a:pt x="300" y="439"/>
                </a:lnTo>
                <a:lnTo>
                  <a:pt x="318" y="427"/>
                </a:lnTo>
                <a:lnTo>
                  <a:pt x="348" y="433"/>
                </a:lnTo>
                <a:lnTo>
                  <a:pt x="396" y="487"/>
                </a:lnTo>
                <a:lnTo>
                  <a:pt x="432" y="475"/>
                </a:lnTo>
                <a:lnTo>
                  <a:pt x="456" y="493"/>
                </a:lnTo>
                <a:lnTo>
                  <a:pt x="474" y="523"/>
                </a:lnTo>
                <a:lnTo>
                  <a:pt x="498" y="547"/>
                </a:lnTo>
                <a:lnTo>
                  <a:pt x="528" y="553"/>
                </a:lnTo>
                <a:lnTo>
                  <a:pt x="528" y="511"/>
                </a:lnTo>
                <a:lnTo>
                  <a:pt x="552" y="487"/>
                </a:lnTo>
                <a:lnTo>
                  <a:pt x="570" y="469"/>
                </a:lnTo>
                <a:lnTo>
                  <a:pt x="630" y="475"/>
                </a:lnTo>
                <a:lnTo>
                  <a:pt x="666" y="475"/>
                </a:lnTo>
                <a:lnTo>
                  <a:pt x="714" y="463"/>
                </a:lnTo>
                <a:lnTo>
                  <a:pt x="744" y="463"/>
                </a:lnTo>
                <a:lnTo>
                  <a:pt x="774" y="457"/>
                </a:lnTo>
                <a:lnTo>
                  <a:pt x="780" y="487"/>
                </a:lnTo>
                <a:lnTo>
                  <a:pt x="792" y="529"/>
                </a:lnTo>
                <a:lnTo>
                  <a:pt x="829" y="565"/>
                </a:lnTo>
                <a:lnTo>
                  <a:pt x="847" y="571"/>
                </a:lnTo>
                <a:lnTo>
                  <a:pt x="841" y="511"/>
                </a:lnTo>
                <a:lnTo>
                  <a:pt x="817" y="445"/>
                </a:lnTo>
                <a:lnTo>
                  <a:pt x="847" y="409"/>
                </a:lnTo>
                <a:lnTo>
                  <a:pt x="877" y="397"/>
                </a:lnTo>
                <a:lnTo>
                  <a:pt x="931" y="343"/>
                </a:lnTo>
                <a:lnTo>
                  <a:pt x="925" y="307"/>
                </a:lnTo>
                <a:lnTo>
                  <a:pt x="919" y="271"/>
                </a:lnTo>
                <a:lnTo>
                  <a:pt x="937" y="283"/>
                </a:lnTo>
                <a:lnTo>
                  <a:pt x="943" y="277"/>
                </a:lnTo>
                <a:lnTo>
                  <a:pt x="937" y="253"/>
                </a:lnTo>
                <a:lnTo>
                  <a:pt x="949" y="253"/>
                </a:lnTo>
                <a:lnTo>
                  <a:pt x="967" y="247"/>
                </a:lnTo>
                <a:lnTo>
                  <a:pt x="979" y="217"/>
                </a:lnTo>
                <a:lnTo>
                  <a:pt x="1003" y="211"/>
                </a:lnTo>
                <a:lnTo>
                  <a:pt x="1039" y="193"/>
                </a:lnTo>
                <a:lnTo>
                  <a:pt x="1039" y="144"/>
                </a:lnTo>
                <a:lnTo>
                  <a:pt x="1099" y="114"/>
                </a:lnTo>
                <a:lnTo>
                  <a:pt x="1087" y="54"/>
                </a:lnTo>
                <a:lnTo>
                  <a:pt x="1063" y="48"/>
                </a:lnTo>
                <a:lnTo>
                  <a:pt x="1015" y="108"/>
                </a:lnTo>
                <a:lnTo>
                  <a:pt x="955" y="120"/>
                </a:lnTo>
                <a:lnTo>
                  <a:pt x="925" y="126"/>
                </a:lnTo>
                <a:lnTo>
                  <a:pt x="883" y="162"/>
                </a:lnTo>
                <a:lnTo>
                  <a:pt x="804" y="186"/>
                </a:lnTo>
                <a:lnTo>
                  <a:pt x="804" y="150"/>
                </a:lnTo>
                <a:lnTo>
                  <a:pt x="768" y="72"/>
                </a:lnTo>
                <a:lnTo>
                  <a:pt x="666" y="24"/>
                </a:lnTo>
                <a:lnTo>
                  <a:pt x="624" y="12"/>
                </a:lnTo>
                <a:lnTo>
                  <a:pt x="564" y="0"/>
                </a:lnTo>
                <a:lnTo>
                  <a:pt x="42" y="0"/>
                </a:lnTo>
                <a:lnTo>
                  <a:pt x="48" y="36"/>
                </a:lnTo>
                <a:lnTo>
                  <a:pt x="30" y="48"/>
                </a:lnTo>
                <a:lnTo>
                  <a:pt x="36" y="24"/>
                </a:lnTo>
                <a:lnTo>
                  <a:pt x="0" y="12"/>
                </a:lnTo>
                <a:lnTo>
                  <a:pt x="18" y="78"/>
                </a:lnTo>
                <a:lnTo>
                  <a:pt x="12" y="126"/>
                </a:lnTo>
                <a:lnTo>
                  <a:pt x="0" y="174"/>
                </a:lnTo>
                <a:lnTo>
                  <a:pt x="12" y="211"/>
                </a:lnTo>
                <a:lnTo>
                  <a:pt x="12" y="235"/>
                </a:lnTo>
                <a:lnTo>
                  <a:pt x="42" y="295"/>
                </a:lnTo>
                <a:lnTo>
                  <a:pt x="66" y="337"/>
                </a:lnTo>
                <a:lnTo>
                  <a:pt x="84" y="367"/>
                </a:lnTo>
                <a:lnTo>
                  <a:pt x="138" y="403"/>
                </a:lnTo>
                <a:lnTo>
                  <a:pt x="144" y="415"/>
                </a:lnTo>
                <a:lnTo>
                  <a:pt x="192" y="409"/>
                </a:lnTo>
                <a:lnTo>
                  <a:pt x="252" y="43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Freeform 400"/>
          <p:cNvSpPr/>
          <p:nvPr/>
        </p:nvSpPr>
        <p:spPr>
          <a:xfrm>
            <a:off x="3147840" y="6095880"/>
            <a:ext cx="157320" cy="1605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14"/>
                </a:moveTo>
                <a:cubicBezTo>
                  <a:pt x="14" y="12"/>
                  <a:pt x="13" y="11"/>
                  <a:pt x="13" y="11"/>
                </a:cubicBezTo>
                <a:cubicBezTo>
                  <a:pt x="14" y="0"/>
                  <a:pt x="14" y="0"/>
                  <a:pt x="14" y="0"/>
                </a:cubicBezTo>
                <a:cubicBezTo>
                  <a:pt x="7" y="3"/>
                  <a:pt x="7" y="3"/>
                  <a:pt x="7" y="3"/>
                </a:cubicBezTo>
                <a:cubicBezTo>
                  <a:pt x="0" y="6"/>
                  <a:pt x="0" y="6"/>
                  <a:pt x="0" y="6"/>
                </a:cubicBezTo>
                <a:cubicBezTo>
                  <a:pt x="5" y="14"/>
                  <a:pt x="5" y="14"/>
                  <a:pt x="5" y="14"/>
                </a:cubicBezTo>
                <a:cubicBezTo>
                  <a:pt x="9" y="13"/>
                  <a:pt x="9" y="13"/>
                  <a:pt x="9" y="13"/>
                </a:cubicBezTo>
                <a:lnTo>
                  <a:pt x="14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8" name="Freeform 401"/>
          <p:cNvSpPr/>
          <p:nvPr/>
        </p:nvSpPr>
        <p:spPr>
          <a:xfrm>
            <a:off x="3203640" y="6242040"/>
            <a:ext cx="135000" cy="100080"/>
          </a:xfrm>
          <a:custGeom>
            <a:avLst/>
            <a:gdLst/>
            <a:ahLst/>
            <a:rect l="l" t="t" r="r" b="b"/>
            <a:pathLst>
              <a:path w="12" h="9">
                <a:moveTo>
                  <a:pt x="9" y="1"/>
                </a:moveTo>
                <a:cubicBezTo>
                  <a:pt x="4" y="0"/>
                  <a:pt x="4" y="0"/>
                  <a:pt x="4" y="0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2" y="3"/>
                  <a:pt x="2" y="3"/>
                </a:cubicBezTo>
                <a:cubicBezTo>
                  <a:pt x="11" y="9"/>
                  <a:pt x="11" y="9"/>
                  <a:pt x="11" y="9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4"/>
                  <a:pt x="10" y="2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9" name="Freeform 402"/>
          <p:cNvSpPr/>
          <p:nvPr/>
        </p:nvSpPr>
        <p:spPr>
          <a:xfrm>
            <a:off x="3327480" y="6299280"/>
            <a:ext cx="201600" cy="85680"/>
          </a:xfrm>
          <a:custGeom>
            <a:avLst/>
            <a:gdLst/>
            <a:ahLst/>
            <a:rect l="l" t="t" r="r" b="b"/>
            <a:pathLst>
              <a:path w="18" h="8">
                <a:moveTo>
                  <a:pt x="14" y="1"/>
                </a:moveTo>
                <a:cubicBezTo>
                  <a:pt x="9" y="1"/>
                  <a:pt x="9" y="1"/>
                  <a:pt x="9" y="1"/>
                </a:cubicBezTo>
                <a:cubicBezTo>
                  <a:pt x="9" y="1"/>
                  <a:pt x="3" y="2"/>
                  <a:pt x="2" y="1"/>
                </a:cubicBezTo>
                <a:cubicBezTo>
                  <a:pt x="1" y="1"/>
                  <a:pt x="1" y="1"/>
                  <a:pt x="1" y="0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3" y="7"/>
                  <a:pt x="4" y="8"/>
                </a:cubicBezTo>
                <a:cubicBezTo>
                  <a:pt x="5" y="8"/>
                  <a:pt x="6" y="8"/>
                  <a:pt x="6" y="8"/>
                </a:cubicBezTo>
                <a:cubicBezTo>
                  <a:pt x="7" y="6"/>
                  <a:pt x="7" y="6"/>
                  <a:pt x="7" y="6"/>
                </a:cubicBezTo>
                <a:cubicBezTo>
                  <a:pt x="10" y="3"/>
                  <a:pt x="10" y="3"/>
                  <a:pt x="10" y="3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7"/>
                  <a:pt x="15" y="7"/>
                  <a:pt x="15" y="7"/>
                </a:cubicBezTo>
                <a:cubicBezTo>
                  <a:pt x="18" y="4"/>
                  <a:pt x="18" y="4"/>
                  <a:pt x="18" y="4"/>
                </a:cubicBezTo>
                <a:lnTo>
                  <a:pt x="14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0" name="Freeform 403"/>
          <p:cNvSpPr/>
          <p:nvPr/>
        </p:nvSpPr>
        <p:spPr>
          <a:xfrm>
            <a:off x="3460680" y="6199200"/>
            <a:ext cx="414360" cy="4539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34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27"/>
                  <a:pt x="37" y="27"/>
                  <a:pt x="37" y="27"/>
                </a:cubicBezTo>
                <a:cubicBezTo>
                  <a:pt x="35" y="23"/>
                  <a:pt x="35" y="23"/>
                  <a:pt x="35" y="23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0"/>
                  <a:pt x="31" y="20"/>
                  <a:pt x="31" y="20"/>
                </a:cubicBezTo>
                <a:cubicBezTo>
                  <a:pt x="21" y="16"/>
                  <a:pt x="21" y="16"/>
                  <a:pt x="21" y="16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3"/>
                  <a:pt x="20" y="3"/>
                  <a:pt x="20" y="3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10"/>
                  <a:pt x="9" y="10"/>
                  <a:pt x="9" y="10"/>
                </a:cubicBezTo>
                <a:cubicBezTo>
                  <a:pt x="6" y="13"/>
                  <a:pt x="6" y="13"/>
                  <a:pt x="6" y="13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5"/>
                  <a:pt x="0" y="35"/>
                  <a:pt x="0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12" y="41"/>
                  <a:pt x="12" y="41"/>
                  <a:pt x="12" y="4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1" name="Freeform 422"/>
          <p:cNvSpPr/>
          <p:nvPr/>
        </p:nvSpPr>
        <p:spPr>
          <a:xfrm>
            <a:off x="3090960" y="6064200"/>
            <a:ext cx="214200" cy="100080"/>
          </a:xfrm>
          <a:custGeom>
            <a:avLst/>
            <a:gdLst/>
            <a:ahLst/>
            <a:rect l="l" t="t" r="r" b="b"/>
            <a:pathLst>
              <a:path w="19" h="9">
                <a:moveTo>
                  <a:pt x="19" y="3"/>
                </a:moveTo>
                <a:cubicBezTo>
                  <a:pt x="19" y="3"/>
                  <a:pt x="10" y="1"/>
                  <a:pt x="8" y="1"/>
                </a:cubicBezTo>
                <a:cubicBezTo>
                  <a:pt x="7" y="1"/>
                  <a:pt x="6" y="0"/>
                  <a:pt x="5" y="0"/>
                </a:cubicBezTo>
                <a:cubicBezTo>
                  <a:pt x="1" y="3"/>
                  <a:pt x="1" y="3"/>
                  <a:pt x="1" y="3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5" y="9"/>
                  <a:pt x="5" y="9"/>
                  <a:pt x="5" y="9"/>
                </a:cubicBezTo>
                <a:cubicBezTo>
                  <a:pt x="12" y="6"/>
                  <a:pt x="12" y="6"/>
                  <a:pt x="12" y="6"/>
                </a:cubicBezTo>
                <a:lnTo>
                  <a:pt x="19" y="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2" name="Freeform 423"/>
          <p:cNvSpPr/>
          <p:nvPr/>
        </p:nvSpPr>
        <p:spPr>
          <a:xfrm>
            <a:off x="2978280" y="6005520"/>
            <a:ext cx="169560" cy="13968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5"/>
                </a:moveTo>
                <a:cubicBezTo>
                  <a:pt x="13" y="5"/>
                  <a:pt x="11" y="4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1"/>
                  <a:pt x="4" y="1"/>
                  <a:pt x="4" y="1"/>
                </a:cubicBezTo>
                <a:cubicBezTo>
                  <a:pt x="6" y="5"/>
                  <a:pt x="6" y="5"/>
                  <a:pt x="6" y="5"/>
                </a:cubicBezTo>
                <a:cubicBezTo>
                  <a:pt x="3" y="5"/>
                  <a:pt x="3" y="5"/>
                  <a:pt x="3" y="5"/>
                </a:cubicBezTo>
                <a:cubicBezTo>
                  <a:pt x="1" y="8"/>
                  <a:pt x="1" y="8"/>
                  <a:pt x="1" y="8"/>
                </a:cubicBezTo>
                <a:cubicBezTo>
                  <a:pt x="0" y="10"/>
                  <a:pt x="0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7" y="12"/>
                  <a:pt x="7" y="12"/>
                  <a:pt x="7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8"/>
                  <a:pt x="11" y="8"/>
                  <a:pt x="11" y="8"/>
                </a:cubicBezTo>
                <a:lnTo>
                  <a:pt x="15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3" name="Freeform 424"/>
          <p:cNvSpPr/>
          <p:nvPr/>
        </p:nvSpPr>
        <p:spPr>
          <a:xfrm>
            <a:off x="2111400" y="5418000"/>
            <a:ext cx="1071360" cy="703440"/>
          </a:xfrm>
          <a:custGeom>
            <a:avLst/>
            <a:gdLst/>
            <a:ahLst/>
            <a:rect l="l" t="t" r="r" b="b"/>
            <a:pathLst>
              <a:path w="576" h="379">
                <a:moveTo>
                  <a:pt x="486" y="348"/>
                </a:moveTo>
                <a:lnTo>
                  <a:pt x="504" y="348"/>
                </a:lnTo>
                <a:lnTo>
                  <a:pt x="492" y="324"/>
                </a:lnTo>
                <a:lnTo>
                  <a:pt x="504" y="318"/>
                </a:lnTo>
                <a:lnTo>
                  <a:pt x="534" y="318"/>
                </a:lnTo>
                <a:lnTo>
                  <a:pt x="528" y="312"/>
                </a:lnTo>
                <a:lnTo>
                  <a:pt x="546" y="300"/>
                </a:lnTo>
                <a:lnTo>
                  <a:pt x="564" y="288"/>
                </a:lnTo>
                <a:lnTo>
                  <a:pt x="576" y="240"/>
                </a:lnTo>
                <a:lnTo>
                  <a:pt x="504" y="252"/>
                </a:lnTo>
                <a:lnTo>
                  <a:pt x="474" y="294"/>
                </a:lnTo>
                <a:lnTo>
                  <a:pt x="426" y="300"/>
                </a:lnTo>
                <a:lnTo>
                  <a:pt x="378" y="240"/>
                </a:lnTo>
                <a:lnTo>
                  <a:pt x="372" y="162"/>
                </a:lnTo>
                <a:lnTo>
                  <a:pt x="384" y="144"/>
                </a:lnTo>
                <a:lnTo>
                  <a:pt x="354" y="138"/>
                </a:lnTo>
                <a:lnTo>
                  <a:pt x="330" y="114"/>
                </a:lnTo>
                <a:lnTo>
                  <a:pt x="312" y="84"/>
                </a:lnTo>
                <a:lnTo>
                  <a:pt x="288" y="66"/>
                </a:lnTo>
                <a:lnTo>
                  <a:pt x="252" y="78"/>
                </a:lnTo>
                <a:lnTo>
                  <a:pt x="204" y="24"/>
                </a:lnTo>
                <a:lnTo>
                  <a:pt x="174" y="18"/>
                </a:lnTo>
                <a:lnTo>
                  <a:pt x="156" y="30"/>
                </a:lnTo>
                <a:lnTo>
                  <a:pt x="108" y="30"/>
                </a:lnTo>
                <a:lnTo>
                  <a:pt x="48" y="0"/>
                </a:lnTo>
                <a:lnTo>
                  <a:pt x="0" y="6"/>
                </a:lnTo>
                <a:lnTo>
                  <a:pt x="36" y="72"/>
                </a:lnTo>
                <a:lnTo>
                  <a:pt x="60" y="108"/>
                </a:lnTo>
                <a:lnTo>
                  <a:pt x="54" y="120"/>
                </a:lnTo>
                <a:lnTo>
                  <a:pt x="96" y="150"/>
                </a:lnTo>
                <a:lnTo>
                  <a:pt x="102" y="180"/>
                </a:lnTo>
                <a:lnTo>
                  <a:pt x="120" y="192"/>
                </a:lnTo>
                <a:lnTo>
                  <a:pt x="144" y="216"/>
                </a:lnTo>
                <a:lnTo>
                  <a:pt x="150" y="198"/>
                </a:lnTo>
                <a:lnTo>
                  <a:pt x="126" y="180"/>
                </a:lnTo>
                <a:lnTo>
                  <a:pt x="102" y="126"/>
                </a:lnTo>
                <a:lnTo>
                  <a:pt x="60" y="66"/>
                </a:lnTo>
                <a:lnTo>
                  <a:pt x="48" y="30"/>
                </a:lnTo>
                <a:lnTo>
                  <a:pt x="78" y="42"/>
                </a:lnTo>
                <a:lnTo>
                  <a:pt x="108" y="102"/>
                </a:lnTo>
                <a:lnTo>
                  <a:pt x="120" y="120"/>
                </a:lnTo>
                <a:lnTo>
                  <a:pt x="150" y="138"/>
                </a:lnTo>
                <a:lnTo>
                  <a:pt x="150" y="156"/>
                </a:lnTo>
                <a:lnTo>
                  <a:pt x="174" y="168"/>
                </a:lnTo>
                <a:lnTo>
                  <a:pt x="186" y="186"/>
                </a:lnTo>
                <a:lnTo>
                  <a:pt x="216" y="216"/>
                </a:lnTo>
                <a:lnTo>
                  <a:pt x="222" y="258"/>
                </a:lnTo>
                <a:lnTo>
                  <a:pt x="222" y="276"/>
                </a:lnTo>
                <a:lnTo>
                  <a:pt x="300" y="324"/>
                </a:lnTo>
                <a:lnTo>
                  <a:pt x="336" y="342"/>
                </a:lnTo>
                <a:lnTo>
                  <a:pt x="402" y="360"/>
                </a:lnTo>
                <a:lnTo>
                  <a:pt x="420" y="354"/>
                </a:lnTo>
                <a:lnTo>
                  <a:pt x="438" y="354"/>
                </a:lnTo>
                <a:lnTo>
                  <a:pt x="468" y="379"/>
                </a:lnTo>
                <a:lnTo>
                  <a:pt x="474" y="366"/>
                </a:lnTo>
                <a:lnTo>
                  <a:pt x="486" y="3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4" name="Freeform 425"/>
          <p:cNvSpPr/>
          <p:nvPr/>
        </p:nvSpPr>
        <p:spPr>
          <a:xfrm rot="20747400">
            <a:off x="3865680" y="2604600"/>
            <a:ext cx="1155600" cy="1276560"/>
          </a:xfrm>
          <a:custGeom>
            <a:avLst/>
            <a:gdLst/>
            <a:ahLst/>
            <a:rect l="l" t="t" r="r" b="b"/>
            <a:pathLst>
              <a:path w="1125" h="2047">
                <a:moveTo>
                  <a:pt x="718" y="105"/>
                </a:moveTo>
                <a:lnTo>
                  <a:pt x="722" y="102"/>
                </a:lnTo>
                <a:lnTo>
                  <a:pt x="730" y="95"/>
                </a:lnTo>
                <a:lnTo>
                  <a:pt x="740" y="83"/>
                </a:lnTo>
                <a:lnTo>
                  <a:pt x="751" y="70"/>
                </a:lnTo>
                <a:lnTo>
                  <a:pt x="760" y="58"/>
                </a:lnTo>
                <a:lnTo>
                  <a:pt x="764" y="46"/>
                </a:lnTo>
                <a:lnTo>
                  <a:pt x="761" y="37"/>
                </a:lnTo>
                <a:lnTo>
                  <a:pt x="748" y="32"/>
                </a:lnTo>
                <a:lnTo>
                  <a:pt x="735" y="30"/>
                </a:lnTo>
                <a:lnTo>
                  <a:pt x="725" y="27"/>
                </a:lnTo>
                <a:lnTo>
                  <a:pt x="716" y="22"/>
                </a:lnTo>
                <a:lnTo>
                  <a:pt x="708" y="17"/>
                </a:lnTo>
                <a:lnTo>
                  <a:pt x="700" y="13"/>
                </a:lnTo>
                <a:lnTo>
                  <a:pt x="693" y="8"/>
                </a:lnTo>
                <a:lnTo>
                  <a:pt x="686" y="4"/>
                </a:lnTo>
                <a:lnTo>
                  <a:pt x="678" y="1"/>
                </a:lnTo>
                <a:lnTo>
                  <a:pt x="672" y="0"/>
                </a:lnTo>
                <a:lnTo>
                  <a:pt x="665" y="0"/>
                </a:lnTo>
                <a:lnTo>
                  <a:pt x="658" y="0"/>
                </a:lnTo>
                <a:lnTo>
                  <a:pt x="651" y="2"/>
                </a:lnTo>
                <a:lnTo>
                  <a:pt x="633" y="7"/>
                </a:lnTo>
                <a:lnTo>
                  <a:pt x="610" y="13"/>
                </a:lnTo>
                <a:lnTo>
                  <a:pt x="583" y="19"/>
                </a:lnTo>
                <a:lnTo>
                  <a:pt x="558" y="25"/>
                </a:lnTo>
                <a:lnTo>
                  <a:pt x="534" y="34"/>
                </a:lnTo>
                <a:lnTo>
                  <a:pt x="512" y="42"/>
                </a:lnTo>
                <a:lnTo>
                  <a:pt x="496" y="52"/>
                </a:lnTo>
                <a:lnTo>
                  <a:pt x="487" y="62"/>
                </a:lnTo>
                <a:lnTo>
                  <a:pt x="483" y="74"/>
                </a:lnTo>
                <a:lnTo>
                  <a:pt x="478" y="84"/>
                </a:lnTo>
                <a:lnTo>
                  <a:pt x="474" y="93"/>
                </a:lnTo>
                <a:lnTo>
                  <a:pt x="468" y="102"/>
                </a:lnTo>
                <a:lnTo>
                  <a:pt x="461" y="107"/>
                </a:lnTo>
                <a:lnTo>
                  <a:pt x="452" y="110"/>
                </a:lnTo>
                <a:lnTo>
                  <a:pt x="440" y="110"/>
                </a:lnTo>
                <a:lnTo>
                  <a:pt x="426" y="105"/>
                </a:lnTo>
                <a:lnTo>
                  <a:pt x="409" y="100"/>
                </a:lnTo>
                <a:lnTo>
                  <a:pt x="391" y="98"/>
                </a:lnTo>
                <a:lnTo>
                  <a:pt x="371" y="100"/>
                </a:lnTo>
                <a:lnTo>
                  <a:pt x="351" y="105"/>
                </a:lnTo>
                <a:lnTo>
                  <a:pt x="334" y="112"/>
                </a:lnTo>
                <a:lnTo>
                  <a:pt x="319" y="120"/>
                </a:lnTo>
                <a:lnTo>
                  <a:pt x="306" y="130"/>
                </a:lnTo>
                <a:lnTo>
                  <a:pt x="300" y="141"/>
                </a:lnTo>
                <a:lnTo>
                  <a:pt x="291" y="151"/>
                </a:lnTo>
                <a:lnTo>
                  <a:pt x="278" y="161"/>
                </a:lnTo>
                <a:lnTo>
                  <a:pt x="260" y="172"/>
                </a:lnTo>
                <a:lnTo>
                  <a:pt x="241" y="182"/>
                </a:lnTo>
                <a:lnTo>
                  <a:pt x="221" y="194"/>
                </a:lnTo>
                <a:lnTo>
                  <a:pt x="204" y="208"/>
                </a:lnTo>
                <a:lnTo>
                  <a:pt x="191" y="224"/>
                </a:lnTo>
                <a:lnTo>
                  <a:pt x="184" y="242"/>
                </a:lnTo>
                <a:lnTo>
                  <a:pt x="180" y="261"/>
                </a:lnTo>
                <a:lnTo>
                  <a:pt x="172" y="277"/>
                </a:lnTo>
                <a:lnTo>
                  <a:pt x="160" y="289"/>
                </a:lnTo>
                <a:lnTo>
                  <a:pt x="146" y="299"/>
                </a:lnTo>
                <a:lnTo>
                  <a:pt x="130" y="305"/>
                </a:lnTo>
                <a:lnTo>
                  <a:pt x="113" y="311"/>
                </a:lnTo>
                <a:lnTo>
                  <a:pt x="94" y="314"/>
                </a:lnTo>
                <a:lnTo>
                  <a:pt x="76" y="315"/>
                </a:lnTo>
                <a:lnTo>
                  <a:pt x="59" y="316"/>
                </a:lnTo>
                <a:lnTo>
                  <a:pt x="44" y="319"/>
                </a:lnTo>
                <a:lnTo>
                  <a:pt x="31" y="325"/>
                </a:lnTo>
                <a:lnTo>
                  <a:pt x="22" y="332"/>
                </a:lnTo>
                <a:lnTo>
                  <a:pt x="16" y="342"/>
                </a:lnTo>
                <a:lnTo>
                  <a:pt x="13" y="355"/>
                </a:lnTo>
                <a:lnTo>
                  <a:pt x="11" y="369"/>
                </a:lnTo>
                <a:lnTo>
                  <a:pt x="15" y="386"/>
                </a:lnTo>
                <a:lnTo>
                  <a:pt x="17" y="402"/>
                </a:lnTo>
                <a:lnTo>
                  <a:pt x="16" y="415"/>
                </a:lnTo>
                <a:lnTo>
                  <a:pt x="13" y="425"/>
                </a:lnTo>
                <a:lnTo>
                  <a:pt x="9" y="434"/>
                </a:lnTo>
                <a:lnTo>
                  <a:pt x="4" y="444"/>
                </a:lnTo>
                <a:lnTo>
                  <a:pt x="1" y="454"/>
                </a:lnTo>
                <a:lnTo>
                  <a:pt x="0" y="466"/>
                </a:lnTo>
                <a:lnTo>
                  <a:pt x="2" y="482"/>
                </a:lnTo>
                <a:lnTo>
                  <a:pt x="7" y="499"/>
                </a:lnTo>
                <a:lnTo>
                  <a:pt x="13" y="515"/>
                </a:lnTo>
                <a:lnTo>
                  <a:pt x="18" y="530"/>
                </a:lnTo>
                <a:lnTo>
                  <a:pt x="25" y="543"/>
                </a:lnTo>
                <a:lnTo>
                  <a:pt x="34" y="553"/>
                </a:lnTo>
                <a:lnTo>
                  <a:pt x="45" y="562"/>
                </a:lnTo>
                <a:lnTo>
                  <a:pt x="59" y="568"/>
                </a:lnTo>
                <a:lnTo>
                  <a:pt x="76" y="572"/>
                </a:lnTo>
                <a:lnTo>
                  <a:pt x="94" y="575"/>
                </a:lnTo>
                <a:lnTo>
                  <a:pt x="113" y="579"/>
                </a:lnTo>
                <a:lnTo>
                  <a:pt x="130" y="584"/>
                </a:lnTo>
                <a:lnTo>
                  <a:pt x="145" y="593"/>
                </a:lnTo>
                <a:lnTo>
                  <a:pt x="159" y="605"/>
                </a:lnTo>
                <a:lnTo>
                  <a:pt x="169" y="621"/>
                </a:lnTo>
                <a:lnTo>
                  <a:pt x="176" y="642"/>
                </a:lnTo>
                <a:lnTo>
                  <a:pt x="179" y="668"/>
                </a:lnTo>
                <a:lnTo>
                  <a:pt x="181" y="695"/>
                </a:lnTo>
                <a:lnTo>
                  <a:pt x="185" y="718"/>
                </a:lnTo>
                <a:lnTo>
                  <a:pt x="191" y="740"/>
                </a:lnTo>
                <a:lnTo>
                  <a:pt x="198" y="762"/>
                </a:lnTo>
                <a:lnTo>
                  <a:pt x="203" y="785"/>
                </a:lnTo>
                <a:lnTo>
                  <a:pt x="206" y="810"/>
                </a:lnTo>
                <a:lnTo>
                  <a:pt x="207" y="841"/>
                </a:lnTo>
                <a:lnTo>
                  <a:pt x="203" y="878"/>
                </a:lnTo>
                <a:lnTo>
                  <a:pt x="196" y="915"/>
                </a:lnTo>
                <a:lnTo>
                  <a:pt x="190" y="945"/>
                </a:lnTo>
                <a:lnTo>
                  <a:pt x="184" y="968"/>
                </a:lnTo>
                <a:lnTo>
                  <a:pt x="181" y="986"/>
                </a:lnTo>
                <a:lnTo>
                  <a:pt x="180" y="999"/>
                </a:lnTo>
                <a:lnTo>
                  <a:pt x="180" y="1009"/>
                </a:lnTo>
                <a:lnTo>
                  <a:pt x="184" y="1016"/>
                </a:lnTo>
                <a:lnTo>
                  <a:pt x="191" y="1022"/>
                </a:lnTo>
                <a:lnTo>
                  <a:pt x="200" y="1028"/>
                </a:lnTo>
                <a:lnTo>
                  <a:pt x="210" y="1034"/>
                </a:lnTo>
                <a:lnTo>
                  <a:pt x="218" y="1042"/>
                </a:lnTo>
                <a:lnTo>
                  <a:pt x="225" y="1050"/>
                </a:lnTo>
                <a:lnTo>
                  <a:pt x="227" y="1057"/>
                </a:lnTo>
                <a:lnTo>
                  <a:pt x="225" y="1062"/>
                </a:lnTo>
                <a:lnTo>
                  <a:pt x="217" y="1067"/>
                </a:lnTo>
                <a:lnTo>
                  <a:pt x="203" y="1068"/>
                </a:lnTo>
                <a:lnTo>
                  <a:pt x="189" y="1070"/>
                </a:lnTo>
                <a:lnTo>
                  <a:pt x="183" y="1075"/>
                </a:lnTo>
                <a:lnTo>
                  <a:pt x="183" y="1082"/>
                </a:lnTo>
                <a:lnTo>
                  <a:pt x="188" y="1089"/>
                </a:lnTo>
                <a:lnTo>
                  <a:pt x="194" y="1097"/>
                </a:lnTo>
                <a:lnTo>
                  <a:pt x="200" y="1104"/>
                </a:lnTo>
                <a:lnTo>
                  <a:pt x="206" y="1108"/>
                </a:lnTo>
                <a:lnTo>
                  <a:pt x="208" y="1111"/>
                </a:lnTo>
                <a:lnTo>
                  <a:pt x="206" y="1111"/>
                </a:lnTo>
                <a:lnTo>
                  <a:pt x="200" y="1110"/>
                </a:lnTo>
                <a:lnTo>
                  <a:pt x="191" y="1108"/>
                </a:lnTo>
                <a:lnTo>
                  <a:pt x="182" y="1108"/>
                </a:lnTo>
                <a:lnTo>
                  <a:pt x="172" y="1111"/>
                </a:lnTo>
                <a:lnTo>
                  <a:pt x="162" y="1115"/>
                </a:lnTo>
                <a:lnTo>
                  <a:pt x="157" y="1123"/>
                </a:lnTo>
                <a:lnTo>
                  <a:pt x="154" y="1135"/>
                </a:lnTo>
                <a:lnTo>
                  <a:pt x="157" y="1149"/>
                </a:lnTo>
                <a:lnTo>
                  <a:pt x="164" y="1163"/>
                </a:lnTo>
                <a:lnTo>
                  <a:pt x="173" y="1176"/>
                </a:lnTo>
                <a:lnTo>
                  <a:pt x="184" y="1187"/>
                </a:lnTo>
                <a:lnTo>
                  <a:pt x="196" y="1196"/>
                </a:lnTo>
                <a:lnTo>
                  <a:pt x="207" y="1201"/>
                </a:lnTo>
                <a:lnTo>
                  <a:pt x="219" y="1201"/>
                </a:lnTo>
                <a:lnTo>
                  <a:pt x="227" y="1195"/>
                </a:lnTo>
                <a:lnTo>
                  <a:pt x="234" y="1186"/>
                </a:lnTo>
                <a:lnTo>
                  <a:pt x="238" y="1178"/>
                </a:lnTo>
                <a:lnTo>
                  <a:pt x="244" y="1171"/>
                </a:lnTo>
                <a:lnTo>
                  <a:pt x="249" y="1165"/>
                </a:lnTo>
                <a:lnTo>
                  <a:pt x="252" y="1161"/>
                </a:lnTo>
                <a:lnTo>
                  <a:pt x="258" y="1158"/>
                </a:lnTo>
                <a:lnTo>
                  <a:pt x="263" y="1158"/>
                </a:lnTo>
                <a:lnTo>
                  <a:pt x="270" y="1159"/>
                </a:lnTo>
                <a:lnTo>
                  <a:pt x="278" y="1174"/>
                </a:lnTo>
                <a:lnTo>
                  <a:pt x="275" y="1202"/>
                </a:lnTo>
                <a:lnTo>
                  <a:pt x="267" y="1233"/>
                </a:lnTo>
                <a:lnTo>
                  <a:pt x="258" y="1255"/>
                </a:lnTo>
                <a:lnTo>
                  <a:pt x="252" y="1261"/>
                </a:lnTo>
                <a:lnTo>
                  <a:pt x="244" y="1265"/>
                </a:lnTo>
                <a:lnTo>
                  <a:pt x="234" y="1270"/>
                </a:lnTo>
                <a:lnTo>
                  <a:pt x="223" y="1273"/>
                </a:lnTo>
                <a:lnTo>
                  <a:pt x="212" y="1279"/>
                </a:lnTo>
                <a:lnTo>
                  <a:pt x="202" y="1285"/>
                </a:lnTo>
                <a:lnTo>
                  <a:pt x="192" y="1292"/>
                </a:lnTo>
                <a:lnTo>
                  <a:pt x="184" y="1302"/>
                </a:lnTo>
                <a:lnTo>
                  <a:pt x="177" y="1318"/>
                </a:lnTo>
                <a:lnTo>
                  <a:pt x="169" y="1340"/>
                </a:lnTo>
                <a:lnTo>
                  <a:pt x="161" y="1369"/>
                </a:lnTo>
                <a:lnTo>
                  <a:pt x="154" y="1399"/>
                </a:lnTo>
                <a:lnTo>
                  <a:pt x="149" y="1430"/>
                </a:lnTo>
                <a:lnTo>
                  <a:pt x="144" y="1459"/>
                </a:lnTo>
                <a:lnTo>
                  <a:pt x="142" y="1483"/>
                </a:lnTo>
                <a:lnTo>
                  <a:pt x="143" y="1500"/>
                </a:lnTo>
                <a:lnTo>
                  <a:pt x="146" y="1514"/>
                </a:lnTo>
                <a:lnTo>
                  <a:pt x="153" y="1530"/>
                </a:lnTo>
                <a:lnTo>
                  <a:pt x="160" y="1547"/>
                </a:lnTo>
                <a:lnTo>
                  <a:pt x="168" y="1566"/>
                </a:lnTo>
                <a:lnTo>
                  <a:pt x="174" y="1585"/>
                </a:lnTo>
                <a:lnTo>
                  <a:pt x="180" y="1606"/>
                </a:lnTo>
                <a:lnTo>
                  <a:pt x="181" y="1628"/>
                </a:lnTo>
                <a:lnTo>
                  <a:pt x="179" y="1650"/>
                </a:lnTo>
                <a:lnTo>
                  <a:pt x="176" y="1672"/>
                </a:lnTo>
                <a:lnTo>
                  <a:pt x="179" y="1694"/>
                </a:lnTo>
                <a:lnTo>
                  <a:pt x="184" y="1714"/>
                </a:lnTo>
                <a:lnTo>
                  <a:pt x="191" y="1735"/>
                </a:lnTo>
                <a:lnTo>
                  <a:pt x="200" y="1754"/>
                </a:lnTo>
                <a:lnTo>
                  <a:pt x="210" y="1772"/>
                </a:lnTo>
                <a:lnTo>
                  <a:pt x="219" y="1791"/>
                </a:lnTo>
                <a:lnTo>
                  <a:pt x="227" y="1807"/>
                </a:lnTo>
                <a:lnTo>
                  <a:pt x="235" y="1825"/>
                </a:lnTo>
                <a:lnTo>
                  <a:pt x="245" y="1847"/>
                </a:lnTo>
                <a:lnTo>
                  <a:pt x="257" y="1872"/>
                </a:lnTo>
                <a:lnTo>
                  <a:pt x="270" y="1897"/>
                </a:lnTo>
                <a:lnTo>
                  <a:pt x="283" y="1918"/>
                </a:lnTo>
                <a:lnTo>
                  <a:pt x="300" y="1937"/>
                </a:lnTo>
                <a:lnTo>
                  <a:pt x="315" y="1948"/>
                </a:lnTo>
                <a:lnTo>
                  <a:pt x="331" y="1951"/>
                </a:lnTo>
                <a:lnTo>
                  <a:pt x="346" y="1950"/>
                </a:lnTo>
                <a:lnTo>
                  <a:pt x="358" y="1953"/>
                </a:lnTo>
                <a:lnTo>
                  <a:pt x="370" y="1959"/>
                </a:lnTo>
                <a:lnTo>
                  <a:pt x="379" y="1967"/>
                </a:lnTo>
                <a:lnTo>
                  <a:pt x="386" y="1977"/>
                </a:lnTo>
                <a:lnTo>
                  <a:pt x="392" y="1988"/>
                </a:lnTo>
                <a:lnTo>
                  <a:pt x="395" y="1999"/>
                </a:lnTo>
                <a:lnTo>
                  <a:pt x="396" y="2011"/>
                </a:lnTo>
                <a:lnTo>
                  <a:pt x="398" y="2016"/>
                </a:lnTo>
                <a:lnTo>
                  <a:pt x="401" y="2022"/>
                </a:lnTo>
                <a:lnTo>
                  <a:pt x="406" y="2028"/>
                </a:lnTo>
                <a:lnTo>
                  <a:pt x="413" y="2032"/>
                </a:lnTo>
                <a:lnTo>
                  <a:pt x="421" y="2037"/>
                </a:lnTo>
                <a:lnTo>
                  <a:pt x="430" y="2042"/>
                </a:lnTo>
                <a:lnTo>
                  <a:pt x="439" y="2044"/>
                </a:lnTo>
                <a:lnTo>
                  <a:pt x="449" y="2046"/>
                </a:lnTo>
                <a:lnTo>
                  <a:pt x="460" y="2047"/>
                </a:lnTo>
                <a:lnTo>
                  <a:pt x="470" y="2046"/>
                </a:lnTo>
                <a:lnTo>
                  <a:pt x="479" y="2044"/>
                </a:lnTo>
                <a:lnTo>
                  <a:pt x="489" y="2039"/>
                </a:lnTo>
                <a:lnTo>
                  <a:pt x="497" y="2034"/>
                </a:lnTo>
                <a:lnTo>
                  <a:pt x="504" y="2024"/>
                </a:lnTo>
                <a:lnTo>
                  <a:pt x="508" y="2013"/>
                </a:lnTo>
                <a:lnTo>
                  <a:pt x="512" y="1998"/>
                </a:lnTo>
                <a:lnTo>
                  <a:pt x="515" y="1969"/>
                </a:lnTo>
                <a:lnTo>
                  <a:pt x="519" y="1947"/>
                </a:lnTo>
                <a:lnTo>
                  <a:pt x="522" y="1930"/>
                </a:lnTo>
                <a:lnTo>
                  <a:pt x="524" y="1916"/>
                </a:lnTo>
                <a:lnTo>
                  <a:pt x="529" y="1906"/>
                </a:lnTo>
                <a:lnTo>
                  <a:pt x="534" y="1898"/>
                </a:lnTo>
                <a:lnTo>
                  <a:pt x="539" y="1891"/>
                </a:lnTo>
                <a:lnTo>
                  <a:pt x="547" y="1884"/>
                </a:lnTo>
                <a:lnTo>
                  <a:pt x="557" y="1865"/>
                </a:lnTo>
                <a:lnTo>
                  <a:pt x="555" y="1840"/>
                </a:lnTo>
                <a:lnTo>
                  <a:pt x="551" y="1816"/>
                </a:lnTo>
                <a:lnTo>
                  <a:pt x="554" y="1800"/>
                </a:lnTo>
                <a:lnTo>
                  <a:pt x="561" y="1792"/>
                </a:lnTo>
                <a:lnTo>
                  <a:pt x="570" y="1779"/>
                </a:lnTo>
                <a:lnTo>
                  <a:pt x="582" y="1762"/>
                </a:lnTo>
                <a:lnTo>
                  <a:pt x="595" y="1741"/>
                </a:lnTo>
                <a:lnTo>
                  <a:pt x="605" y="1718"/>
                </a:lnTo>
                <a:lnTo>
                  <a:pt x="614" y="1695"/>
                </a:lnTo>
                <a:lnTo>
                  <a:pt x="620" y="1672"/>
                </a:lnTo>
                <a:lnTo>
                  <a:pt x="621" y="1650"/>
                </a:lnTo>
                <a:lnTo>
                  <a:pt x="622" y="1629"/>
                </a:lnTo>
                <a:lnTo>
                  <a:pt x="630" y="1607"/>
                </a:lnTo>
                <a:lnTo>
                  <a:pt x="642" y="1587"/>
                </a:lnTo>
                <a:lnTo>
                  <a:pt x="658" y="1567"/>
                </a:lnTo>
                <a:lnTo>
                  <a:pt x="675" y="1550"/>
                </a:lnTo>
                <a:lnTo>
                  <a:pt x="692" y="1536"/>
                </a:lnTo>
                <a:lnTo>
                  <a:pt x="707" y="1528"/>
                </a:lnTo>
                <a:lnTo>
                  <a:pt x="718" y="1524"/>
                </a:lnTo>
                <a:lnTo>
                  <a:pt x="728" y="1523"/>
                </a:lnTo>
                <a:lnTo>
                  <a:pt x="743" y="1519"/>
                </a:lnTo>
                <a:lnTo>
                  <a:pt x="760" y="1511"/>
                </a:lnTo>
                <a:lnTo>
                  <a:pt x="777" y="1498"/>
                </a:lnTo>
                <a:lnTo>
                  <a:pt x="795" y="1482"/>
                </a:lnTo>
                <a:lnTo>
                  <a:pt x="814" y="1461"/>
                </a:lnTo>
                <a:lnTo>
                  <a:pt x="831" y="1436"/>
                </a:lnTo>
                <a:lnTo>
                  <a:pt x="846" y="1405"/>
                </a:lnTo>
                <a:lnTo>
                  <a:pt x="858" y="1375"/>
                </a:lnTo>
                <a:lnTo>
                  <a:pt x="867" y="1354"/>
                </a:lnTo>
                <a:lnTo>
                  <a:pt x="875" y="1338"/>
                </a:lnTo>
                <a:lnTo>
                  <a:pt x="881" y="1327"/>
                </a:lnTo>
                <a:lnTo>
                  <a:pt x="888" y="1320"/>
                </a:lnTo>
                <a:lnTo>
                  <a:pt x="893" y="1316"/>
                </a:lnTo>
                <a:lnTo>
                  <a:pt x="901" y="1312"/>
                </a:lnTo>
                <a:lnTo>
                  <a:pt x="912" y="1309"/>
                </a:lnTo>
                <a:lnTo>
                  <a:pt x="919" y="1305"/>
                </a:lnTo>
                <a:lnTo>
                  <a:pt x="929" y="1299"/>
                </a:lnTo>
                <a:lnTo>
                  <a:pt x="943" y="1289"/>
                </a:lnTo>
                <a:lnTo>
                  <a:pt x="958" y="1279"/>
                </a:lnTo>
                <a:lnTo>
                  <a:pt x="974" y="1265"/>
                </a:lnTo>
                <a:lnTo>
                  <a:pt x="991" y="1251"/>
                </a:lnTo>
                <a:lnTo>
                  <a:pt x="1009" y="1236"/>
                </a:lnTo>
                <a:lnTo>
                  <a:pt x="1027" y="1220"/>
                </a:lnTo>
                <a:lnTo>
                  <a:pt x="1045" y="1204"/>
                </a:lnTo>
                <a:lnTo>
                  <a:pt x="1062" y="1188"/>
                </a:lnTo>
                <a:lnTo>
                  <a:pt x="1078" y="1173"/>
                </a:lnTo>
                <a:lnTo>
                  <a:pt x="1092" y="1158"/>
                </a:lnTo>
                <a:lnTo>
                  <a:pt x="1103" y="1143"/>
                </a:lnTo>
                <a:lnTo>
                  <a:pt x="1111" y="1130"/>
                </a:lnTo>
                <a:lnTo>
                  <a:pt x="1117" y="1120"/>
                </a:lnTo>
                <a:lnTo>
                  <a:pt x="1119" y="1111"/>
                </a:lnTo>
                <a:lnTo>
                  <a:pt x="1116" y="1097"/>
                </a:lnTo>
                <a:lnTo>
                  <a:pt x="1104" y="1087"/>
                </a:lnTo>
                <a:lnTo>
                  <a:pt x="1088" y="1080"/>
                </a:lnTo>
                <a:lnTo>
                  <a:pt x="1070" y="1077"/>
                </a:lnTo>
                <a:lnTo>
                  <a:pt x="1048" y="1077"/>
                </a:lnTo>
                <a:lnTo>
                  <a:pt x="1027" y="1082"/>
                </a:lnTo>
                <a:lnTo>
                  <a:pt x="1007" y="1088"/>
                </a:lnTo>
                <a:lnTo>
                  <a:pt x="991" y="1098"/>
                </a:lnTo>
                <a:lnTo>
                  <a:pt x="983" y="1105"/>
                </a:lnTo>
                <a:lnTo>
                  <a:pt x="983" y="1102"/>
                </a:lnTo>
                <a:lnTo>
                  <a:pt x="988" y="1093"/>
                </a:lnTo>
                <a:lnTo>
                  <a:pt x="995" y="1081"/>
                </a:lnTo>
                <a:lnTo>
                  <a:pt x="999" y="1066"/>
                </a:lnTo>
                <a:lnTo>
                  <a:pt x="998" y="1053"/>
                </a:lnTo>
                <a:lnTo>
                  <a:pt x="989" y="1043"/>
                </a:lnTo>
                <a:lnTo>
                  <a:pt x="967" y="1039"/>
                </a:lnTo>
                <a:lnTo>
                  <a:pt x="958" y="1038"/>
                </a:lnTo>
                <a:lnTo>
                  <a:pt x="961" y="1034"/>
                </a:lnTo>
                <a:lnTo>
                  <a:pt x="975" y="1028"/>
                </a:lnTo>
                <a:lnTo>
                  <a:pt x="994" y="1022"/>
                </a:lnTo>
                <a:lnTo>
                  <a:pt x="1015" y="1019"/>
                </a:lnTo>
                <a:lnTo>
                  <a:pt x="1035" y="1017"/>
                </a:lnTo>
                <a:lnTo>
                  <a:pt x="1051" y="1020"/>
                </a:lnTo>
                <a:lnTo>
                  <a:pt x="1058" y="1028"/>
                </a:lnTo>
                <a:lnTo>
                  <a:pt x="1063" y="1037"/>
                </a:lnTo>
                <a:lnTo>
                  <a:pt x="1071" y="1043"/>
                </a:lnTo>
                <a:lnTo>
                  <a:pt x="1082" y="1045"/>
                </a:lnTo>
                <a:lnTo>
                  <a:pt x="1094" y="1043"/>
                </a:lnTo>
                <a:lnTo>
                  <a:pt x="1105" y="1038"/>
                </a:lnTo>
                <a:lnTo>
                  <a:pt x="1116" y="1030"/>
                </a:lnTo>
                <a:lnTo>
                  <a:pt x="1123" y="1019"/>
                </a:lnTo>
                <a:lnTo>
                  <a:pt x="1125" y="1004"/>
                </a:lnTo>
                <a:lnTo>
                  <a:pt x="1124" y="989"/>
                </a:lnTo>
                <a:lnTo>
                  <a:pt x="1120" y="976"/>
                </a:lnTo>
                <a:lnTo>
                  <a:pt x="1115" y="966"/>
                </a:lnTo>
                <a:lnTo>
                  <a:pt x="1107" y="955"/>
                </a:lnTo>
                <a:lnTo>
                  <a:pt x="1096" y="946"/>
                </a:lnTo>
                <a:lnTo>
                  <a:pt x="1085" y="937"/>
                </a:lnTo>
                <a:lnTo>
                  <a:pt x="1070" y="929"/>
                </a:lnTo>
                <a:lnTo>
                  <a:pt x="1052" y="920"/>
                </a:lnTo>
                <a:lnTo>
                  <a:pt x="1036" y="913"/>
                </a:lnTo>
                <a:lnTo>
                  <a:pt x="1022" y="909"/>
                </a:lnTo>
                <a:lnTo>
                  <a:pt x="1013" y="908"/>
                </a:lnTo>
                <a:lnTo>
                  <a:pt x="1007" y="908"/>
                </a:lnTo>
                <a:lnTo>
                  <a:pt x="1003" y="908"/>
                </a:lnTo>
                <a:lnTo>
                  <a:pt x="1002" y="907"/>
                </a:lnTo>
                <a:lnTo>
                  <a:pt x="1002" y="903"/>
                </a:lnTo>
                <a:lnTo>
                  <a:pt x="1003" y="896"/>
                </a:lnTo>
                <a:lnTo>
                  <a:pt x="1009" y="891"/>
                </a:lnTo>
                <a:lnTo>
                  <a:pt x="1018" y="891"/>
                </a:lnTo>
                <a:lnTo>
                  <a:pt x="1029" y="893"/>
                </a:lnTo>
                <a:lnTo>
                  <a:pt x="1042" y="896"/>
                </a:lnTo>
                <a:lnTo>
                  <a:pt x="1051" y="899"/>
                </a:lnTo>
                <a:lnTo>
                  <a:pt x="1058" y="898"/>
                </a:lnTo>
                <a:lnTo>
                  <a:pt x="1059" y="892"/>
                </a:lnTo>
                <a:lnTo>
                  <a:pt x="1052" y="878"/>
                </a:lnTo>
                <a:lnTo>
                  <a:pt x="1041" y="862"/>
                </a:lnTo>
                <a:lnTo>
                  <a:pt x="1030" y="848"/>
                </a:lnTo>
                <a:lnTo>
                  <a:pt x="1021" y="838"/>
                </a:lnTo>
                <a:lnTo>
                  <a:pt x="1014" y="830"/>
                </a:lnTo>
                <a:lnTo>
                  <a:pt x="1010" y="823"/>
                </a:lnTo>
                <a:lnTo>
                  <a:pt x="1009" y="818"/>
                </a:lnTo>
                <a:lnTo>
                  <a:pt x="1013" y="815"/>
                </a:lnTo>
                <a:lnTo>
                  <a:pt x="1021" y="812"/>
                </a:lnTo>
                <a:lnTo>
                  <a:pt x="1033" y="808"/>
                </a:lnTo>
                <a:lnTo>
                  <a:pt x="1043" y="801"/>
                </a:lnTo>
                <a:lnTo>
                  <a:pt x="1051" y="790"/>
                </a:lnTo>
                <a:lnTo>
                  <a:pt x="1059" y="780"/>
                </a:lnTo>
                <a:lnTo>
                  <a:pt x="1064" y="767"/>
                </a:lnTo>
                <a:lnTo>
                  <a:pt x="1067" y="756"/>
                </a:lnTo>
                <a:lnTo>
                  <a:pt x="1067" y="744"/>
                </a:lnTo>
                <a:lnTo>
                  <a:pt x="1064" y="734"/>
                </a:lnTo>
                <a:lnTo>
                  <a:pt x="1062" y="725"/>
                </a:lnTo>
                <a:lnTo>
                  <a:pt x="1063" y="716"/>
                </a:lnTo>
                <a:lnTo>
                  <a:pt x="1066" y="706"/>
                </a:lnTo>
                <a:lnTo>
                  <a:pt x="1071" y="698"/>
                </a:lnTo>
                <a:lnTo>
                  <a:pt x="1074" y="689"/>
                </a:lnTo>
                <a:lnTo>
                  <a:pt x="1075" y="680"/>
                </a:lnTo>
                <a:lnTo>
                  <a:pt x="1072" y="672"/>
                </a:lnTo>
                <a:lnTo>
                  <a:pt x="1064" y="663"/>
                </a:lnTo>
                <a:lnTo>
                  <a:pt x="1056" y="655"/>
                </a:lnTo>
                <a:lnTo>
                  <a:pt x="1051" y="646"/>
                </a:lnTo>
                <a:lnTo>
                  <a:pt x="1051" y="640"/>
                </a:lnTo>
                <a:lnTo>
                  <a:pt x="1052" y="632"/>
                </a:lnTo>
                <a:lnTo>
                  <a:pt x="1054" y="625"/>
                </a:lnTo>
                <a:lnTo>
                  <a:pt x="1055" y="618"/>
                </a:lnTo>
                <a:lnTo>
                  <a:pt x="1052" y="610"/>
                </a:lnTo>
                <a:lnTo>
                  <a:pt x="1045" y="602"/>
                </a:lnTo>
                <a:lnTo>
                  <a:pt x="1034" y="592"/>
                </a:lnTo>
                <a:lnTo>
                  <a:pt x="1020" y="582"/>
                </a:lnTo>
                <a:lnTo>
                  <a:pt x="1005" y="570"/>
                </a:lnTo>
                <a:lnTo>
                  <a:pt x="990" y="559"/>
                </a:lnTo>
                <a:lnTo>
                  <a:pt x="980" y="547"/>
                </a:lnTo>
                <a:lnTo>
                  <a:pt x="974" y="535"/>
                </a:lnTo>
                <a:lnTo>
                  <a:pt x="975" y="523"/>
                </a:lnTo>
                <a:lnTo>
                  <a:pt x="986" y="512"/>
                </a:lnTo>
                <a:lnTo>
                  <a:pt x="998" y="501"/>
                </a:lnTo>
                <a:lnTo>
                  <a:pt x="1006" y="491"/>
                </a:lnTo>
                <a:lnTo>
                  <a:pt x="1010" y="482"/>
                </a:lnTo>
                <a:lnTo>
                  <a:pt x="1010" y="474"/>
                </a:lnTo>
                <a:lnTo>
                  <a:pt x="1006" y="468"/>
                </a:lnTo>
                <a:lnTo>
                  <a:pt x="999" y="463"/>
                </a:lnTo>
                <a:lnTo>
                  <a:pt x="990" y="460"/>
                </a:lnTo>
                <a:lnTo>
                  <a:pt x="979" y="459"/>
                </a:lnTo>
                <a:lnTo>
                  <a:pt x="969" y="456"/>
                </a:lnTo>
                <a:lnTo>
                  <a:pt x="964" y="452"/>
                </a:lnTo>
                <a:lnTo>
                  <a:pt x="960" y="444"/>
                </a:lnTo>
                <a:lnTo>
                  <a:pt x="958" y="436"/>
                </a:lnTo>
                <a:lnTo>
                  <a:pt x="956" y="428"/>
                </a:lnTo>
                <a:lnTo>
                  <a:pt x="952" y="421"/>
                </a:lnTo>
                <a:lnTo>
                  <a:pt x="946" y="416"/>
                </a:lnTo>
                <a:lnTo>
                  <a:pt x="937" y="416"/>
                </a:lnTo>
                <a:lnTo>
                  <a:pt x="920" y="405"/>
                </a:lnTo>
                <a:lnTo>
                  <a:pt x="913" y="371"/>
                </a:lnTo>
                <a:lnTo>
                  <a:pt x="912" y="328"/>
                </a:lnTo>
                <a:lnTo>
                  <a:pt x="912" y="290"/>
                </a:lnTo>
                <a:lnTo>
                  <a:pt x="914" y="263"/>
                </a:lnTo>
                <a:lnTo>
                  <a:pt x="920" y="240"/>
                </a:lnTo>
                <a:lnTo>
                  <a:pt x="922" y="219"/>
                </a:lnTo>
                <a:lnTo>
                  <a:pt x="919" y="195"/>
                </a:lnTo>
                <a:lnTo>
                  <a:pt x="917" y="173"/>
                </a:lnTo>
                <a:lnTo>
                  <a:pt x="924" y="146"/>
                </a:lnTo>
                <a:lnTo>
                  <a:pt x="934" y="120"/>
                </a:lnTo>
                <a:lnTo>
                  <a:pt x="939" y="95"/>
                </a:lnTo>
                <a:lnTo>
                  <a:pt x="939" y="84"/>
                </a:lnTo>
                <a:lnTo>
                  <a:pt x="937" y="75"/>
                </a:lnTo>
                <a:lnTo>
                  <a:pt x="932" y="68"/>
                </a:lnTo>
                <a:lnTo>
                  <a:pt x="924" y="62"/>
                </a:lnTo>
                <a:lnTo>
                  <a:pt x="917" y="60"/>
                </a:lnTo>
                <a:lnTo>
                  <a:pt x="911" y="59"/>
                </a:lnTo>
                <a:lnTo>
                  <a:pt x="904" y="59"/>
                </a:lnTo>
                <a:lnTo>
                  <a:pt x="898" y="59"/>
                </a:lnTo>
                <a:lnTo>
                  <a:pt x="889" y="62"/>
                </a:lnTo>
                <a:lnTo>
                  <a:pt x="879" y="68"/>
                </a:lnTo>
                <a:lnTo>
                  <a:pt x="871" y="76"/>
                </a:lnTo>
                <a:lnTo>
                  <a:pt x="863" y="84"/>
                </a:lnTo>
                <a:lnTo>
                  <a:pt x="856" y="93"/>
                </a:lnTo>
                <a:lnTo>
                  <a:pt x="851" y="104"/>
                </a:lnTo>
                <a:lnTo>
                  <a:pt x="845" y="113"/>
                </a:lnTo>
                <a:lnTo>
                  <a:pt x="839" y="122"/>
                </a:lnTo>
                <a:lnTo>
                  <a:pt x="832" y="133"/>
                </a:lnTo>
                <a:lnTo>
                  <a:pt x="826" y="140"/>
                </a:lnTo>
                <a:lnTo>
                  <a:pt x="821" y="143"/>
                </a:lnTo>
                <a:lnTo>
                  <a:pt x="816" y="144"/>
                </a:lnTo>
                <a:lnTo>
                  <a:pt x="813" y="143"/>
                </a:lnTo>
                <a:lnTo>
                  <a:pt x="809" y="140"/>
                </a:lnTo>
                <a:lnTo>
                  <a:pt x="806" y="133"/>
                </a:lnTo>
                <a:lnTo>
                  <a:pt x="803" y="122"/>
                </a:lnTo>
                <a:lnTo>
                  <a:pt x="800" y="114"/>
                </a:lnTo>
                <a:lnTo>
                  <a:pt x="795" y="110"/>
                </a:lnTo>
                <a:lnTo>
                  <a:pt x="790" y="111"/>
                </a:lnTo>
                <a:lnTo>
                  <a:pt x="783" y="114"/>
                </a:lnTo>
                <a:lnTo>
                  <a:pt x="776" y="120"/>
                </a:lnTo>
                <a:lnTo>
                  <a:pt x="769" y="128"/>
                </a:lnTo>
                <a:lnTo>
                  <a:pt x="761" y="137"/>
                </a:lnTo>
                <a:lnTo>
                  <a:pt x="754" y="146"/>
                </a:lnTo>
                <a:lnTo>
                  <a:pt x="750" y="151"/>
                </a:lnTo>
                <a:lnTo>
                  <a:pt x="750" y="149"/>
                </a:lnTo>
                <a:lnTo>
                  <a:pt x="753" y="142"/>
                </a:lnTo>
                <a:lnTo>
                  <a:pt x="755" y="133"/>
                </a:lnTo>
                <a:lnTo>
                  <a:pt x="754" y="121"/>
                </a:lnTo>
                <a:lnTo>
                  <a:pt x="749" y="112"/>
                </a:lnTo>
                <a:lnTo>
                  <a:pt x="738" y="106"/>
                </a:lnTo>
                <a:lnTo>
                  <a:pt x="718" y="10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5" name="Freeform 426"/>
          <p:cNvSpPr/>
          <p:nvPr/>
        </p:nvSpPr>
        <p:spPr>
          <a:xfrm>
            <a:off x="2490840" y="2948040"/>
            <a:ext cx="58680" cy="52200"/>
          </a:xfrm>
          <a:custGeom>
            <a:avLst/>
            <a:gdLst/>
            <a:ahLst/>
            <a:rect l="l" t="t" r="r" b="b"/>
            <a:pathLst>
              <a:path w="40" h="36">
                <a:moveTo>
                  <a:pt x="39" y="19"/>
                </a:moveTo>
                <a:lnTo>
                  <a:pt x="38" y="21"/>
                </a:lnTo>
                <a:lnTo>
                  <a:pt x="35" y="25"/>
                </a:lnTo>
                <a:lnTo>
                  <a:pt x="31" y="29"/>
                </a:lnTo>
                <a:lnTo>
                  <a:pt x="27" y="33"/>
                </a:lnTo>
                <a:lnTo>
                  <a:pt x="23" y="35"/>
                </a:lnTo>
                <a:lnTo>
                  <a:pt x="18" y="36"/>
                </a:lnTo>
                <a:lnTo>
                  <a:pt x="13" y="36"/>
                </a:lnTo>
                <a:lnTo>
                  <a:pt x="12" y="36"/>
                </a:lnTo>
                <a:lnTo>
                  <a:pt x="11" y="35"/>
                </a:lnTo>
                <a:lnTo>
                  <a:pt x="10" y="33"/>
                </a:lnTo>
                <a:lnTo>
                  <a:pt x="8" y="31"/>
                </a:lnTo>
                <a:lnTo>
                  <a:pt x="4" y="27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7" y="11"/>
                </a:lnTo>
                <a:lnTo>
                  <a:pt x="12" y="6"/>
                </a:lnTo>
                <a:lnTo>
                  <a:pt x="16" y="2"/>
                </a:lnTo>
                <a:lnTo>
                  <a:pt x="19" y="0"/>
                </a:lnTo>
                <a:lnTo>
                  <a:pt x="24" y="1"/>
                </a:lnTo>
                <a:lnTo>
                  <a:pt x="31" y="3"/>
                </a:lnTo>
                <a:lnTo>
                  <a:pt x="37" y="6"/>
                </a:lnTo>
                <a:lnTo>
                  <a:pt x="40" y="11"/>
                </a:lnTo>
                <a:lnTo>
                  <a:pt x="39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2600" bIns="-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Freeform 427"/>
          <p:cNvSpPr/>
          <p:nvPr/>
        </p:nvSpPr>
        <p:spPr>
          <a:xfrm>
            <a:off x="2990880" y="3368520"/>
            <a:ext cx="36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2"/>
                </a:moveTo>
                <a:lnTo>
                  <a:pt x="1" y="1"/>
                </a:lnTo>
                <a:lnTo>
                  <a:pt x="0" y="0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8320" bIns="-58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7" name="Freeform 428"/>
          <p:cNvSpPr/>
          <p:nvPr/>
        </p:nvSpPr>
        <p:spPr>
          <a:xfrm>
            <a:off x="3498840" y="3416400"/>
            <a:ext cx="4680" cy="936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8"/>
                </a:moveTo>
                <a:lnTo>
                  <a:pt x="5" y="6"/>
                </a:lnTo>
                <a:lnTo>
                  <a:pt x="5" y="5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2" y="5"/>
                </a:lnTo>
                <a:lnTo>
                  <a:pt x="5" y="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Freeform 429"/>
          <p:cNvSpPr/>
          <p:nvPr/>
        </p:nvSpPr>
        <p:spPr>
          <a:xfrm>
            <a:off x="3000240" y="2822400"/>
            <a:ext cx="20880" cy="2088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7"/>
                </a:moveTo>
                <a:lnTo>
                  <a:pt x="9" y="13"/>
                </a:lnTo>
                <a:lnTo>
                  <a:pt x="14" y="15"/>
                </a:lnTo>
                <a:lnTo>
                  <a:pt x="14" y="14"/>
                </a:lnTo>
                <a:lnTo>
                  <a:pt x="10" y="7"/>
                </a:lnTo>
                <a:lnTo>
                  <a:pt x="9" y="5"/>
                </a:lnTo>
                <a:lnTo>
                  <a:pt x="9" y="3"/>
                </a:lnTo>
                <a:lnTo>
                  <a:pt x="8" y="1"/>
                </a:lnTo>
                <a:lnTo>
                  <a:pt x="7" y="0"/>
                </a:lnTo>
                <a:lnTo>
                  <a:pt x="6" y="1"/>
                </a:lnTo>
                <a:lnTo>
                  <a:pt x="3" y="2"/>
                </a:lnTo>
                <a:lnTo>
                  <a:pt x="2" y="3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9" name="Freeform 430"/>
          <p:cNvSpPr/>
          <p:nvPr/>
        </p:nvSpPr>
        <p:spPr>
          <a:xfrm>
            <a:off x="3267000" y="3487680"/>
            <a:ext cx="204840" cy="171360"/>
          </a:xfrm>
          <a:custGeom>
            <a:avLst/>
            <a:gdLst/>
            <a:ahLst/>
            <a:rect l="l" t="t" r="r" b="b"/>
            <a:pathLst>
              <a:path w="135" h="119">
                <a:moveTo>
                  <a:pt x="122" y="59"/>
                </a:moveTo>
                <a:lnTo>
                  <a:pt x="124" y="60"/>
                </a:lnTo>
                <a:lnTo>
                  <a:pt x="130" y="62"/>
                </a:lnTo>
                <a:lnTo>
                  <a:pt x="135" y="67"/>
                </a:lnTo>
                <a:lnTo>
                  <a:pt x="133" y="71"/>
                </a:lnTo>
                <a:lnTo>
                  <a:pt x="129" y="76"/>
                </a:lnTo>
                <a:lnTo>
                  <a:pt x="126" y="78"/>
                </a:lnTo>
                <a:lnTo>
                  <a:pt x="124" y="81"/>
                </a:lnTo>
                <a:lnTo>
                  <a:pt x="121" y="83"/>
                </a:lnTo>
                <a:lnTo>
                  <a:pt x="118" y="83"/>
                </a:lnTo>
                <a:lnTo>
                  <a:pt x="116" y="83"/>
                </a:lnTo>
                <a:lnTo>
                  <a:pt x="114" y="82"/>
                </a:lnTo>
                <a:lnTo>
                  <a:pt x="108" y="79"/>
                </a:lnTo>
                <a:lnTo>
                  <a:pt x="101" y="77"/>
                </a:lnTo>
                <a:lnTo>
                  <a:pt x="95" y="75"/>
                </a:lnTo>
                <a:lnTo>
                  <a:pt x="91" y="74"/>
                </a:lnTo>
                <a:lnTo>
                  <a:pt x="86" y="71"/>
                </a:lnTo>
                <a:lnTo>
                  <a:pt x="82" y="68"/>
                </a:lnTo>
                <a:lnTo>
                  <a:pt x="77" y="66"/>
                </a:lnTo>
                <a:lnTo>
                  <a:pt x="72" y="66"/>
                </a:lnTo>
                <a:lnTo>
                  <a:pt x="70" y="70"/>
                </a:lnTo>
                <a:lnTo>
                  <a:pt x="71" y="78"/>
                </a:lnTo>
                <a:lnTo>
                  <a:pt x="72" y="85"/>
                </a:lnTo>
                <a:lnTo>
                  <a:pt x="72" y="92"/>
                </a:lnTo>
                <a:lnTo>
                  <a:pt x="68" y="96"/>
                </a:lnTo>
                <a:lnTo>
                  <a:pt x="61" y="99"/>
                </a:lnTo>
                <a:lnTo>
                  <a:pt x="58" y="102"/>
                </a:lnTo>
                <a:lnTo>
                  <a:pt x="57" y="107"/>
                </a:lnTo>
                <a:lnTo>
                  <a:pt x="56" y="111"/>
                </a:lnTo>
                <a:lnTo>
                  <a:pt x="53" y="114"/>
                </a:lnTo>
                <a:lnTo>
                  <a:pt x="48" y="117"/>
                </a:lnTo>
                <a:lnTo>
                  <a:pt x="44" y="119"/>
                </a:lnTo>
                <a:lnTo>
                  <a:pt x="40" y="116"/>
                </a:lnTo>
                <a:lnTo>
                  <a:pt x="39" y="111"/>
                </a:lnTo>
                <a:lnTo>
                  <a:pt x="38" y="105"/>
                </a:lnTo>
                <a:lnTo>
                  <a:pt x="34" y="100"/>
                </a:lnTo>
                <a:lnTo>
                  <a:pt x="29" y="99"/>
                </a:lnTo>
                <a:lnTo>
                  <a:pt x="23" y="99"/>
                </a:lnTo>
                <a:lnTo>
                  <a:pt x="20" y="100"/>
                </a:lnTo>
                <a:lnTo>
                  <a:pt x="17" y="101"/>
                </a:lnTo>
                <a:lnTo>
                  <a:pt x="10" y="104"/>
                </a:lnTo>
                <a:lnTo>
                  <a:pt x="3" y="105"/>
                </a:lnTo>
                <a:lnTo>
                  <a:pt x="0" y="101"/>
                </a:lnTo>
                <a:lnTo>
                  <a:pt x="1" y="97"/>
                </a:lnTo>
                <a:lnTo>
                  <a:pt x="4" y="90"/>
                </a:lnTo>
                <a:lnTo>
                  <a:pt x="9" y="84"/>
                </a:lnTo>
                <a:lnTo>
                  <a:pt x="12" y="82"/>
                </a:lnTo>
                <a:lnTo>
                  <a:pt x="16" y="79"/>
                </a:lnTo>
                <a:lnTo>
                  <a:pt x="16" y="75"/>
                </a:lnTo>
                <a:lnTo>
                  <a:pt x="14" y="68"/>
                </a:lnTo>
                <a:lnTo>
                  <a:pt x="12" y="61"/>
                </a:lnTo>
                <a:lnTo>
                  <a:pt x="11" y="55"/>
                </a:lnTo>
                <a:lnTo>
                  <a:pt x="12" y="48"/>
                </a:lnTo>
                <a:lnTo>
                  <a:pt x="12" y="44"/>
                </a:lnTo>
                <a:lnTo>
                  <a:pt x="10" y="39"/>
                </a:lnTo>
                <a:lnTo>
                  <a:pt x="8" y="35"/>
                </a:lnTo>
                <a:lnTo>
                  <a:pt x="8" y="26"/>
                </a:lnTo>
                <a:lnTo>
                  <a:pt x="8" y="16"/>
                </a:lnTo>
                <a:lnTo>
                  <a:pt x="8" y="8"/>
                </a:lnTo>
                <a:lnTo>
                  <a:pt x="9" y="2"/>
                </a:lnTo>
                <a:lnTo>
                  <a:pt x="12" y="0"/>
                </a:lnTo>
                <a:lnTo>
                  <a:pt x="18" y="1"/>
                </a:lnTo>
                <a:lnTo>
                  <a:pt x="24" y="3"/>
                </a:lnTo>
                <a:lnTo>
                  <a:pt x="27" y="9"/>
                </a:lnTo>
                <a:lnTo>
                  <a:pt x="30" y="18"/>
                </a:lnTo>
                <a:lnTo>
                  <a:pt x="32" y="26"/>
                </a:lnTo>
                <a:lnTo>
                  <a:pt x="33" y="30"/>
                </a:lnTo>
                <a:lnTo>
                  <a:pt x="37" y="30"/>
                </a:lnTo>
                <a:lnTo>
                  <a:pt x="40" y="28"/>
                </a:lnTo>
                <a:lnTo>
                  <a:pt x="44" y="25"/>
                </a:lnTo>
                <a:lnTo>
                  <a:pt x="48" y="23"/>
                </a:lnTo>
                <a:lnTo>
                  <a:pt x="54" y="23"/>
                </a:lnTo>
                <a:lnTo>
                  <a:pt x="61" y="24"/>
                </a:lnTo>
                <a:lnTo>
                  <a:pt x="70" y="26"/>
                </a:lnTo>
                <a:lnTo>
                  <a:pt x="78" y="30"/>
                </a:lnTo>
                <a:lnTo>
                  <a:pt x="85" y="33"/>
                </a:lnTo>
                <a:lnTo>
                  <a:pt x="90" y="40"/>
                </a:lnTo>
                <a:lnTo>
                  <a:pt x="93" y="48"/>
                </a:lnTo>
                <a:lnTo>
                  <a:pt x="98" y="54"/>
                </a:lnTo>
                <a:lnTo>
                  <a:pt x="100" y="58"/>
                </a:lnTo>
                <a:lnTo>
                  <a:pt x="101" y="59"/>
                </a:lnTo>
                <a:lnTo>
                  <a:pt x="122" y="5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Freeform 431"/>
          <p:cNvSpPr/>
          <p:nvPr/>
        </p:nvSpPr>
        <p:spPr>
          <a:xfrm>
            <a:off x="3102120" y="2973240"/>
            <a:ext cx="850680" cy="568440"/>
          </a:xfrm>
          <a:custGeom>
            <a:avLst/>
            <a:gdLst/>
            <a:ahLst/>
            <a:rect l="l" t="t" r="r" b="b"/>
            <a:pathLst>
              <a:path w="556" h="395">
                <a:moveTo>
                  <a:pt x="539" y="379"/>
                </a:moveTo>
                <a:lnTo>
                  <a:pt x="540" y="380"/>
                </a:lnTo>
                <a:lnTo>
                  <a:pt x="542" y="383"/>
                </a:lnTo>
                <a:lnTo>
                  <a:pt x="541" y="387"/>
                </a:lnTo>
                <a:lnTo>
                  <a:pt x="533" y="388"/>
                </a:lnTo>
                <a:lnTo>
                  <a:pt x="527" y="388"/>
                </a:lnTo>
                <a:lnTo>
                  <a:pt x="523" y="387"/>
                </a:lnTo>
                <a:lnTo>
                  <a:pt x="518" y="387"/>
                </a:lnTo>
                <a:lnTo>
                  <a:pt x="514" y="388"/>
                </a:lnTo>
                <a:lnTo>
                  <a:pt x="510" y="388"/>
                </a:lnTo>
                <a:lnTo>
                  <a:pt x="506" y="389"/>
                </a:lnTo>
                <a:lnTo>
                  <a:pt x="501" y="390"/>
                </a:lnTo>
                <a:lnTo>
                  <a:pt x="495" y="392"/>
                </a:lnTo>
                <a:lnTo>
                  <a:pt x="488" y="393"/>
                </a:lnTo>
                <a:lnTo>
                  <a:pt x="482" y="394"/>
                </a:lnTo>
                <a:lnTo>
                  <a:pt x="478" y="395"/>
                </a:lnTo>
                <a:lnTo>
                  <a:pt x="473" y="395"/>
                </a:lnTo>
                <a:lnTo>
                  <a:pt x="468" y="395"/>
                </a:lnTo>
                <a:lnTo>
                  <a:pt x="464" y="394"/>
                </a:lnTo>
                <a:lnTo>
                  <a:pt x="459" y="394"/>
                </a:lnTo>
                <a:lnTo>
                  <a:pt x="453" y="393"/>
                </a:lnTo>
                <a:lnTo>
                  <a:pt x="449" y="393"/>
                </a:lnTo>
                <a:lnTo>
                  <a:pt x="444" y="393"/>
                </a:lnTo>
                <a:lnTo>
                  <a:pt x="440" y="394"/>
                </a:lnTo>
                <a:lnTo>
                  <a:pt x="435" y="395"/>
                </a:lnTo>
                <a:lnTo>
                  <a:pt x="430" y="395"/>
                </a:lnTo>
                <a:lnTo>
                  <a:pt x="427" y="395"/>
                </a:lnTo>
                <a:lnTo>
                  <a:pt x="422" y="394"/>
                </a:lnTo>
                <a:lnTo>
                  <a:pt x="419" y="392"/>
                </a:lnTo>
                <a:lnTo>
                  <a:pt x="414" y="386"/>
                </a:lnTo>
                <a:lnTo>
                  <a:pt x="413" y="380"/>
                </a:lnTo>
                <a:lnTo>
                  <a:pt x="409" y="375"/>
                </a:lnTo>
                <a:lnTo>
                  <a:pt x="397" y="372"/>
                </a:lnTo>
                <a:lnTo>
                  <a:pt x="389" y="371"/>
                </a:lnTo>
                <a:lnTo>
                  <a:pt x="382" y="368"/>
                </a:lnTo>
                <a:lnTo>
                  <a:pt x="376" y="366"/>
                </a:lnTo>
                <a:lnTo>
                  <a:pt x="372" y="364"/>
                </a:lnTo>
                <a:lnTo>
                  <a:pt x="368" y="362"/>
                </a:lnTo>
                <a:lnTo>
                  <a:pt x="365" y="359"/>
                </a:lnTo>
                <a:lnTo>
                  <a:pt x="362" y="358"/>
                </a:lnTo>
                <a:lnTo>
                  <a:pt x="359" y="356"/>
                </a:lnTo>
                <a:lnTo>
                  <a:pt x="354" y="352"/>
                </a:lnTo>
                <a:lnTo>
                  <a:pt x="350" y="351"/>
                </a:lnTo>
                <a:lnTo>
                  <a:pt x="344" y="352"/>
                </a:lnTo>
                <a:lnTo>
                  <a:pt x="335" y="357"/>
                </a:lnTo>
                <a:lnTo>
                  <a:pt x="324" y="362"/>
                </a:lnTo>
                <a:lnTo>
                  <a:pt x="316" y="363"/>
                </a:lnTo>
                <a:lnTo>
                  <a:pt x="309" y="365"/>
                </a:lnTo>
                <a:lnTo>
                  <a:pt x="304" y="370"/>
                </a:lnTo>
                <a:lnTo>
                  <a:pt x="297" y="377"/>
                </a:lnTo>
                <a:lnTo>
                  <a:pt x="290" y="381"/>
                </a:lnTo>
                <a:lnTo>
                  <a:pt x="283" y="381"/>
                </a:lnTo>
                <a:lnTo>
                  <a:pt x="276" y="377"/>
                </a:lnTo>
                <a:lnTo>
                  <a:pt x="271" y="373"/>
                </a:lnTo>
                <a:lnTo>
                  <a:pt x="267" y="370"/>
                </a:lnTo>
                <a:lnTo>
                  <a:pt x="262" y="366"/>
                </a:lnTo>
                <a:lnTo>
                  <a:pt x="259" y="363"/>
                </a:lnTo>
                <a:lnTo>
                  <a:pt x="256" y="358"/>
                </a:lnTo>
                <a:lnTo>
                  <a:pt x="256" y="355"/>
                </a:lnTo>
                <a:lnTo>
                  <a:pt x="260" y="350"/>
                </a:lnTo>
                <a:lnTo>
                  <a:pt x="268" y="344"/>
                </a:lnTo>
                <a:lnTo>
                  <a:pt x="277" y="340"/>
                </a:lnTo>
                <a:lnTo>
                  <a:pt x="283" y="337"/>
                </a:lnTo>
                <a:lnTo>
                  <a:pt x="288" y="337"/>
                </a:lnTo>
                <a:lnTo>
                  <a:pt x="291" y="337"/>
                </a:lnTo>
                <a:lnTo>
                  <a:pt x="293" y="337"/>
                </a:lnTo>
                <a:lnTo>
                  <a:pt x="296" y="336"/>
                </a:lnTo>
                <a:lnTo>
                  <a:pt x="300" y="334"/>
                </a:lnTo>
                <a:lnTo>
                  <a:pt x="305" y="329"/>
                </a:lnTo>
                <a:lnTo>
                  <a:pt x="316" y="320"/>
                </a:lnTo>
                <a:lnTo>
                  <a:pt x="326" y="313"/>
                </a:lnTo>
                <a:lnTo>
                  <a:pt x="330" y="307"/>
                </a:lnTo>
                <a:lnTo>
                  <a:pt x="327" y="301"/>
                </a:lnTo>
                <a:lnTo>
                  <a:pt x="318" y="295"/>
                </a:lnTo>
                <a:lnTo>
                  <a:pt x="308" y="292"/>
                </a:lnTo>
                <a:lnTo>
                  <a:pt x="305" y="287"/>
                </a:lnTo>
                <a:lnTo>
                  <a:pt x="309" y="273"/>
                </a:lnTo>
                <a:lnTo>
                  <a:pt x="320" y="258"/>
                </a:lnTo>
                <a:lnTo>
                  <a:pt x="328" y="246"/>
                </a:lnTo>
                <a:lnTo>
                  <a:pt x="327" y="235"/>
                </a:lnTo>
                <a:lnTo>
                  <a:pt x="315" y="218"/>
                </a:lnTo>
                <a:lnTo>
                  <a:pt x="306" y="208"/>
                </a:lnTo>
                <a:lnTo>
                  <a:pt x="297" y="200"/>
                </a:lnTo>
                <a:lnTo>
                  <a:pt x="289" y="193"/>
                </a:lnTo>
                <a:lnTo>
                  <a:pt x="282" y="188"/>
                </a:lnTo>
                <a:lnTo>
                  <a:pt x="274" y="183"/>
                </a:lnTo>
                <a:lnTo>
                  <a:pt x="267" y="180"/>
                </a:lnTo>
                <a:lnTo>
                  <a:pt x="260" y="176"/>
                </a:lnTo>
                <a:lnTo>
                  <a:pt x="252" y="173"/>
                </a:lnTo>
                <a:lnTo>
                  <a:pt x="244" y="169"/>
                </a:lnTo>
                <a:lnTo>
                  <a:pt x="236" y="166"/>
                </a:lnTo>
                <a:lnTo>
                  <a:pt x="228" y="161"/>
                </a:lnTo>
                <a:lnTo>
                  <a:pt x="221" y="156"/>
                </a:lnTo>
                <a:lnTo>
                  <a:pt x="214" y="152"/>
                </a:lnTo>
                <a:lnTo>
                  <a:pt x="208" y="148"/>
                </a:lnTo>
                <a:lnTo>
                  <a:pt x="202" y="145"/>
                </a:lnTo>
                <a:lnTo>
                  <a:pt x="199" y="142"/>
                </a:lnTo>
                <a:lnTo>
                  <a:pt x="191" y="137"/>
                </a:lnTo>
                <a:lnTo>
                  <a:pt x="183" y="132"/>
                </a:lnTo>
                <a:lnTo>
                  <a:pt x="178" y="131"/>
                </a:lnTo>
                <a:lnTo>
                  <a:pt x="179" y="137"/>
                </a:lnTo>
                <a:lnTo>
                  <a:pt x="185" y="146"/>
                </a:lnTo>
                <a:lnTo>
                  <a:pt x="186" y="152"/>
                </a:lnTo>
                <a:lnTo>
                  <a:pt x="183" y="155"/>
                </a:lnTo>
                <a:lnTo>
                  <a:pt x="171" y="155"/>
                </a:lnTo>
                <a:lnTo>
                  <a:pt x="163" y="155"/>
                </a:lnTo>
                <a:lnTo>
                  <a:pt x="159" y="155"/>
                </a:lnTo>
                <a:lnTo>
                  <a:pt x="154" y="156"/>
                </a:lnTo>
                <a:lnTo>
                  <a:pt x="151" y="159"/>
                </a:lnTo>
                <a:lnTo>
                  <a:pt x="147" y="161"/>
                </a:lnTo>
                <a:lnTo>
                  <a:pt x="142" y="162"/>
                </a:lnTo>
                <a:lnTo>
                  <a:pt x="138" y="163"/>
                </a:lnTo>
                <a:lnTo>
                  <a:pt x="131" y="165"/>
                </a:lnTo>
                <a:lnTo>
                  <a:pt x="124" y="166"/>
                </a:lnTo>
                <a:lnTo>
                  <a:pt x="118" y="167"/>
                </a:lnTo>
                <a:lnTo>
                  <a:pt x="114" y="168"/>
                </a:lnTo>
                <a:lnTo>
                  <a:pt x="110" y="169"/>
                </a:lnTo>
                <a:lnTo>
                  <a:pt x="106" y="170"/>
                </a:lnTo>
                <a:lnTo>
                  <a:pt x="101" y="170"/>
                </a:lnTo>
                <a:lnTo>
                  <a:pt x="95" y="170"/>
                </a:lnTo>
                <a:lnTo>
                  <a:pt x="87" y="169"/>
                </a:lnTo>
                <a:lnTo>
                  <a:pt x="74" y="166"/>
                </a:lnTo>
                <a:lnTo>
                  <a:pt x="70" y="162"/>
                </a:lnTo>
                <a:lnTo>
                  <a:pt x="66" y="160"/>
                </a:lnTo>
                <a:lnTo>
                  <a:pt x="60" y="161"/>
                </a:lnTo>
                <a:lnTo>
                  <a:pt x="51" y="166"/>
                </a:lnTo>
                <a:lnTo>
                  <a:pt x="47" y="168"/>
                </a:lnTo>
                <a:lnTo>
                  <a:pt x="43" y="168"/>
                </a:lnTo>
                <a:lnTo>
                  <a:pt x="35" y="163"/>
                </a:lnTo>
                <a:lnTo>
                  <a:pt x="30" y="160"/>
                </a:lnTo>
                <a:lnTo>
                  <a:pt x="24" y="156"/>
                </a:lnTo>
                <a:lnTo>
                  <a:pt x="18" y="153"/>
                </a:lnTo>
                <a:lnTo>
                  <a:pt x="13" y="151"/>
                </a:lnTo>
                <a:lnTo>
                  <a:pt x="10" y="148"/>
                </a:lnTo>
                <a:lnTo>
                  <a:pt x="9" y="145"/>
                </a:lnTo>
                <a:lnTo>
                  <a:pt x="11" y="143"/>
                </a:lnTo>
                <a:lnTo>
                  <a:pt x="16" y="140"/>
                </a:lnTo>
                <a:lnTo>
                  <a:pt x="23" y="138"/>
                </a:lnTo>
                <a:lnTo>
                  <a:pt x="30" y="137"/>
                </a:lnTo>
                <a:lnTo>
                  <a:pt x="36" y="136"/>
                </a:lnTo>
                <a:lnTo>
                  <a:pt x="41" y="135"/>
                </a:lnTo>
                <a:lnTo>
                  <a:pt x="45" y="133"/>
                </a:lnTo>
                <a:lnTo>
                  <a:pt x="45" y="132"/>
                </a:lnTo>
                <a:lnTo>
                  <a:pt x="42" y="130"/>
                </a:lnTo>
                <a:lnTo>
                  <a:pt x="35" y="128"/>
                </a:lnTo>
                <a:lnTo>
                  <a:pt x="27" y="125"/>
                </a:lnTo>
                <a:lnTo>
                  <a:pt x="19" y="123"/>
                </a:lnTo>
                <a:lnTo>
                  <a:pt x="13" y="122"/>
                </a:lnTo>
                <a:lnTo>
                  <a:pt x="9" y="121"/>
                </a:lnTo>
                <a:lnTo>
                  <a:pt x="4" y="118"/>
                </a:lnTo>
                <a:lnTo>
                  <a:pt x="2" y="116"/>
                </a:lnTo>
                <a:lnTo>
                  <a:pt x="0" y="112"/>
                </a:lnTo>
                <a:lnTo>
                  <a:pt x="0" y="105"/>
                </a:lnTo>
                <a:lnTo>
                  <a:pt x="0" y="93"/>
                </a:lnTo>
                <a:lnTo>
                  <a:pt x="0" y="85"/>
                </a:lnTo>
                <a:lnTo>
                  <a:pt x="0" y="76"/>
                </a:lnTo>
                <a:lnTo>
                  <a:pt x="1" y="60"/>
                </a:lnTo>
                <a:lnTo>
                  <a:pt x="5" y="39"/>
                </a:lnTo>
                <a:lnTo>
                  <a:pt x="12" y="21"/>
                </a:lnTo>
                <a:lnTo>
                  <a:pt x="22" y="9"/>
                </a:lnTo>
                <a:lnTo>
                  <a:pt x="31" y="3"/>
                </a:lnTo>
                <a:lnTo>
                  <a:pt x="39" y="3"/>
                </a:lnTo>
                <a:lnTo>
                  <a:pt x="46" y="6"/>
                </a:lnTo>
                <a:lnTo>
                  <a:pt x="50" y="10"/>
                </a:lnTo>
                <a:lnTo>
                  <a:pt x="49" y="19"/>
                </a:lnTo>
                <a:lnTo>
                  <a:pt x="43" y="40"/>
                </a:lnTo>
                <a:lnTo>
                  <a:pt x="42" y="56"/>
                </a:lnTo>
                <a:lnTo>
                  <a:pt x="45" y="70"/>
                </a:lnTo>
                <a:lnTo>
                  <a:pt x="50" y="80"/>
                </a:lnTo>
                <a:lnTo>
                  <a:pt x="56" y="90"/>
                </a:lnTo>
                <a:lnTo>
                  <a:pt x="62" y="97"/>
                </a:lnTo>
                <a:lnTo>
                  <a:pt x="68" y="102"/>
                </a:lnTo>
                <a:lnTo>
                  <a:pt x="71" y="108"/>
                </a:lnTo>
                <a:lnTo>
                  <a:pt x="70" y="107"/>
                </a:lnTo>
                <a:lnTo>
                  <a:pt x="63" y="87"/>
                </a:lnTo>
                <a:lnTo>
                  <a:pt x="56" y="62"/>
                </a:lnTo>
                <a:lnTo>
                  <a:pt x="55" y="41"/>
                </a:lnTo>
                <a:lnTo>
                  <a:pt x="58" y="26"/>
                </a:lnTo>
                <a:lnTo>
                  <a:pt x="62" y="12"/>
                </a:lnTo>
                <a:lnTo>
                  <a:pt x="69" y="3"/>
                </a:lnTo>
                <a:lnTo>
                  <a:pt x="79" y="0"/>
                </a:lnTo>
                <a:lnTo>
                  <a:pt x="91" y="2"/>
                </a:lnTo>
                <a:lnTo>
                  <a:pt x="100" y="7"/>
                </a:lnTo>
                <a:lnTo>
                  <a:pt x="106" y="14"/>
                </a:lnTo>
                <a:lnTo>
                  <a:pt x="109" y="21"/>
                </a:lnTo>
                <a:lnTo>
                  <a:pt x="111" y="26"/>
                </a:lnTo>
                <a:lnTo>
                  <a:pt x="114" y="32"/>
                </a:lnTo>
                <a:lnTo>
                  <a:pt x="115" y="39"/>
                </a:lnTo>
                <a:lnTo>
                  <a:pt x="116" y="47"/>
                </a:lnTo>
                <a:lnTo>
                  <a:pt x="118" y="53"/>
                </a:lnTo>
                <a:lnTo>
                  <a:pt x="124" y="54"/>
                </a:lnTo>
                <a:lnTo>
                  <a:pt x="132" y="52"/>
                </a:lnTo>
                <a:lnTo>
                  <a:pt x="140" y="47"/>
                </a:lnTo>
                <a:lnTo>
                  <a:pt x="146" y="41"/>
                </a:lnTo>
                <a:lnTo>
                  <a:pt x="147" y="36"/>
                </a:lnTo>
                <a:lnTo>
                  <a:pt x="149" y="31"/>
                </a:lnTo>
                <a:lnTo>
                  <a:pt x="156" y="27"/>
                </a:lnTo>
                <a:lnTo>
                  <a:pt x="164" y="23"/>
                </a:lnTo>
                <a:lnTo>
                  <a:pt x="169" y="19"/>
                </a:lnTo>
                <a:lnTo>
                  <a:pt x="175" y="19"/>
                </a:lnTo>
                <a:lnTo>
                  <a:pt x="185" y="24"/>
                </a:lnTo>
                <a:lnTo>
                  <a:pt x="197" y="32"/>
                </a:lnTo>
                <a:lnTo>
                  <a:pt x="202" y="38"/>
                </a:lnTo>
                <a:lnTo>
                  <a:pt x="206" y="44"/>
                </a:lnTo>
                <a:lnTo>
                  <a:pt x="209" y="49"/>
                </a:lnTo>
                <a:lnTo>
                  <a:pt x="214" y="55"/>
                </a:lnTo>
                <a:lnTo>
                  <a:pt x="221" y="60"/>
                </a:lnTo>
                <a:lnTo>
                  <a:pt x="227" y="61"/>
                </a:lnTo>
                <a:lnTo>
                  <a:pt x="231" y="56"/>
                </a:lnTo>
                <a:lnTo>
                  <a:pt x="237" y="49"/>
                </a:lnTo>
                <a:lnTo>
                  <a:pt x="246" y="46"/>
                </a:lnTo>
                <a:lnTo>
                  <a:pt x="256" y="46"/>
                </a:lnTo>
                <a:lnTo>
                  <a:pt x="263" y="49"/>
                </a:lnTo>
                <a:lnTo>
                  <a:pt x="266" y="54"/>
                </a:lnTo>
                <a:lnTo>
                  <a:pt x="268" y="56"/>
                </a:lnTo>
                <a:lnTo>
                  <a:pt x="271" y="59"/>
                </a:lnTo>
                <a:lnTo>
                  <a:pt x="281" y="61"/>
                </a:lnTo>
                <a:lnTo>
                  <a:pt x="288" y="62"/>
                </a:lnTo>
                <a:lnTo>
                  <a:pt x="296" y="62"/>
                </a:lnTo>
                <a:lnTo>
                  <a:pt x="304" y="63"/>
                </a:lnTo>
                <a:lnTo>
                  <a:pt x="311" y="63"/>
                </a:lnTo>
                <a:lnTo>
                  <a:pt x="318" y="63"/>
                </a:lnTo>
                <a:lnTo>
                  <a:pt x="321" y="64"/>
                </a:lnTo>
                <a:lnTo>
                  <a:pt x="323" y="67"/>
                </a:lnTo>
                <a:lnTo>
                  <a:pt x="321" y="69"/>
                </a:lnTo>
                <a:lnTo>
                  <a:pt x="319" y="72"/>
                </a:lnTo>
                <a:lnTo>
                  <a:pt x="322" y="72"/>
                </a:lnTo>
                <a:lnTo>
                  <a:pt x="329" y="72"/>
                </a:lnTo>
                <a:lnTo>
                  <a:pt x="335" y="74"/>
                </a:lnTo>
                <a:lnTo>
                  <a:pt x="339" y="78"/>
                </a:lnTo>
                <a:lnTo>
                  <a:pt x="345" y="83"/>
                </a:lnTo>
                <a:lnTo>
                  <a:pt x="349" y="86"/>
                </a:lnTo>
                <a:lnTo>
                  <a:pt x="351" y="87"/>
                </a:lnTo>
                <a:lnTo>
                  <a:pt x="350" y="87"/>
                </a:lnTo>
                <a:lnTo>
                  <a:pt x="345" y="89"/>
                </a:lnTo>
                <a:lnTo>
                  <a:pt x="342" y="91"/>
                </a:lnTo>
                <a:lnTo>
                  <a:pt x="339" y="93"/>
                </a:lnTo>
                <a:lnTo>
                  <a:pt x="343" y="97"/>
                </a:lnTo>
                <a:lnTo>
                  <a:pt x="352" y="100"/>
                </a:lnTo>
                <a:lnTo>
                  <a:pt x="361" y="102"/>
                </a:lnTo>
                <a:lnTo>
                  <a:pt x="361" y="105"/>
                </a:lnTo>
                <a:lnTo>
                  <a:pt x="357" y="107"/>
                </a:lnTo>
                <a:lnTo>
                  <a:pt x="353" y="108"/>
                </a:lnTo>
                <a:lnTo>
                  <a:pt x="351" y="110"/>
                </a:lnTo>
                <a:lnTo>
                  <a:pt x="351" y="115"/>
                </a:lnTo>
                <a:lnTo>
                  <a:pt x="350" y="118"/>
                </a:lnTo>
                <a:lnTo>
                  <a:pt x="349" y="123"/>
                </a:lnTo>
                <a:lnTo>
                  <a:pt x="349" y="127"/>
                </a:lnTo>
                <a:lnTo>
                  <a:pt x="353" y="132"/>
                </a:lnTo>
                <a:lnTo>
                  <a:pt x="361" y="135"/>
                </a:lnTo>
                <a:lnTo>
                  <a:pt x="371" y="133"/>
                </a:lnTo>
                <a:lnTo>
                  <a:pt x="377" y="133"/>
                </a:lnTo>
                <a:lnTo>
                  <a:pt x="384" y="136"/>
                </a:lnTo>
                <a:lnTo>
                  <a:pt x="392" y="143"/>
                </a:lnTo>
                <a:lnTo>
                  <a:pt x="400" y="150"/>
                </a:lnTo>
                <a:lnTo>
                  <a:pt x="407" y="152"/>
                </a:lnTo>
                <a:lnTo>
                  <a:pt x="409" y="150"/>
                </a:lnTo>
                <a:lnTo>
                  <a:pt x="406" y="144"/>
                </a:lnTo>
                <a:lnTo>
                  <a:pt x="403" y="139"/>
                </a:lnTo>
                <a:lnTo>
                  <a:pt x="403" y="137"/>
                </a:lnTo>
                <a:lnTo>
                  <a:pt x="409" y="139"/>
                </a:lnTo>
                <a:lnTo>
                  <a:pt x="414" y="140"/>
                </a:lnTo>
                <a:lnTo>
                  <a:pt x="421" y="142"/>
                </a:lnTo>
                <a:lnTo>
                  <a:pt x="429" y="143"/>
                </a:lnTo>
                <a:lnTo>
                  <a:pt x="436" y="143"/>
                </a:lnTo>
                <a:lnTo>
                  <a:pt x="442" y="144"/>
                </a:lnTo>
                <a:lnTo>
                  <a:pt x="447" y="145"/>
                </a:lnTo>
                <a:lnTo>
                  <a:pt x="450" y="146"/>
                </a:lnTo>
                <a:lnTo>
                  <a:pt x="451" y="148"/>
                </a:lnTo>
                <a:lnTo>
                  <a:pt x="450" y="152"/>
                </a:lnTo>
                <a:lnTo>
                  <a:pt x="451" y="154"/>
                </a:lnTo>
                <a:lnTo>
                  <a:pt x="453" y="155"/>
                </a:lnTo>
                <a:lnTo>
                  <a:pt x="457" y="155"/>
                </a:lnTo>
                <a:lnTo>
                  <a:pt x="461" y="155"/>
                </a:lnTo>
                <a:lnTo>
                  <a:pt x="466" y="153"/>
                </a:lnTo>
                <a:lnTo>
                  <a:pt x="472" y="152"/>
                </a:lnTo>
                <a:lnTo>
                  <a:pt x="480" y="152"/>
                </a:lnTo>
                <a:lnTo>
                  <a:pt x="490" y="153"/>
                </a:lnTo>
                <a:lnTo>
                  <a:pt x="501" y="154"/>
                </a:lnTo>
                <a:lnTo>
                  <a:pt x="509" y="158"/>
                </a:lnTo>
                <a:lnTo>
                  <a:pt x="511" y="163"/>
                </a:lnTo>
                <a:lnTo>
                  <a:pt x="508" y="169"/>
                </a:lnTo>
                <a:lnTo>
                  <a:pt x="501" y="173"/>
                </a:lnTo>
                <a:lnTo>
                  <a:pt x="496" y="176"/>
                </a:lnTo>
                <a:lnTo>
                  <a:pt x="496" y="180"/>
                </a:lnTo>
                <a:lnTo>
                  <a:pt x="501" y="183"/>
                </a:lnTo>
                <a:lnTo>
                  <a:pt x="505" y="186"/>
                </a:lnTo>
                <a:lnTo>
                  <a:pt x="510" y="191"/>
                </a:lnTo>
                <a:lnTo>
                  <a:pt x="511" y="196"/>
                </a:lnTo>
                <a:lnTo>
                  <a:pt x="511" y="200"/>
                </a:lnTo>
                <a:lnTo>
                  <a:pt x="509" y="204"/>
                </a:lnTo>
                <a:lnTo>
                  <a:pt x="505" y="207"/>
                </a:lnTo>
                <a:lnTo>
                  <a:pt x="501" y="209"/>
                </a:lnTo>
                <a:lnTo>
                  <a:pt x="497" y="212"/>
                </a:lnTo>
                <a:lnTo>
                  <a:pt x="497" y="214"/>
                </a:lnTo>
                <a:lnTo>
                  <a:pt x="499" y="219"/>
                </a:lnTo>
                <a:lnTo>
                  <a:pt x="505" y="223"/>
                </a:lnTo>
                <a:lnTo>
                  <a:pt x="511" y="228"/>
                </a:lnTo>
                <a:lnTo>
                  <a:pt x="514" y="234"/>
                </a:lnTo>
                <a:lnTo>
                  <a:pt x="514" y="239"/>
                </a:lnTo>
                <a:lnTo>
                  <a:pt x="511" y="244"/>
                </a:lnTo>
                <a:lnTo>
                  <a:pt x="506" y="248"/>
                </a:lnTo>
                <a:lnTo>
                  <a:pt x="503" y="249"/>
                </a:lnTo>
                <a:lnTo>
                  <a:pt x="501" y="249"/>
                </a:lnTo>
                <a:lnTo>
                  <a:pt x="495" y="245"/>
                </a:lnTo>
                <a:lnTo>
                  <a:pt x="487" y="242"/>
                </a:lnTo>
                <a:lnTo>
                  <a:pt x="480" y="238"/>
                </a:lnTo>
                <a:lnTo>
                  <a:pt x="474" y="235"/>
                </a:lnTo>
                <a:lnTo>
                  <a:pt x="468" y="231"/>
                </a:lnTo>
                <a:lnTo>
                  <a:pt x="465" y="229"/>
                </a:lnTo>
                <a:lnTo>
                  <a:pt x="460" y="228"/>
                </a:lnTo>
                <a:lnTo>
                  <a:pt x="456" y="226"/>
                </a:lnTo>
                <a:lnTo>
                  <a:pt x="449" y="223"/>
                </a:lnTo>
                <a:lnTo>
                  <a:pt x="440" y="220"/>
                </a:lnTo>
                <a:lnTo>
                  <a:pt x="432" y="219"/>
                </a:lnTo>
                <a:lnTo>
                  <a:pt x="425" y="220"/>
                </a:lnTo>
                <a:lnTo>
                  <a:pt x="421" y="224"/>
                </a:lnTo>
                <a:lnTo>
                  <a:pt x="421" y="230"/>
                </a:lnTo>
                <a:lnTo>
                  <a:pt x="423" y="236"/>
                </a:lnTo>
                <a:lnTo>
                  <a:pt x="428" y="243"/>
                </a:lnTo>
                <a:lnTo>
                  <a:pt x="435" y="251"/>
                </a:lnTo>
                <a:lnTo>
                  <a:pt x="440" y="254"/>
                </a:lnTo>
                <a:lnTo>
                  <a:pt x="443" y="259"/>
                </a:lnTo>
                <a:lnTo>
                  <a:pt x="449" y="262"/>
                </a:lnTo>
                <a:lnTo>
                  <a:pt x="453" y="265"/>
                </a:lnTo>
                <a:lnTo>
                  <a:pt x="459" y="268"/>
                </a:lnTo>
                <a:lnTo>
                  <a:pt x="465" y="271"/>
                </a:lnTo>
                <a:lnTo>
                  <a:pt x="471" y="272"/>
                </a:lnTo>
                <a:lnTo>
                  <a:pt x="476" y="273"/>
                </a:lnTo>
                <a:lnTo>
                  <a:pt x="487" y="275"/>
                </a:lnTo>
                <a:lnTo>
                  <a:pt x="495" y="277"/>
                </a:lnTo>
                <a:lnTo>
                  <a:pt x="501" y="281"/>
                </a:lnTo>
                <a:lnTo>
                  <a:pt x="505" y="286"/>
                </a:lnTo>
                <a:lnTo>
                  <a:pt x="512" y="289"/>
                </a:lnTo>
                <a:lnTo>
                  <a:pt x="520" y="291"/>
                </a:lnTo>
                <a:lnTo>
                  <a:pt x="528" y="294"/>
                </a:lnTo>
                <a:lnTo>
                  <a:pt x="533" y="301"/>
                </a:lnTo>
                <a:lnTo>
                  <a:pt x="534" y="307"/>
                </a:lnTo>
                <a:lnTo>
                  <a:pt x="533" y="311"/>
                </a:lnTo>
                <a:lnTo>
                  <a:pt x="533" y="315"/>
                </a:lnTo>
                <a:lnTo>
                  <a:pt x="536" y="324"/>
                </a:lnTo>
                <a:lnTo>
                  <a:pt x="541" y="332"/>
                </a:lnTo>
                <a:lnTo>
                  <a:pt x="543" y="337"/>
                </a:lnTo>
                <a:lnTo>
                  <a:pt x="544" y="342"/>
                </a:lnTo>
                <a:lnTo>
                  <a:pt x="548" y="345"/>
                </a:lnTo>
                <a:lnTo>
                  <a:pt x="552" y="350"/>
                </a:lnTo>
                <a:lnTo>
                  <a:pt x="556" y="354"/>
                </a:lnTo>
                <a:lnTo>
                  <a:pt x="555" y="357"/>
                </a:lnTo>
                <a:lnTo>
                  <a:pt x="549" y="356"/>
                </a:lnTo>
                <a:lnTo>
                  <a:pt x="544" y="352"/>
                </a:lnTo>
                <a:lnTo>
                  <a:pt x="541" y="349"/>
                </a:lnTo>
                <a:lnTo>
                  <a:pt x="535" y="345"/>
                </a:lnTo>
                <a:lnTo>
                  <a:pt x="525" y="345"/>
                </a:lnTo>
                <a:lnTo>
                  <a:pt x="513" y="348"/>
                </a:lnTo>
                <a:lnTo>
                  <a:pt x="505" y="349"/>
                </a:lnTo>
                <a:lnTo>
                  <a:pt x="499" y="349"/>
                </a:lnTo>
                <a:lnTo>
                  <a:pt x="493" y="345"/>
                </a:lnTo>
                <a:lnTo>
                  <a:pt x="488" y="343"/>
                </a:lnTo>
                <a:lnTo>
                  <a:pt x="483" y="342"/>
                </a:lnTo>
                <a:lnTo>
                  <a:pt x="478" y="340"/>
                </a:lnTo>
                <a:lnTo>
                  <a:pt x="472" y="339"/>
                </a:lnTo>
                <a:lnTo>
                  <a:pt x="466" y="337"/>
                </a:lnTo>
                <a:lnTo>
                  <a:pt x="461" y="337"/>
                </a:lnTo>
                <a:lnTo>
                  <a:pt x="457" y="337"/>
                </a:lnTo>
                <a:lnTo>
                  <a:pt x="453" y="337"/>
                </a:lnTo>
                <a:lnTo>
                  <a:pt x="451" y="340"/>
                </a:lnTo>
                <a:lnTo>
                  <a:pt x="455" y="343"/>
                </a:lnTo>
                <a:lnTo>
                  <a:pt x="463" y="347"/>
                </a:lnTo>
                <a:lnTo>
                  <a:pt x="476" y="352"/>
                </a:lnTo>
                <a:lnTo>
                  <a:pt x="485" y="355"/>
                </a:lnTo>
                <a:lnTo>
                  <a:pt x="490" y="357"/>
                </a:lnTo>
                <a:lnTo>
                  <a:pt x="496" y="358"/>
                </a:lnTo>
                <a:lnTo>
                  <a:pt x="499" y="358"/>
                </a:lnTo>
                <a:lnTo>
                  <a:pt x="503" y="359"/>
                </a:lnTo>
                <a:lnTo>
                  <a:pt x="506" y="360"/>
                </a:lnTo>
                <a:lnTo>
                  <a:pt x="509" y="362"/>
                </a:lnTo>
                <a:lnTo>
                  <a:pt x="511" y="364"/>
                </a:lnTo>
                <a:lnTo>
                  <a:pt x="517" y="367"/>
                </a:lnTo>
                <a:lnTo>
                  <a:pt x="525" y="371"/>
                </a:lnTo>
                <a:lnTo>
                  <a:pt x="533" y="374"/>
                </a:lnTo>
                <a:lnTo>
                  <a:pt x="539" y="3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1" name="Freeform 432"/>
          <p:cNvSpPr/>
          <p:nvPr/>
        </p:nvSpPr>
        <p:spPr>
          <a:xfrm>
            <a:off x="2365200" y="2878200"/>
            <a:ext cx="227160" cy="208080"/>
          </a:xfrm>
          <a:custGeom>
            <a:avLst/>
            <a:gdLst/>
            <a:ahLst/>
            <a:rect l="l" t="t" r="r" b="b"/>
            <a:pathLst>
              <a:path w="148" h="146">
                <a:moveTo>
                  <a:pt x="148" y="71"/>
                </a:moveTo>
                <a:lnTo>
                  <a:pt x="146" y="67"/>
                </a:lnTo>
                <a:lnTo>
                  <a:pt x="145" y="56"/>
                </a:lnTo>
                <a:lnTo>
                  <a:pt x="141" y="44"/>
                </a:lnTo>
                <a:lnTo>
                  <a:pt x="135" y="36"/>
                </a:lnTo>
                <a:lnTo>
                  <a:pt x="129" y="33"/>
                </a:lnTo>
                <a:lnTo>
                  <a:pt x="125" y="33"/>
                </a:lnTo>
                <a:lnTo>
                  <a:pt x="120" y="35"/>
                </a:lnTo>
                <a:lnTo>
                  <a:pt x="115" y="32"/>
                </a:lnTo>
                <a:lnTo>
                  <a:pt x="111" y="26"/>
                </a:lnTo>
                <a:lnTo>
                  <a:pt x="108" y="20"/>
                </a:lnTo>
                <a:lnTo>
                  <a:pt x="104" y="14"/>
                </a:lnTo>
                <a:lnTo>
                  <a:pt x="95" y="12"/>
                </a:lnTo>
                <a:lnTo>
                  <a:pt x="88" y="10"/>
                </a:lnTo>
                <a:lnTo>
                  <a:pt x="82" y="9"/>
                </a:lnTo>
                <a:lnTo>
                  <a:pt x="77" y="7"/>
                </a:lnTo>
                <a:lnTo>
                  <a:pt x="73" y="3"/>
                </a:lnTo>
                <a:lnTo>
                  <a:pt x="68" y="1"/>
                </a:lnTo>
                <a:lnTo>
                  <a:pt x="65" y="0"/>
                </a:lnTo>
                <a:lnTo>
                  <a:pt x="62" y="0"/>
                </a:lnTo>
                <a:lnTo>
                  <a:pt x="60" y="2"/>
                </a:lnTo>
                <a:lnTo>
                  <a:pt x="58" y="8"/>
                </a:lnTo>
                <a:lnTo>
                  <a:pt x="58" y="15"/>
                </a:lnTo>
                <a:lnTo>
                  <a:pt x="57" y="20"/>
                </a:lnTo>
                <a:lnTo>
                  <a:pt x="55" y="24"/>
                </a:lnTo>
                <a:lnTo>
                  <a:pt x="50" y="31"/>
                </a:lnTo>
                <a:lnTo>
                  <a:pt x="42" y="40"/>
                </a:lnTo>
                <a:lnTo>
                  <a:pt x="32" y="50"/>
                </a:lnTo>
                <a:lnTo>
                  <a:pt x="27" y="55"/>
                </a:lnTo>
                <a:lnTo>
                  <a:pt x="20" y="62"/>
                </a:lnTo>
                <a:lnTo>
                  <a:pt x="11" y="71"/>
                </a:lnTo>
                <a:lnTo>
                  <a:pt x="3" y="82"/>
                </a:lnTo>
                <a:lnTo>
                  <a:pt x="0" y="90"/>
                </a:lnTo>
                <a:lnTo>
                  <a:pt x="3" y="91"/>
                </a:lnTo>
                <a:lnTo>
                  <a:pt x="4" y="91"/>
                </a:lnTo>
                <a:lnTo>
                  <a:pt x="6" y="94"/>
                </a:lnTo>
                <a:lnTo>
                  <a:pt x="11" y="107"/>
                </a:lnTo>
                <a:lnTo>
                  <a:pt x="14" y="123"/>
                </a:lnTo>
                <a:lnTo>
                  <a:pt x="14" y="136"/>
                </a:lnTo>
                <a:lnTo>
                  <a:pt x="15" y="144"/>
                </a:lnTo>
                <a:lnTo>
                  <a:pt x="20" y="146"/>
                </a:lnTo>
                <a:lnTo>
                  <a:pt x="27" y="143"/>
                </a:lnTo>
                <a:lnTo>
                  <a:pt x="32" y="139"/>
                </a:lnTo>
                <a:lnTo>
                  <a:pt x="36" y="137"/>
                </a:lnTo>
                <a:lnTo>
                  <a:pt x="39" y="138"/>
                </a:lnTo>
                <a:lnTo>
                  <a:pt x="44" y="143"/>
                </a:lnTo>
                <a:lnTo>
                  <a:pt x="50" y="146"/>
                </a:lnTo>
                <a:lnTo>
                  <a:pt x="55" y="145"/>
                </a:lnTo>
                <a:lnTo>
                  <a:pt x="60" y="135"/>
                </a:lnTo>
                <a:lnTo>
                  <a:pt x="66" y="124"/>
                </a:lnTo>
                <a:lnTo>
                  <a:pt x="75" y="119"/>
                </a:lnTo>
                <a:lnTo>
                  <a:pt x="83" y="116"/>
                </a:lnTo>
                <a:lnTo>
                  <a:pt x="87" y="111"/>
                </a:lnTo>
                <a:lnTo>
                  <a:pt x="87" y="104"/>
                </a:lnTo>
                <a:lnTo>
                  <a:pt x="87" y="99"/>
                </a:lnTo>
                <a:lnTo>
                  <a:pt x="91" y="96"/>
                </a:lnTo>
                <a:lnTo>
                  <a:pt x="104" y="92"/>
                </a:lnTo>
                <a:lnTo>
                  <a:pt x="112" y="90"/>
                </a:lnTo>
                <a:lnTo>
                  <a:pt x="120" y="89"/>
                </a:lnTo>
                <a:lnTo>
                  <a:pt x="128" y="86"/>
                </a:lnTo>
                <a:lnTo>
                  <a:pt x="135" y="84"/>
                </a:lnTo>
                <a:lnTo>
                  <a:pt x="140" y="82"/>
                </a:lnTo>
                <a:lnTo>
                  <a:pt x="144" y="78"/>
                </a:lnTo>
                <a:lnTo>
                  <a:pt x="146" y="75"/>
                </a:lnTo>
                <a:lnTo>
                  <a:pt x="148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Freeform 433"/>
          <p:cNvSpPr/>
          <p:nvPr/>
        </p:nvSpPr>
        <p:spPr>
          <a:xfrm>
            <a:off x="2604960" y="2801880"/>
            <a:ext cx="206640" cy="133560"/>
          </a:xfrm>
          <a:custGeom>
            <a:avLst/>
            <a:gdLst/>
            <a:ahLst/>
            <a:rect l="l" t="t" r="r" b="b"/>
            <a:pathLst>
              <a:path w="133" h="91">
                <a:moveTo>
                  <a:pt x="104" y="0"/>
                </a:moveTo>
                <a:lnTo>
                  <a:pt x="104" y="4"/>
                </a:lnTo>
                <a:lnTo>
                  <a:pt x="103" y="13"/>
                </a:lnTo>
                <a:lnTo>
                  <a:pt x="103" y="23"/>
                </a:lnTo>
                <a:lnTo>
                  <a:pt x="102" y="30"/>
                </a:lnTo>
                <a:lnTo>
                  <a:pt x="101" y="35"/>
                </a:lnTo>
                <a:lnTo>
                  <a:pt x="101" y="39"/>
                </a:lnTo>
                <a:lnTo>
                  <a:pt x="102" y="44"/>
                </a:lnTo>
                <a:lnTo>
                  <a:pt x="107" y="46"/>
                </a:lnTo>
                <a:lnTo>
                  <a:pt x="111" y="43"/>
                </a:lnTo>
                <a:lnTo>
                  <a:pt x="113" y="37"/>
                </a:lnTo>
                <a:lnTo>
                  <a:pt x="115" y="34"/>
                </a:lnTo>
                <a:lnTo>
                  <a:pt x="121" y="36"/>
                </a:lnTo>
                <a:lnTo>
                  <a:pt x="128" y="42"/>
                </a:lnTo>
                <a:lnTo>
                  <a:pt x="132" y="45"/>
                </a:lnTo>
                <a:lnTo>
                  <a:pt x="133" y="49"/>
                </a:lnTo>
                <a:lnTo>
                  <a:pt x="132" y="54"/>
                </a:lnTo>
                <a:lnTo>
                  <a:pt x="132" y="60"/>
                </a:lnTo>
                <a:lnTo>
                  <a:pt x="132" y="62"/>
                </a:lnTo>
                <a:lnTo>
                  <a:pt x="131" y="66"/>
                </a:lnTo>
                <a:lnTo>
                  <a:pt x="128" y="72"/>
                </a:lnTo>
                <a:lnTo>
                  <a:pt x="123" y="78"/>
                </a:lnTo>
                <a:lnTo>
                  <a:pt x="121" y="82"/>
                </a:lnTo>
                <a:lnTo>
                  <a:pt x="116" y="84"/>
                </a:lnTo>
                <a:lnTo>
                  <a:pt x="107" y="83"/>
                </a:lnTo>
                <a:lnTo>
                  <a:pt x="96" y="81"/>
                </a:lnTo>
                <a:lnTo>
                  <a:pt x="88" y="78"/>
                </a:lnTo>
                <a:lnTo>
                  <a:pt x="83" y="77"/>
                </a:lnTo>
                <a:lnTo>
                  <a:pt x="79" y="80"/>
                </a:lnTo>
                <a:lnTo>
                  <a:pt x="76" y="83"/>
                </a:lnTo>
                <a:lnTo>
                  <a:pt x="72" y="85"/>
                </a:lnTo>
                <a:lnTo>
                  <a:pt x="68" y="88"/>
                </a:lnTo>
                <a:lnTo>
                  <a:pt x="61" y="90"/>
                </a:lnTo>
                <a:lnTo>
                  <a:pt x="54" y="91"/>
                </a:lnTo>
                <a:lnTo>
                  <a:pt x="49" y="91"/>
                </a:lnTo>
                <a:lnTo>
                  <a:pt x="45" y="91"/>
                </a:lnTo>
                <a:lnTo>
                  <a:pt x="39" y="91"/>
                </a:lnTo>
                <a:lnTo>
                  <a:pt x="32" y="89"/>
                </a:lnTo>
                <a:lnTo>
                  <a:pt x="24" y="85"/>
                </a:lnTo>
                <a:lnTo>
                  <a:pt x="18" y="82"/>
                </a:lnTo>
                <a:lnTo>
                  <a:pt x="19" y="78"/>
                </a:lnTo>
                <a:lnTo>
                  <a:pt x="25" y="77"/>
                </a:lnTo>
                <a:lnTo>
                  <a:pt x="32" y="77"/>
                </a:lnTo>
                <a:lnTo>
                  <a:pt x="38" y="77"/>
                </a:lnTo>
                <a:lnTo>
                  <a:pt x="43" y="75"/>
                </a:lnTo>
                <a:lnTo>
                  <a:pt x="48" y="70"/>
                </a:lnTo>
                <a:lnTo>
                  <a:pt x="49" y="64"/>
                </a:lnTo>
                <a:lnTo>
                  <a:pt x="48" y="60"/>
                </a:lnTo>
                <a:lnTo>
                  <a:pt x="42" y="60"/>
                </a:lnTo>
                <a:lnTo>
                  <a:pt x="35" y="65"/>
                </a:lnTo>
                <a:lnTo>
                  <a:pt x="32" y="67"/>
                </a:lnTo>
                <a:lnTo>
                  <a:pt x="27" y="67"/>
                </a:lnTo>
                <a:lnTo>
                  <a:pt x="20" y="62"/>
                </a:lnTo>
                <a:lnTo>
                  <a:pt x="14" y="57"/>
                </a:lnTo>
                <a:lnTo>
                  <a:pt x="8" y="53"/>
                </a:lnTo>
                <a:lnTo>
                  <a:pt x="4" y="51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2" y="35"/>
                </a:lnTo>
                <a:lnTo>
                  <a:pt x="8" y="30"/>
                </a:lnTo>
                <a:lnTo>
                  <a:pt x="12" y="25"/>
                </a:lnTo>
                <a:lnTo>
                  <a:pt x="14" y="22"/>
                </a:lnTo>
                <a:lnTo>
                  <a:pt x="15" y="20"/>
                </a:lnTo>
                <a:lnTo>
                  <a:pt x="18" y="14"/>
                </a:lnTo>
                <a:lnTo>
                  <a:pt x="23" y="7"/>
                </a:lnTo>
                <a:lnTo>
                  <a:pt x="25" y="4"/>
                </a:lnTo>
                <a:lnTo>
                  <a:pt x="28" y="1"/>
                </a:lnTo>
                <a:lnTo>
                  <a:pt x="34" y="0"/>
                </a:lnTo>
                <a:lnTo>
                  <a:pt x="41" y="0"/>
                </a:lnTo>
                <a:lnTo>
                  <a:pt x="45" y="2"/>
                </a:lnTo>
                <a:lnTo>
                  <a:pt x="46" y="5"/>
                </a:lnTo>
                <a:lnTo>
                  <a:pt x="45" y="8"/>
                </a:lnTo>
                <a:lnTo>
                  <a:pt x="46" y="13"/>
                </a:lnTo>
                <a:lnTo>
                  <a:pt x="50" y="15"/>
                </a:lnTo>
                <a:lnTo>
                  <a:pt x="55" y="19"/>
                </a:lnTo>
                <a:lnTo>
                  <a:pt x="56" y="23"/>
                </a:lnTo>
                <a:lnTo>
                  <a:pt x="56" y="28"/>
                </a:lnTo>
                <a:lnTo>
                  <a:pt x="61" y="31"/>
                </a:lnTo>
                <a:lnTo>
                  <a:pt x="65" y="35"/>
                </a:lnTo>
                <a:lnTo>
                  <a:pt x="68" y="39"/>
                </a:lnTo>
                <a:lnTo>
                  <a:pt x="68" y="44"/>
                </a:lnTo>
                <a:lnTo>
                  <a:pt x="68" y="47"/>
                </a:lnTo>
                <a:lnTo>
                  <a:pt x="70" y="50"/>
                </a:lnTo>
                <a:lnTo>
                  <a:pt x="75" y="52"/>
                </a:lnTo>
                <a:lnTo>
                  <a:pt x="80" y="55"/>
                </a:lnTo>
                <a:lnTo>
                  <a:pt x="86" y="59"/>
                </a:lnTo>
                <a:lnTo>
                  <a:pt x="90" y="59"/>
                </a:lnTo>
                <a:lnTo>
                  <a:pt x="91" y="54"/>
                </a:lnTo>
                <a:lnTo>
                  <a:pt x="91" y="47"/>
                </a:lnTo>
                <a:lnTo>
                  <a:pt x="91" y="42"/>
                </a:lnTo>
                <a:lnTo>
                  <a:pt x="91" y="37"/>
                </a:lnTo>
                <a:lnTo>
                  <a:pt x="91" y="32"/>
                </a:lnTo>
                <a:lnTo>
                  <a:pt x="88" y="30"/>
                </a:lnTo>
                <a:lnTo>
                  <a:pt x="86" y="30"/>
                </a:lnTo>
                <a:lnTo>
                  <a:pt x="85" y="29"/>
                </a:lnTo>
                <a:lnTo>
                  <a:pt x="84" y="24"/>
                </a:lnTo>
                <a:lnTo>
                  <a:pt x="84" y="19"/>
                </a:lnTo>
                <a:lnTo>
                  <a:pt x="84" y="14"/>
                </a:lnTo>
                <a:lnTo>
                  <a:pt x="85" y="11"/>
                </a:lnTo>
                <a:lnTo>
                  <a:pt x="88" y="8"/>
                </a:lnTo>
                <a:lnTo>
                  <a:pt x="94" y="6"/>
                </a:lnTo>
                <a:lnTo>
                  <a:pt x="99" y="4"/>
                </a:lnTo>
                <a:lnTo>
                  <a:pt x="103" y="1"/>
                </a:lnTo>
                <a:lnTo>
                  <a:pt x="10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3" name="Freeform 434"/>
          <p:cNvSpPr/>
          <p:nvPr/>
        </p:nvSpPr>
        <p:spPr>
          <a:xfrm>
            <a:off x="2519280" y="2732040"/>
            <a:ext cx="155520" cy="87480"/>
          </a:xfrm>
          <a:custGeom>
            <a:avLst/>
            <a:gdLst/>
            <a:ahLst/>
            <a:rect l="l" t="t" r="r" b="b"/>
            <a:pathLst>
              <a:path w="102" h="60">
                <a:moveTo>
                  <a:pt x="76" y="40"/>
                </a:moveTo>
                <a:lnTo>
                  <a:pt x="75" y="41"/>
                </a:lnTo>
                <a:lnTo>
                  <a:pt x="72" y="45"/>
                </a:lnTo>
                <a:lnTo>
                  <a:pt x="68" y="46"/>
                </a:lnTo>
                <a:lnTo>
                  <a:pt x="66" y="42"/>
                </a:lnTo>
                <a:lnTo>
                  <a:pt x="64" y="35"/>
                </a:lnTo>
                <a:lnTo>
                  <a:pt x="61" y="30"/>
                </a:lnTo>
                <a:lnTo>
                  <a:pt x="58" y="27"/>
                </a:lnTo>
                <a:lnTo>
                  <a:pt x="56" y="31"/>
                </a:lnTo>
                <a:lnTo>
                  <a:pt x="55" y="38"/>
                </a:lnTo>
                <a:lnTo>
                  <a:pt x="55" y="44"/>
                </a:lnTo>
                <a:lnTo>
                  <a:pt x="53" y="47"/>
                </a:lnTo>
                <a:lnTo>
                  <a:pt x="48" y="47"/>
                </a:lnTo>
                <a:lnTo>
                  <a:pt x="42" y="47"/>
                </a:lnTo>
                <a:lnTo>
                  <a:pt x="38" y="52"/>
                </a:lnTo>
                <a:lnTo>
                  <a:pt x="38" y="57"/>
                </a:lnTo>
                <a:lnTo>
                  <a:pt x="38" y="60"/>
                </a:lnTo>
                <a:lnTo>
                  <a:pt x="37" y="57"/>
                </a:lnTo>
                <a:lnTo>
                  <a:pt x="33" y="54"/>
                </a:lnTo>
                <a:lnTo>
                  <a:pt x="27" y="50"/>
                </a:lnTo>
                <a:lnTo>
                  <a:pt x="22" y="48"/>
                </a:lnTo>
                <a:lnTo>
                  <a:pt x="15" y="48"/>
                </a:lnTo>
                <a:lnTo>
                  <a:pt x="6" y="48"/>
                </a:lnTo>
                <a:lnTo>
                  <a:pt x="0" y="46"/>
                </a:lnTo>
                <a:lnTo>
                  <a:pt x="4" y="40"/>
                </a:lnTo>
                <a:lnTo>
                  <a:pt x="11" y="34"/>
                </a:lnTo>
                <a:lnTo>
                  <a:pt x="17" y="30"/>
                </a:lnTo>
                <a:lnTo>
                  <a:pt x="23" y="25"/>
                </a:lnTo>
                <a:lnTo>
                  <a:pt x="35" y="19"/>
                </a:lnTo>
                <a:lnTo>
                  <a:pt x="46" y="12"/>
                </a:lnTo>
                <a:lnTo>
                  <a:pt x="55" y="7"/>
                </a:lnTo>
                <a:lnTo>
                  <a:pt x="60" y="2"/>
                </a:lnTo>
                <a:lnTo>
                  <a:pt x="68" y="0"/>
                </a:lnTo>
                <a:lnTo>
                  <a:pt x="76" y="0"/>
                </a:lnTo>
                <a:lnTo>
                  <a:pt x="80" y="0"/>
                </a:lnTo>
                <a:lnTo>
                  <a:pt x="83" y="0"/>
                </a:lnTo>
                <a:lnTo>
                  <a:pt x="87" y="0"/>
                </a:lnTo>
                <a:lnTo>
                  <a:pt x="93" y="0"/>
                </a:lnTo>
                <a:lnTo>
                  <a:pt x="98" y="2"/>
                </a:lnTo>
                <a:lnTo>
                  <a:pt x="102" y="6"/>
                </a:lnTo>
                <a:lnTo>
                  <a:pt x="99" y="10"/>
                </a:lnTo>
                <a:lnTo>
                  <a:pt x="95" y="15"/>
                </a:lnTo>
                <a:lnTo>
                  <a:pt x="93" y="17"/>
                </a:lnTo>
                <a:lnTo>
                  <a:pt x="93" y="19"/>
                </a:lnTo>
                <a:lnTo>
                  <a:pt x="91" y="24"/>
                </a:lnTo>
                <a:lnTo>
                  <a:pt x="89" y="31"/>
                </a:lnTo>
                <a:lnTo>
                  <a:pt x="86" y="35"/>
                </a:lnTo>
                <a:lnTo>
                  <a:pt x="81" y="39"/>
                </a:lnTo>
                <a:lnTo>
                  <a:pt x="76" y="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4" name="Freeform 435"/>
          <p:cNvSpPr/>
          <p:nvPr/>
        </p:nvSpPr>
        <p:spPr>
          <a:xfrm>
            <a:off x="2827440" y="2819520"/>
            <a:ext cx="129960" cy="115920"/>
          </a:xfrm>
          <a:custGeom>
            <a:avLst/>
            <a:gdLst/>
            <a:ahLst/>
            <a:rect l="l" t="t" r="r" b="b"/>
            <a:pathLst>
              <a:path w="86" h="80">
                <a:moveTo>
                  <a:pt x="20" y="16"/>
                </a:moveTo>
                <a:lnTo>
                  <a:pt x="17" y="12"/>
                </a:lnTo>
                <a:lnTo>
                  <a:pt x="10" y="5"/>
                </a:lnTo>
                <a:lnTo>
                  <a:pt x="3" y="0"/>
                </a:lnTo>
                <a:lnTo>
                  <a:pt x="0" y="2"/>
                </a:lnTo>
                <a:lnTo>
                  <a:pt x="1" y="9"/>
                </a:lnTo>
                <a:lnTo>
                  <a:pt x="2" y="15"/>
                </a:lnTo>
                <a:lnTo>
                  <a:pt x="3" y="22"/>
                </a:lnTo>
                <a:lnTo>
                  <a:pt x="4" y="27"/>
                </a:lnTo>
                <a:lnTo>
                  <a:pt x="5" y="33"/>
                </a:lnTo>
                <a:lnTo>
                  <a:pt x="8" y="38"/>
                </a:lnTo>
                <a:lnTo>
                  <a:pt x="11" y="41"/>
                </a:lnTo>
                <a:lnTo>
                  <a:pt x="15" y="42"/>
                </a:lnTo>
                <a:lnTo>
                  <a:pt x="18" y="42"/>
                </a:lnTo>
                <a:lnTo>
                  <a:pt x="22" y="42"/>
                </a:lnTo>
                <a:lnTo>
                  <a:pt x="24" y="43"/>
                </a:lnTo>
                <a:lnTo>
                  <a:pt x="23" y="47"/>
                </a:lnTo>
                <a:lnTo>
                  <a:pt x="20" y="52"/>
                </a:lnTo>
                <a:lnTo>
                  <a:pt x="22" y="54"/>
                </a:lnTo>
                <a:lnTo>
                  <a:pt x="24" y="54"/>
                </a:lnTo>
                <a:lnTo>
                  <a:pt x="31" y="54"/>
                </a:lnTo>
                <a:lnTo>
                  <a:pt x="38" y="53"/>
                </a:lnTo>
                <a:lnTo>
                  <a:pt x="41" y="53"/>
                </a:lnTo>
                <a:lnTo>
                  <a:pt x="42" y="54"/>
                </a:lnTo>
                <a:lnTo>
                  <a:pt x="42" y="58"/>
                </a:lnTo>
                <a:lnTo>
                  <a:pt x="40" y="65"/>
                </a:lnTo>
                <a:lnTo>
                  <a:pt x="38" y="73"/>
                </a:lnTo>
                <a:lnTo>
                  <a:pt x="38" y="79"/>
                </a:lnTo>
                <a:lnTo>
                  <a:pt x="43" y="80"/>
                </a:lnTo>
                <a:lnTo>
                  <a:pt x="54" y="77"/>
                </a:lnTo>
                <a:lnTo>
                  <a:pt x="64" y="72"/>
                </a:lnTo>
                <a:lnTo>
                  <a:pt x="72" y="66"/>
                </a:lnTo>
                <a:lnTo>
                  <a:pt x="76" y="64"/>
                </a:lnTo>
                <a:lnTo>
                  <a:pt x="75" y="62"/>
                </a:lnTo>
                <a:lnTo>
                  <a:pt x="72" y="57"/>
                </a:lnTo>
                <a:lnTo>
                  <a:pt x="72" y="54"/>
                </a:lnTo>
                <a:lnTo>
                  <a:pt x="75" y="54"/>
                </a:lnTo>
                <a:lnTo>
                  <a:pt x="79" y="56"/>
                </a:lnTo>
                <a:lnTo>
                  <a:pt x="84" y="58"/>
                </a:lnTo>
                <a:lnTo>
                  <a:pt x="86" y="57"/>
                </a:lnTo>
                <a:lnTo>
                  <a:pt x="83" y="50"/>
                </a:lnTo>
                <a:lnTo>
                  <a:pt x="77" y="42"/>
                </a:lnTo>
                <a:lnTo>
                  <a:pt x="72" y="39"/>
                </a:lnTo>
                <a:lnTo>
                  <a:pt x="71" y="37"/>
                </a:lnTo>
                <a:lnTo>
                  <a:pt x="72" y="31"/>
                </a:lnTo>
                <a:lnTo>
                  <a:pt x="76" y="22"/>
                </a:lnTo>
                <a:lnTo>
                  <a:pt x="77" y="15"/>
                </a:lnTo>
                <a:lnTo>
                  <a:pt x="76" y="9"/>
                </a:lnTo>
                <a:lnTo>
                  <a:pt x="71" y="7"/>
                </a:lnTo>
                <a:lnTo>
                  <a:pt x="65" y="8"/>
                </a:lnTo>
                <a:lnTo>
                  <a:pt x="64" y="10"/>
                </a:lnTo>
                <a:lnTo>
                  <a:pt x="63" y="12"/>
                </a:lnTo>
                <a:lnTo>
                  <a:pt x="60" y="11"/>
                </a:lnTo>
                <a:lnTo>
                  <a:pt x="55" y="8"/>
                </a:lnTo>
                <a:lnTo>
                  <a:pt x="50" y="3"/>
                </a:lnTo>
                <a:lnTo>
                  <a:pt x="47" y="2"/>
                </a:lnTo>
                <a:lnTo>
                  <a:pt x="45" y="3"/>
                </a:lnTo>
                <a:lnTo>
                  <a:pt x="45" y="7"/>
                </a:lnTo>
                <a:lnTo>
                  <a:pt x="47" y="11"/>
                </a:lnTo>
                <a:lnTo>
                  <a:pt x="48" y="13"/>
                </a:lnTo>
                <a:lnTo>
                  <a:pt x="47" y="16"/>
                </a:lnTo>
                <a:lnTo>
                  <a:pt x="43" y="15"/>
                </a:lnTo>
                <a:lnTo>
                  <a:pt x="39" y="11"/>
                </a:lnTo>
                <a:lnTo>
                  <a:pt x="35" y="9"/>
                </a:lnTo>
                <a:lnTo>
                  <a:pt x="32" y="11"/>
                </a:lnTo>
                <a:lnTo>
                  <a:pt x="28" y="15"/>
                </a:lnTo>
                <a:lnTo>
                  <a:pt x="25" y="16"/>
                </a:lnTo>
                <a:lnTo>
                  <a:pt x="22" y="16"/>
                </a:ln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1120" bIns="51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5" name="Freeform 436"/>
          <p:cNvSpPr/>
          <p:nvPr/>
        </p:nvSpPr>
        <p:spPr>
          <a:xfrm>
            <a:off x="2960640" y="2889360"/>
            <a:ext cx="50760" cy="66600"/>
          </a:xfrm>
          <a:custGeom>
            <a:avLst/>
            <a:gdLst/>
            <a:ahLst/>
            <a:rect l="l" t="t" r="r" b="b"/>
            <a:pathLst>
              <a:path w="34" h="46">
                <a:moveTo>
                  <a:pt x="14" y="4"/>
                </a:moveTo>
                <a:lnTo>
                  <a:pt x="14" y="5"/>
                </a:lnTo>
                <a:lnTo>
                  <a:pt x="13" y="7"/>
                </a:lnTo>
                <a:lnTo>
                  <a:pt x="11" y="12"/>
                </a:lnTo>
                <a:lnTo>
                  <a:pt x="7" y="15"/>
                </a:lnTo>
                <a:lnTo>
                  <a:pt x="4" y="18"/>
                </a:lnTo>
                <a:lnTo>
                  <a:pt x="1" y="23"/>
                </a:lnTo>
                <a:lnTo>
                  <a:pt x="0" y="28"/>
                </a:lnTo>
                <a:lnTo>
                  <a:pt x="3" y="31"/>
                </a:lnTo>
                <a:lnTo>
                  <a:pt x="7" y="35"/>
                </a:lnTo>
                <a:lnTo>
                  <a:pt x="12" y="37"/>
                </a:lnTo>
                <a:lnTo>
                  <a:pt x="16" y="40"/>
                </a:lnTo>
                <a:lnTo>
                  <a:pt x="19" y="44"/>
                </a:lnTo>
                <a:lnTo>
                  <a:pt x="22" y="46"/>
                </a:lnTo>
                <a:lnTo>
                  <a:pt x="27" y="44"/>
                </a:lnTo>
                <a:lnTo>
                  <a:pt x="31" y="40"/>
                </a:lnTo>
                <a:lnTo>
                  <a:pt x="34" y="35"/>
                </a:lnTo>
                <a:lnTo>
                  <a:pt x="34" y="29"/>
                </a:lnTo>
                <a:lnTo>
                  <a:pt x="33" y="24"/>
                </a:lnTo>
                <a:lnTo>
                  <a:pt x="30" y="20"/>
                </a:lnTo>
                <a:lnTo>
                  <a:pt x="30" y="15"/>
                </a:lnTo>
                <a:lnTo>
                  <a:pt x="29" y="9"/>
                </a:lnTo>
                <a:lnTo>
                  <a:pt x="27" y="5"/>
                </a:lnTo>
                <a:lnTo>
                  <a:pt x="23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6" y="1"/>
                </a:lnTo>
                <a:lnTo>
                  <a:pt x="14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6" name="Freeform 437"/>
          <p:cNvSpPr/>
          <p:nvPr/>
        </p:nvSpPr>
        <p:spPr>
          <a:xfrm>
            <a:off x="2946240" y="2800440"/>
            <a:ext cx="306720" cy="145800"/>
          </a:xfrm>
          <a:custGeom>
            <a:avLst/>
            <a:gdLst/>
            <a:ahLst/>
            <a:rect l="l" t="t" r="r" b="b"/>
            <a:pathLst>
              <a:path w="202" h="100">
                <a:moveTo>
                  <a:pt x="166" y="28"/>
                </a:moveTo>
                <a:lnTo>
                  <a:pt x="169" y="29"/>
                </a:lnTo>
                <a:lnTo>
                  <a:pt x="176" y="30"/>
                </a:lnTo>
                <a:lnTo>
                  <a:pt x="184" y="33"/>
                </a:lnTo>
                <a:lnTo>
                  <a:pt x="191" y="37"/>
                </a:lnTo>
                <a:lnTo>
                  <a:pt x="196" y="41"/>
                </a:lnTo>
                <a:lnTo>
                  <a:pt x="198" y="46"/>
                </a:lnTo>
                <a:lnTo>
                  <a:pt x="201" y="52"/>
                </a:lnTo>
                <a:lnTo>
                  <a:pt x="201" y="60"/>
                </a:lnTo>
                <a:lnTo>
                  <a:pt x="201" y="67"/>
                </a:lnTo>
                <a:lnTo>
                  <a:pt x="202" y="69"/>
                </a:lnTo>
                <a:lnTo>
                  <a:pt x="201" y="73"/>
                </a:lnTo>
                <a:lnTo>
                  <a:pt x="196" y="76"/>
                </a:lnTo>
                <a:lnTo>
                  <a:pt x="190" y="81"/>
                </a:lnTo>
                <a:lnTo>
                  <a:pt x="186" y="84"/>
                </a:lnTo>
                <a:lnTo>
                  <a:pt x="180" y="85"/>
                </a:lnTo>
                <a:lnTo>
                  <a:pt x="172" y="85"/>
                </a:lnTo>
                <a:lnTo>
                  <a:pt x="166" y="84"/>
                </a:lnTo>
                <a:lnTo>
                  <a:pt x="163" y="83"/>
                </a:lnTo>
                <a:lnTo>
                  <a:pt x="160" y="84"/>
                </a:lnTo>
                <a:lnTo>
                  <a:pt x="156" y="88"/>
                </a:lnTo>
                <a:lnTo>
                  <a:pt x="152" y="90"/>
                </a:lnTo>
                <a:lnTo>
                  <a:pt x="148" y="91"/>
                </a:lnTo>
                <a:lnTo>
                  <a:pt x="142" y="92"/>
                </a:lnTo>
                <a:lnTo>
                  <a:pt x="136" y="92"/>
                </a:lnTo>
                <a:lnTo>
                  <a:pt x="130" y="93"/>
                </a:lnTo>
                <a:lnTo>
                  <a:pt x="125" y="93"/>
                </a:lnTo>
                <a:lnTo>
                  <a:pt x="120" y="94"/>
                </a:lnTo>
                <a:lnTo>
                  <a:pt x="116" y="96"/>
                </a:lnTo>
                <a:lnTo>
                  <a:pt x="111" y="98"/>
                </a:lnTo>
                <a:lnTo>
                  <a:pt x="106" y="99"/>
                </a:lnTo>
                <a:lnTo>
                  <a:pt x="100" y="100"/>
                </a:lnTo>
                <a:lnTo>
                  <a:pt x="92" y="100"/>
                </a:lnTo>
                <a:lnTo>
                  <a:pt x="84" y="99"/>
                </a:lnTo>
                <a:lnTo>
                  <a:pt x="77" y="99"/>
                </a:lnTo>
                <a:lnTo>
                  <a:pt x="73" y="97"/>
                </a:lnTo>
                <a:lnTo>
                  <a:pt x="68" y="93"/>
                </a:lnTo>
                <a:lnTo>
                  <a:pt x="63" y="90"/>
                </a:lnTo>
                <a:lnTo>
                  <a:pt x="58" y="85"/>
                </a:lnTo>
                <a:lnTo>
                  <a:pt x="53" y="79"/>
                </a:lnTo>
                <a:lnTo>
                  <a:pt x="52" y="71"/>
                </a:lnTo>
                <a:lnTo>
                  <a:pt x="53" y="61"/>
                </a:lnTo>
                <a:lnTo>
                  <a:pt x="53" y="54"/>
                </a:lnTo>
                <a:lnTo>
                  <a:pt x="53" y="48"/>
                </a:lnTo>
                <a:lnTo>
                  <a:pt x="51" y="44"/>
                </a:lnTo>
                <a:lnTo>
                  <a:pt x="49" y="39"/>
                </a:lnTo>
                <a:lnTo>
                  <a:pt x="46" y="35"/>
                </a:lnTo>
                <a:lnTo>
                  <a:pt x="42" y="32"/>
                </a:lnTo>
                <a:lnTo>
                  <a:pt x="36" y="32"/>
                </a:lnTo>
                <a:lnTo>
                  <a:pt x="30" y="33"/>
                </a:lnTo>
                <a:lnTo>
                  <a:pt x="28" y="35"/>
                </a:lnTo>
                <a:lnTo>
                  <a:pt x="24" y="35"/>
                </a:lnTo>
                <a:lnTo>
                  <a:pt x="20" y="31"/>
                </a:lnTo>
                <a:lnTo>
                  <a:pt x="12" y="25"/>
                </a:lnTo>
                <a:lnTo>
                  <a:pt x="5" y="22"/>
                </a:lnTo>
                <a:lnTo>
                  <a:pt x="0" y="16"/>
                </a:lnTo>
                <a:lnTo>
                  <a:pt x="1" y="9"/>
                </a:lnTo>
                <a:lnTo>
                  <a:pt x="7" y="3"/>
                </a:lnTo>
                <a:lnTo>
                  <a:pt x="13" y="0"/>
                </a:lnTo>
                <a:lnTo>
                  <a:pt x="19" y="0"/>
                </a:lnTo>
                <a:lnTo>
                  <a:pt x="24" y="1"/>
                </a:lnTo>
                <a:lnTo>
                  <a:pt x="30" y="6"/>
                </a:lnTo>
                <a:lnTo>
                  <a:pt x="34" y="12"/>
                </a:lnTo>
                <a:lnTo>
                  <a:pt x="37" y="17"/>
                </a:lnTo>
                <a:lnTo>
                  <a:pt x="43" y="21"/>
                </a:lnTo>
                <a:lnTo>
                  <a:pt x="49" y="20"/>
                </a:lnTo>
                <a:lnTo>
                  <a:pt x="52" y="16"/>
                </a:lnTo>
                <a:lnTo>
                  <a:pt x="54" y="13"/>
                </a:lnTo>
                <a:lnTo>
                  <a:pt x="59" y="12"/>
                </a:lnTo>
                <a:lnTo>
                  <a:pt x="63" y="13"/>
                </a:lnTo>
                <a:lnTo>
                  <a:pt x="67" y="13"/>
                </a:lnTo>
                <a:lnTo>
                  <a:pt x="69" y="16"/>
                </a:lnTo>
                <a:lnTo>
                  <a:pt x="70" y="21"/>
                </a:lnTo>
                <a:lnTo>
                  <a:pt x="73" y="29"/>
                </a:lnTo>
                <a:lnTo>
                  <a:pt x="80" y="36"/>
                </a:lnTo>
                <a:lnTo>
                  <a:pt x="85" y="43"/>
                </a:lnTo>
                <a:lnTo>
                  <a:pt x="88" y="50"/>
                </a:lnTo>
                <a:lnTo>
                  <a:pt x="91" y="53"/>
                </a:lnTo>
                <a:lnTo>
                  <a:pt x="100" y="52"/>
                </a:lnTo>
                <a:lnTo>
                  <a:pt x="111" y="51"/>
                </a:lnTo>
                <a:lnTo>
                  <a:pt x="119" y="52"/>
                </a:lnTo>
                <a:lnTo>
                  <a:pt x="123" y="53"/>
                </a:lnTo>
                <a:lnTo>
                  <a:pt x="128" y="51"/>
                </a:lnTo>
                <a:lnTo>
                  <a:pt x="133" y="46"/>
                </a:lnTo>
                <a:lnTo>
                  <a:pt x="138" y="41"/>
                </a:lnTo>
                <a:lnTo>
                  <a:pt x="143" y="37"/>
                </a:lnTo>
                <a:lnTo>
                  <a:pt x="149" y="32"/>
                </a:lnTo>
                <a:lnTo>
                  <a:pt x="154" y="29"/>
                </a:lnTo>
                <a:lnTo>
                  <a:pt x="166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Freeform 438"/>
          <p:cNvSpPr/>
          <p:nvPr/>
        </p:nvSpPr>
        <p:spPr>
          <a:xfrm>
            <a:off x="2705040" y="2706840"/>
            <a:ext cx="63720" cy="54000"/>
          </a:xfrm>
          <a:custGeom>
            <a:avLst/>
            <a:gdLst/>
            <a:ahLst/>
            <a:rect l="l" t="t" r="r" b="b"/>
            <a:pathLst>
              <a:path w="40" h="37">
                <a:moveTo>
                  <a:pt x="38" y="20"/>
                </a:moveTo>
                <a:lnTo>
                  <a:pt x="37" y="21"/>
                </a:lnTo>
                <a:lnTo>
                  <a:pt x="35" y="26"/>
                </a:lnTo>
                <a:lnTo>
                  <a:pt x="32" y="30"/>
                </a:lnTo>
                <a:lnTo>
                  <a:pt x="28" y="34"/>
                </a:lnTo>
                <a:lnTo>
                  <a:pt x="24" y="36"/>
                </a:lnTo>
                <a:lnTo>
                  <a:pt x="19" y="37"/>
                </a:lnTo>
                <a:lnTo>
                  <a:pt x="14" y="37"/>
                </a:lnTo>
                <a:lnTo>
                  <a:pt x="13" y="37"/>
                </a:lnTo>
                <a:lnTo>
                  <a:pt x="12" y="36"/>
                </a:lnTo>
                <a:lnTo>
                  <a:pt x="11" y="34"/>
                </a:lnTo>
                <a:lnTo>
                  <a:pt x="9" y="32"/>
                </a:lnTo>
                <a:lnTo>
                  <a:pt x="5" y="28"/>
                </a:lnTo>
                <a:lnTo>
                  <a:pt x="2" y="24"/>
                </a:lnTo>
                <a:lnTo>
                  <a:pt x="0" y="20"/>
                </a:lnTo>
                <a:lnTo>
                  <a:pt x="2" y="17"/>
                </a:lnTo>
                <a:lnTo>
                  <a:pt x="6" y="12"/>
                </a:lnTo>
                <a:lnTo>
                  <a:pt x="12" y="7"/>
                </a:lnTo>
                <a:lnTo>
                  <a:pt x="17" y="3"/>
                </a:lnTo>
                <a:lnTo>
                  <a:pt x="20" y="0"/>
                </a:lnTo>
                <a:lnTo>
                  <a:pt x="25" y="2"/>
                </a:lnTo>
                <a:lnTo>
                  <a:pt x="32" y="4"/>
                </a:lnTo>
                <a:lnTo>
                  <a:pt x="37" y="7"/>
                </a:lnTo>
                <a:lnTo>
                  <a:pt x="40" y="12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0800" bIns="-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8" name="Freeform 439"/>
          <p:cNvSpPr/>
          <p:nvPr/>
        </p:nvSpPr>
        <p:spPr>
          <a:xfrm flipV="1">
            <a:off x="2946240" y="2363040"/>
            <a:ext cx="306720" cy="460440"/>
          </a:xfrm>
          <a:custGeom>
            <a:avLst/>
            <a:gdLst/>
            <a:ahLst/>
            <a:rect l="l" t="t" r="r" b="b"/>
            <a:pathLst>
              <a:path w="201" h="319">
                <a:moveTo>
                  <a:pt x="84" y="267"/>
                </a:moveTo>
                <a:lnTo>
                  <a:pt x="88" y="270"/>
                </a:lnTo>
                <a:lnTo>
                  <a:pt x="93" y="277"/>
                </a:lnTo>
                <a:lnTo>
                  <a:pt x="97" y="283"/>
                </a:lnTo>
                <a:lnTo>
                  <a:pt x="95" y="290"/>
                </a:lnTo>
                <a:lnTo>
                  <a:pt x="88" y="294"/>
                </a:lnTo>
                <a:lnTo>
                  <a:pt x="82" y="296"/>
                </a:lnTo>
                <a:lnTo>
                  <a:pt x="78" y="301"/>
                </a:lnTo>
                <a:lnTo>
                  <a:pt x="80" y="308"/>
                </a:lnTo>
                <a:lnTo>
                  <a:pt x="82" y="315"/>
                </a:lnTo>
                <a:lnTo>
                  <a:pt x="85" y="318"/>
                </a:lnTo>
                <a:lnTo>
                  <a:pt x="92" y="319"/>
                </a:lnTo>
                <a:lnTo>
                  <a:pt x="104" y="319"/>
                </a:lnTo>
                <a:lnTo>
                  <a:pt x="116" y="319"/>
                </a:lnTo>
                <a:lnTo>
                  <a:pt x="123" y="318"/>
                </a:lnTo>
                <a:lnTo>
                  <a:pt x="129" y="316"/>
                </a:lnTo>
                <a:lnTo>
                  <a:pt x="136" y="312"/>
                </a:lnTo>
                <a:lnTo>
                  <a:pt x="144" y="309"/>
                </a:lnTo>
                <a:lnTo>
                  <a:pt x="151" y="305"/>
                </a:lnTo>
                <a:lnTo>
                  <a:pt x="158" y="304"/>
                </a:lnTo>
                <a:lnTo>
                  <a:pt x="164" y="304"/>
                </a:lnTo>
                <a:lnTo>
                  <a:pt x="171" y="306"/>
                </a:lnTo>
                <a:lnTo>
                  <a:pt x="176" y="306"/>
                </a:lnTo>
                <a:lnTo>
                  <a:pt x="182" y="305"/>
                </a:lnTo>
                <a:lnTo>
                  <a:pt x="187" y="300"/>
                </a:lnTo>
                <a:lnTo>
                  <a:pt x="191" y="294"/>
                </a:lnTo>
                <a:lnTo>
                  <a:pt x="197" y="289"/>
                </a:lnTo>
                <a:lnTo>
                  <a:pt x="198" y="285"/>
                </a:lnTo>
                <a:lnTo>
                  <a:pt x="191" y="279"/>
                </a:lnTo>
                <a:lnTo>
                  <a:pt x="180" y="273"/>
                </a:lnTo>
                <a:lnTo>
                  <a:pt x="173" y="270"/>
                </a:lnTo>
                <a:lnTo>
                  <a:pt x="169" y="266"/>
                </a:lnTo>
                <a:lnTo>
                  <a:pt x="172" y="263"/>
                </a:lnTo>
                <a:lnTo>
                  <a:pt x="177" y="259"/>
                </a:lnTo>
                <a:lnTo>
                  <a:pt x="181" y="256"/>
                </a:lnTo>
                <a:lnTo>
                  <a:pt x="182" y="251"/>
                </a:lnTo>
                <a:lnTo>
                  <a:pt x="182" y="244"/>
                </a:lnTo>
                <a:lnTo>
                  <a:pt x="180" y="238"/>
                </a:lnTo>
                <a:lnTo>
                  <a:pt x="179" y="235"/>
                </a:lnTo>
                <a:lnTo>
                  <a:pt x="179" y="232"/>
                </a:lnTo>
                <a:lnTo>
                  <a:pt x="182" y="227"/>
                </a:lnTo>
                <a:lnTo>
                  <a:pt x="188" y="219"/>
                </a:lnTo>
                <a:lnTo>
                  <a:pt x="195" y="209"/>
                </a:lnTo>
                <a:lnTo>
                  <a:pt x="197" y="197"/>
                </a:lnTo>
                <a:lnTo>
                  <a:pt x="190" y="187"/>
                </a:lnTo>
                <a:lnTo>
                  <a:pt x="177" y="179"/>
                </a:lnTo>
                <a:lnTo>
                  <a:pt x="168" y="173"/>
                </a:lnTo>
                <a:lnTo>
                  <a:pt x="165" y="168"/>
                </a:lnTo>
                <a:lnTo>
                  <a:pt x="168" y="162"/>
                </a:lnTo>
                <a:lnTo>
                  <a:pt x="177" y="156"/>
                </a:lnTo>
                <a:lnTo>
                  <a:pt x="188" y="149"/>
                </a:lnTo>
                <a:lnTo>
                  <a:pt x="195" y="139"/>
                </a:lnTo>
                <a:lnTo>
                  <a:pt x="195" y="130"/>
                </a:lnTo>
                <a:lnTo>
                  <a:pt x="192" y="120"/>
                </a:lnTo>
                <a:lnTo>
                  <a:pt x="194" y="109"/>
                </a:lnTo>
                <a:lnTo>
                  <a:pt x="195" y="100"/>
                </a:lnTo>
                <a:lnTo>
                  <a:pt x="196" y="90"/>
                </a:lnTo>
                <a:lnTo>
                  <a:pt x="197" y="77"/>
                </a:lnTo>
                <a:lnTo>
                  <a:pt x="199" y="65"/>
                </a:lnTo>
                <a:lnTo>
                  <a:pt x="201" y="55"/>
                </a:lnTo>
                <a:lnTo>
                  <a:pt x="196" y="52"/>
                </a:lnTo>
                <a:lnTo>
                  <a:pt x="189" y="54"/>
                </a:lnTo>
                <a:lnTo>
                  <a:pt x="183" y="54"/>
                </a:lnTo>
                <a:lnTo>
                  <a:pt x="183" y="51"/>
                </a:lnTo>
                <a:lnTo>
                  <a:pt x="190" y="40"/>
                </a:lnTo>
                <a:lnTo>
                  <a:pt x="197" y="29"/>
                </a:lnTo>
                <a:lnTo>
                  <a:pt x="199" y="18"/>
                </a:lnTo>
                <a:lnTo>
                  <a:pt x="198" y="10"/>
                </a:lnTo>
                <a:lnTo>
                  <a:pt x="194" y="6"/>
                </a:lnTo>
                <a:lnTo>
                  <a:pt x="192" y="5"/>
                </a:lnTo>
                <a:lnTo>
                  <a:pt x="190" y="5"/>
                </a:lnTo>
                <a:lnTo>
                  <a:pt x="189" y="5"/>
                </a:lnTo>
                <a:lnTo>
                  <a:pt x="187" y="5"/>
                </a:lnTo>
                <a:lnTo>
                  <a:pt x="179" y="6"/>
                </a:lnTo>
                <a:lnTo>
                  <a:pt x="173" y="3"/>
                </a:lnTo>
                <a:lnTo>
                  <a:pt x="168" y="1"/>
                </a:lnTo>
                <a:lnTo>
                  <a:pt x="164" y="0"/>
                </a:lnTo>
                <a:lnTo>
                  <a:pt x="163" y="0"/>
                </a:lnTo>
                <a:lnTo>
                  <a:pt x="161" y="0"/>
                </a:lnTo>
                <a:lnTo>
                  <a:pt x="160" y="1"/>
                </a:lnTo>
                <a:lnTo>
                  <a:pt x="159" y="2"/>
                </a:lnTo>
                <a:lnTo>
                  <a:pt x="156" y="5"/>
                </a:lnTo>
                <a:lnTo>
                  <a:pt x="151" y="6"/>
                </a:lnTo>
                <a:lnTo>
                  <a:pt x="145" y="6"/>
                </a:lnTo>
                <a:lnTo>
                  <a:pt x="139" y="7"/>
                </a:lnTo>
                <a:lnTo>
                  <a:pt x="135" y="8"/>
                </a:lnTo>
                <a:lnTo>
                  <a:pt x="129" y="9"/>
                </a:lnTo>
                <a:lnTo>
                  <a:pt x="126" y="10"/>
                </a:lnTo>
                <a:lnTo>
                  <a:pt x="123" y="14"/>
                </a:lnTo>
                <a:lnTo>
                  <a:pt x="121" y="17"/>
                </a:lnTo>
                <a:lnTo>
                  <a:pt x="119" y="18"/>
                </a:lnTo>
                <a:lnTo>
                  <a:pt x="115" y="18"/>
                </a:lnTo>
                <a:lnTo>
                  <a:pt x="108" y="20"/>
                </a:lnTo>
                <a:lnTo>
                  <a:pt x="100" y="23"/>
                </a:lnTo>
                <a:lnTo>
                  <a:pt x="93" y="26"/>
                </a:lnTo>
                <a:lnTo>
                  <a:pt x="87" y="31"/>
                </a:lnTo>
                <a:lnTo>
                  <a:pt x="82" y="39"/>
                </a:lnTo>
                <a:lnTo>
                  <a:pt x="80" y="47"/>
                </a:lnTo>
                <a:lnTo>
                  <a:pt x="81" y="54"/>
                </a:lnTo>
                <a:lnTo>
                  <a:pt x="81" y="59"/>
                </a:lnTo>
                <a:lnTo>
                  <a:pt x="80" y="60"/>
                </a:lnTo>
                <a:lnTo>
                  <a:pt x="74" y="61"/>
                </a:lnTo>
                <a:lnTo>
                  <a:pt x="67" y="62"/>
                </a:lnTo>
                <a:lnTo>
                  <a:pt x="60" y="66"/>
                </a:lnTo>
                <a:lnTo>
                  <a:pt x="59" y="70"/>
                </a:lnTo>
                <a:lnTo>
                  <a:pt x="57" y="74"/>
                </a:lnTo>
                <a:lnTo>
                  <a:pt x="52" y="77"/>
                </a:lnTo>
                <a:lnTo>
                  <a:pt x="46" y="81"/>
                </a:lnTo>
                <a:lnTo>
                  <a:pt x="43" y="84"/>
                </a:lnTo>
                <a:lnTo>
                  <a:pt x="40" y="89"/>
                </a:lnTo>
                <a:lnTo>
                  <a:pt x="37" y="93"/>
                </a:lnTo>
                <a:lnTo>
                  <a:pt x="35" y="99"/>
                </a:lnTo>
                <a:lnTo>
                  <a:pt x="38" y="107"/>
                </a:lnTo>
                <a:lnTo>
                  <a:pt x="44" y="115"/>
                </a:lnTo>
                <a:lnTo>
                  <a:pt x="47" y="122"/>
                </a:lnTo>
                <a:lnTo>
                  <a:pt x="49" y="128"/>
                </a:lnTo>
                <a:lnTo>
                  <a:pt x="47" y="132"/>
                </a:lnTo>
                <a:lnTo>
                  <a:pt x="45" y="138"/>
                </a:lnTo>
                <a:lnTo>
                  <a:pt x="44" y="143"/>
                </a:lnTo>
                <a:lnTo>
                  <a:pt x="43" y="143"/>
                </a:lnTo>
                <a:lnTo>
                  <a:pt x="38" y="136"/>
                </a:lnTo>
                <a:lnTo>
                  <a:pt x="34" y="126"/>
                </a:lnTo>
                <a:lnTo>
                  <a:pt x="31" y="118"/>
                </a:lnTo>
                <a:lnTo>
                  <a:pt x="28" y="113"/>
                </a:lnTo>
                <a:lnTo>
                  <a:pt x="24" y="114"/>
                </a:lnTo>
                <a:lnTo>
                  <a:pt x="21" y="118"/>
                </a:lnTo>
                <a:lnTo>
                  <a:pt x="16" y="123"/>
                </a:lnTo>
                <a:lnTo>
                  <a:pt x="12" y="128"/>
                </a:lnTo>
                <a:lnTo>
                  <a:pt x="9" y="132"/>
                </a:lnTo>
                <a:lnTo>
                  <a:pt x="7" y="141"/>
                </a:lnTo>
                <a:lnTo>
                  <a:pt x="4" y="153"/>
                </a:lnTo>
                <a:lnTo>
                  <a:pt x="0" y="166"/>
                </a:lnTo>
                <a:lnTo>
                  <a:pt x="0" y="176"/>
                </a:lnTo>
                <a:lnTo>
                  <a:pt x="1" y="184"/>
                </a:lnTo>
                <a:lnTo>
                  <a:pt x="2" y="190"/>
                </a:lnTo>
                <a:lnTo>
                  <a:pt x="6" y="195"/>
                </a:lnTo>
                <a:lnTo>
                  <a:pt x="12" y="198"/>
                </a:lnTo>
                <a:lnTo>
                  <a:pt x="19" y="199"/>
                </a:lnTo>
                <a:lnTo>
                  <a:pt x="23" y="200"/>
                </a:lnTo>
                <a:lnTo>
                  <a:pt x="27" y="200"/>
                </a:lnTo>
                <a:lnTo>
                  <a:pt x="30" y="199"/>
                </a:lnTo>
                <a:lnTo>
                  <a:pt x="31" y="200"/>
                </a:lnTo>
                <a:lnTo>
                  <a:pt x="30" y="205"/>
                </a:lnTo>
                <a:lnTo>
                  <a:pt x="28" y="211"/>
                </a:lnTo>
                <a:lnTo>
                  <a:pt x="24" y="215"/>
                </a:lnTo>
                <a:lnTo>
                  <a:pt x="23" y="219"/>
                </a:lnTo>
                <a:lnTo>
                  <a:pt x="24" y="224"/>
                </a:lnTo>
                <a:lnTo>
                  <a:pt x="28" y="229"/>
                </a:lnTo>
                <a:lnTo>
                  <a:pt x="31" y="234"/>
                </a:lnTo>
                <a:lnTo>
                  <a:pt x="36" y="238"/>
                </a:lnTo>
                <a:lnTo>
                  <a:pt x="44" y="245"/>
                </a:lnTo>
                <a:lnTo>
                  <a:pt x="54" y="248"/>
                </a:lnTo>
                <a:lnTo>
                  <a:pt x="63" y="244"/>
                </a:lnTo>
                <a:lnTo>
                  <a:pt x="70" y="237"/>
                </a:lnTo>
                <a:lnTo>
                  <a:pt x="75" y="232"/>
                </a:lnTo>
                <a:lnTo>
                  <a:pt x="77" y="229"/>
                </a:lnTo>
                <a:lnTo>
                  <a:pt x="82" y="230"/>
                </a:lnTo>
                <a:lnTo>
                  <a:pt x="88" y="234"/>
                </a:lnTo>
                <a:lnTo>
                  <a:pt x="96" y="240"/>
                </a:lnTo>
                <a:lnTo>
                  <a:pt x="104" y="247"/>
                </a:lnTo>
                <a:lnTo>
                  <a:pt x="111" y="256"/>
                </a:lnTo>
                <a:lnTo>
                  <a:pt x="113" y="263"/>
                </a:lnTo>
                <a:lnTo>
                  <a:pt x="113" y="264"/>
                </a:lnTo>
                <a:lnTo>
                  <a:pt x="110" y="262"/>
                </a:lnTo>
                <a:lnTo>
                  <a:pt x="103" y="256"/>
                </a:lnTo>
                <a:lnTo>
                  <a:pt x="93" y="252"/>
                </a:lnTo>
                <a:lnTo>
                  <a:pt x="85" y="252"/>
                </a:lnTo>
                <a:lnTo>
                  <a:pt x="82" y="258"/>
                </a:lnTo>
                <a:lnTo>
                  <a:pt x="84" y="26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9" name="Freeform 440"/>
          <p:cNvSpPr/>
          <p:nvPr/>
        </p:nvSpPr>
        <p:spPr>
          <a:xfrm>
            <a:off x="2952720" y="2744640"/>
            <a:ext cx="52560" cy="25560"/>
          </a:xfrm>
          <a:custGeom>
            <a:avLst/>
            <a:gdLst/>
            <a:ahLst/>
            <a:rect l="l" t="t" r="r" b="b"/>
            <a:pathLst>
              <a:path w="34" h="18">
                <a:moveTo>
                  <a:pt x="31" y="0"/>
                </a:moveTo>
                <a:lnTo>
                  <a:pt x="32" y="1"/>
                </a:lnTo>
                <a:lnTo>
                  <a:pt x="34" y="3"/>
                </a:lnTo>
                <a:lnTo>
                  <a:pt x="34" y="6"/>
                </a:lnTo>
                <a:lnTo>
                  <a:pt x="30" y="10"/>
                </a:lnTo>
                <a:lnTo>
                  <a:pt x="24" y="14"/>
                </a:lnTo>
                <a:lnTo>
                  <a:pt x="22" y="16"/>
                </a:lnTo>
                <a:lnTo>
                  <a:pt x="19" y="18"/>
                </a:lnTo>
                <a:lnTo>
                  <a:pt x="12" y="18"/>
                </a:lnTo>
                <a:lnTo>
                  <a:pt x="4" y="16"/>
                </a:lnTo>
                <a:lnTo>
                  <a:pt x="0" y="13"/>
                </a:lnTo>
                <a:lnTo>
                  <a:pt x="0" y="9"/>
                </a:lnTo>
                <a:lnTo>
                  <a:pt x="4" y="7"/>
                </a:lnTo>
                <a:lnTo>
                  <a:pt x="14" y="4"/>
                </a:lnTo>
                <a:lnTo>
                  <a:pt x="22" y="2"/>
                </a:lnTo>
                <a:lnTo>
                  <a:pt x="29" y="1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9240" bIns="-39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0" name="Freeform 441"/>
          <p:cNvSpPr/>
          <p:nvPr/>
        </p:nvSpPr>
        <p:spPr>
          <a:xfrm>
            <a:off x="2925720" y="2679840"/>
            <a:ext cx="47520" cy="68040"/>
          </a:xfrm>
          <a:custGeom>
            <a:avLst/>
            <a:gdLst/>
            <a:ahLst/>
            <a:rect l="l" t="t" r="r" b="b"/>
            <a:pathLst>
              <a:path w="34" h="46">
                <a:moveTo>
                  <a:pt x="22" y="14"/>
                </a:moveTo>
                <a:lnTo>
                  <a:pt x="20" y="10"/>
                </a:lnTo>
                <a:lnTo>
                  <a:pt x="14" y="5"/>
                </a:lnTo>
                <a:lnTo>
                  <a:pt x="7" y="0"/>
                </a:lnTo>
                <a:lnTo>
                  <a:pt x="3" y="0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1" y="20"/>
                </a:lnTo>
                <a:lnTo>
                  <a:pt x="3" y="27"/>
                </a:lnTo>
                <a:lnTo>
                  <a:pt x="4" y="36"/>
                </a:lnTo>
                <a:lnTo>
                  <a:pt x="7" y="43"/>
                </a:lnTo>
                <a:lnTo>
                  <a:pt x="11" y="46"/>
                </a:lnTo>
                <a:lnTo>
                  <a:pt x="16" y="46"/>
                </a:lnTo>
                <a:lnTo>
                  <a:pt x="21" y="44"/>
                </a:lnTo>
                <a:lnTo>
                  <a:pt x="26" y="42"/>
                </a:lnTo>
                <a:lnTo>
                  <a:pt x="29" y="38"/>
                </a:lnTo>
                <a:lnTo>
                  <a:pt x="31" y="33"/>
                </a:lnTo>
                <a:lnTo>
                  <a:pt x="34" y="30"/>
                </a:lnTo>
                <a:lnTo>
                  <a:pt x="34" y="27"/>
                </a:lnTo>
                <a:lnTo>
                  <a:pt x="30" y="22"/>
                </a:lnTo>
                <a:lnTo>
                  <a:pt x="26" y="17"/>
                </a:lnTo>
                <a:lnTo>
                  <a:pt x="23" y="15"/>
                </a:lnTo>
                <a:lnTo>
                  <a:pt x="22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Freeform 442"/>
          <p:cNvSpPr/>
          <p:nvPr/>
        </p:nvSpPr>
        <p:spPr>
          <a:xfrm>
            <a:off x="2830680" y="2647800"/>
            <a:ext cx="87120" cy="96840"/>
          </a:xfrm>
          <a:custGeom>
            <a:avLst/>
            <a:gdLst/>
            <a:ahLst/>
            <a:rect l="l" t="t" r="r" b="b"/>
            <a:pathLst>
              <a:path w="58" h="67">
                <a:moveTo>
                  <a:pt x="53" y="34"/>
                </a:moveTo>
                <a:lnTo>
                  <a:pt x="54" y="37"/>
                </a:lnTo>
                <a:lnTo>
                  <a:pt x="57" y="44"/>
                </a:lnTo>
                <a:lnTo>
                  <a:pt x="58" y="53"/>
                </a:lnTo>
                <a:lnTo>
                  <a:pt x="57" y="60"/>
                </a:lnTo>
                <a:lnTo>
                  <a:pt x="54" y="64"/>
                </a:lnTo>
                <a:lnTo>
                  <a:pt x="52" y="66"/>
                </a:lnTo>
                <a:lnTo>
                  <a:pt x="48" y="67"/>
                </a:lnTo>
                <a:lnTo>
                  <a:pt x="44" y="65"/>
                </a:lnTo>
                <a:lnTo>
                  <a:pt x="39" y="62"/>
                </a:lnTo>
                <a:lnTo>
                  <a:pt x="35" y="60"/>
                </a:lnTo>
                <a:lnTo>
                  <a:pt x="32" y="58"/>
                </a:lnTo>
                <a:lnTo>
                  <a:pt x="29" y="53"/>
                </a:lnTo>
                <a:lnTo>
                  <a:pt x="24" y="50"/>
                </a:lnTo>
                <a:lnTo>
                  <a:pt x="17" y="49"/>
                </a:lnTo>
                <a:lnTo>
                  <a:pt x="12" y="47"/>
                </a:lnTo>
                <a:lnTo>
                  <a:pt x="8" y="42"/>
                </a:lnTo>
                <a:lnTo>
                  <a:pt x="9" y="37"/>
                </a:lnTo>
                <a:lnTo>
                  <a:pt x="13" y="37"/>
                </a:lnTo>
                <a:lnTo>
                  <a:pt x="15" y="36"/>
                </a:lnTo>
                <a:lnTo>
                  <a:pt x="13" y="30"/>
                </a:lnTo>
                <a:lnTo>
                  <a:pt x="7" y="20"/>
                </a:lnTo>
                <a:lnTo>
                  <a:pt x="2" y="11"/>
                </a:lnTo>
                <a:lnTo>
                  <a:pt x="0" y="4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9" y="2"/>
                </a:lnTo>
                <a:lnTo>
                  <a:pt x="23" y="8"/>
                </a:lnTo>
                <a:lnTo>
                  <a:pt x="28" y="13"/>
                </a:lnTo>
                <a:lnTo>
                  <a:pt x="34" y="15"/>
                </a:lnTo>
                <a:lnTo>
                  <a:pt x="38" y="16"/>
                </a:lnTo>
                <a:lnTo>
                  <a:pt x="40" y="19"/>
                </a:lnTo>
                <a:lnTo>
                  <a:pt x="43" y="24"/>
                </a:lnTo>
                <a:lnTo>
                  <a:pt x="47" y="29"/>
                </a:lnTo>
                <a:lnTo>
                  <a:pt x="51" y="32"/>
                </a:lnTo>
                <a:lnTo>
                  <a:pt x="53" y="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2" name="Freeform 443"/>
          <p:cNvSpPr/>
          <p:nvPr/>
        </p:nvSpPr>
        <p:spPr>
          <a:xfrm>
            <a:off x="2486160" y="3000240"/>
            <a:ext cx="384120" cy="335160"/>
          </a:xfrm>
          <a:custGeom>
            <a:avLst/>
            <a:gdLst/>
            <a:ahLst/>
            <a:rect l="l" t="t" r="r" b="b"/>
            <a:pathLst>
              <a:path w="249" h="231">
                <a:moveTo>
                  <a:pt x="239" y="162"/>
                </a:moveTo>
                <a:lnTo>
                  <a:pt x="241" y="164"/>
                </a:lnTo>
                <a:lnTo>
                  <a:pt x="246" y="168"/>
                </a:lnTo>
                <a:lnTo>
                  <a:pt x="249" y="175"/>
                </a:lnTo>
                <a:lnTo>
                  <a:pt x="248" y="182"/>
                </a:lnTo>
                <a:lnTo>
                  <a:pt x="244" y="187"/>
                </a:lnTo>
                <a:lnTo>
                  <a:pt x="239" y="188"/>
                </a:lnTo>
                <a:lnTo>
                  <a:pt x="236" y="187"/>
                </a:lnTo>
                <a:lnTo>
                  <a:pt x="232" y="187"/>
                </a:lnTo>
                <a:lnTo>
                  <a:pt x="229" y="187"/>
                </a:lnTo>
                <a:lnTo>
                  <a:pt x="226" y="187"/>
                </a:lnTo>
                <a:lnTo>
                  <a:pt x="226" y="189"/>
                </a:lnTo>
                <a:lnTo>
                  <a:pt x="228" y="195"/>
                </a:lnTo>
                <a:lnTo>
                  <a:pt x="230" y="204"/>
                </a:lnTo>
                <a:lnTo>
                  <a:pt x="232" y="213"/>
                </a:lnTo>
                <a:lnTo>
                  <a:pt x="231" y="220"/>
                </a:lnTo>
                <a:lnTo>
                  <a:pt x="224" y="225"/>
                </a:lnTo>
                <a:lnTo>
                  <a:pt x="216" y="227"/>
                </a:lnTo>
                <a:lnTo>
                  <a:pt x="211" y="230"/>
                </a:lnTo>
                <a:lnTo>
                  <a:pt x="205" y="231"/>
                </a:lnTo>
                <a:lnTo>
                  <a:pt x="195" y="225"/>
                </a:lnTo>
                <a:lnTo>
                  <a:pt x="190" y="220"/>
                </a:lnTo>
                <a:lnTo>
                  <a:pt x="184" y="215"/>
                </a:lnTo>
                <a:lnTo>
                  <a:pt x="178" y="210"/>
                </a:lnTo>
                <a:lnTo>
                  <a:pt x="173" y="205"/>
                </a:lnTo>
                <a:lnTo>
                  <a:pt x="170" y="202"/>
                </a:lnTo>
                <a:lnTo>
                  <a:pt x="165" y="198"/>
                </a:lnTo>
                <a:lnTo>
                  <a:pt x="163" y="196"/>
                </a:lnTo>
                <a:lnTo>
                  <a:pt x="161" y="195"/>
                </a:lnTo>
                <a:lnTo>
                  <a:pt x="158" y="194"/>
                </a:lnTo>
                <a:lnTo>
                  <a:pt x="157" y="194"/>
                </a:lnTo>
                <a:lnTo>
                  <a:pt x="154" y="196"/>
                </a:lnTo>
                <a:lnTo>
                  <a:pt x="146" y="202"/>
                </a:lnTo>
                <a:lnTo>
                  <a:pt x="140" y="206"/>
                </a:lnTo>
                <a:lnTo>
                  <a:pt x="132" y="210"/>
                </a:lnTo>
                <a:lnTo>
                  <a:pt x="123" y="213"/>
                </a:lnTo>
                <a:lnTo>
                  <a:pt x="114" y="216"/>
                </a:lnTo>
                <a:lnTo>
                  <a:pt x="104" y="219"/>
                </a:lnTo>
                <a:lnTo>
                  <a:pt x="95" y="220"/>
                </a:lnTo>
                <a:lnTo>
                  <a:pt x="89" y="221"/>
                </a:lnTo>
                <a:lnTo>
                  <a:pt x="85" y="223"/>
                </a:lnTo>
                <a:lnTo>
                  <a:pt x="81" y="223"/>
                </a:lnTo>
                <a:lnTo>
                  <a:pt x="78" y="223"/>
                </a:lnTo>
                <a:lnTo>
                  <a:pt x="73" y="221"/>
                </a:lnTo>
                <a:lnTo>
                  <a:pt x="67" y="219"/>
                </a:lnTo>
                <a:lnTo>
                  <a:pt x="62" y="218"/>
                </a:lnTo>
                <a:lnTo>
                  <a:pt x="57" y="216"/>
                </a:lnTo>
                <a:lnTo>
                  <a:pt x="52" y="215"/>
                </a:lnTo>
                <a:lnTo>
                  <a:pt x="49" y="215"/>
                </a:lnTo>
                <a:lnTo>
                  <a:pt x="46" y="213"/>
                </a:lnTo>
                <a:lnTo>
                  <a:pt x="44" y="210"/>
                </a:lnTo>
                <a:lnTo>
                  <a:pt x="44" y="204"/>
                </a:lnTo>
                <a:lnTo>
                  <a:pt x="43" y="197"/>
                </a:lnTo>
                <a:lnTo>
                  <a:pt x="40" y="188"/>
                </a:lnTo>
                <a:lnTo>
                  <a:pt x="33" y="180"/>
                </a:lnTo>
                <a:lnTo>
                  <a:pt x="25" y="173"/>
                </a:lnTo>
                <a:lnTo>
                  <a:pt x="16" y="167"/>
                </a:lnTo>
                <a:lnTo>
                  <a:pt x="9" y="164"/>
                </a:lnTo>
                <a:lnTo>
                  <a:pt x="3" y="162"/>
                </a:lnTo>
                <a:lnTo>
                  <a:pt x="1" y="157"/>
                </a:lnTo>
                <a:lnTo>
                  <a:pt x="0" y="151"/>
                </a:lnTo>
                <a:lnTo>
                  <a:pt x="0" y="143"/>
                </a:lnTo>
                <a:lnTo>
                  <a:pt x="0" y="136"/>
                </a:lnTo>
                <a:lnTo>
                  <a:pt x="1" y="130"/>
                </a:lnTo>
                <a:lnTo>
                  <a:pt x="5" y="129"/>
                </a:lnTo>
                <a:lnTo>
                  <a:pt x="12" y="129"/>
                </a:lnTo>
                <a:lnTo>
                  <a:pt x="20" y="128"/>
                </a:lnTo>
                <a:lnTo>
                  <a:pt x="27" y="129"/>
                </a:lnTo>
                <a:lnTo>
                  <a:pt x="36" y="132"/>
                </a:lnTo>
                <a:lnTo>
                  <a:pt x="42" y="135"/>
                </a:lnTo>
                <a:lnTo>
                  <a:pt x="49" y="138"/>
                </a:lnTo>
                <a:lnTo>
                  <a:pt x="57" y="142"/>
                </a:lnTo>
                <a:lnTo>
                  <a:pt x="65" y="147"/>
                </a:lnTo>
                <a:lnTo>
                  <a:pt x="72" y="149"/>
                </a:lnTo>
                <a:lnTo>
                  <a:pt x="79" y="151"/>
                </a:lnTo>
                <a:lnTo>
                  <a:pt x="82" y="151"/>
                </a:lnTo>
                <a:lnTo>
                  <a:pt x="85" y="149"/>
                </a:lnTo>
                <a:lnTo>
                  <a:pt x="86" y="141"/>
                </a:lnTo>
                <a:lnTo>
                  <a:pt x="86" y="133"/>
                </a:lnTo>
                <a:lnTo>
                  <a:pt x="81" y="126"/>
                </a:lnTo>
                <a:lnTo>
                  <a:pt x="69" y="121"/>
                </a:lnTo>
                <a:lnTo>
                  <a:pt x="56" y="118"/>
                </a:lnTo>
                <a:lnTo>
                  <a:pt x="50" y="117"/>
                </a:lnTo>
                <a:lnTo>
                  <a:pt x="44" y="117"/>
                </a:lnTo>
                <a:lnTo>
                  <a:pt x="35" y="115"/>
                </a:lnTo>
                <a:lnTo>
                  <a:pt x="24" y="115"/>
                </a:lnTo>
                <a:lnTo>
                  <a:pt x="17" y="115"/>
                </a:lnTo>
                <a:lnTo>
                  <a:pt x="12" y="114"/>
                </a:lnTo>
                <a:lnTo>
                  <a:pt x="8" y="111"/>
                </a:lnTo>
                <a:lnTo>
                  <a:pt x="3" y="104"/>
                </a:lnTo>
                <a:lnTo>
                  <a:pt x="2" y="96"/>
                </a:lnTo>
                <a:lnTo>
                  <a:pt x="2" y="90"/>
                </a:lnTo>
                <a:lnTo>
                  <a:pt x="4" y="86"/>
                </a:lnTo>
                <a:lnTo>
                  <a:pt x="11" y="84"/>
                </a:lnTo>
                <a:lnTo>
                  <a:pt x="20" y="86"/>
                </a:lnTo>
                <a:lnTo>
                  <a:pt x="28" y="84"/>
                </a:lnTo>
                <a:lnTo>
                  <a:pt x="29" y="79"/>
                </a:lnTo>
                <a:lnTo>
                  <a:pt x="26" y="73"/>
                </a:lnTo>
                <a:lnTo>
                  <a:pt x="23" y="71"/>
                </a:lnTo>
                <a:lnTo>
                  <a:pt x="19" y="68"/>
                </a:lnTo>
                <a:lnTo>
                  <a:pt x="13" y="62"/>
                </a:lnTo>
                <a:lnTo>
                  <a:pt x="8" y="54"/>
                </a:lnTo>
                <a:lnTo>
                  <a:pt x="3" y="49"/>
                </a:lnTo>
                <a:lnTo>
                  <a:pt x="3" y="44"/>
                </a:lnTo>
                <a:lnTo>
                  <a:pt x="8" y="39"/>
                </a:lnTo>
                <a:lnTo>
                  <a:pt x="14" y="37"/>
                </a:lnTo>
                <a:lnTo>
                  <a:pt x="19" y="35"/>
                </a:lnTo>
                <a:lnTo>
                  <a:pt x="21" y="33"/>
                </a:lnTo>
                <a:lnTo>
                  <a:pt x="24" y="27"/>
                </a:lnTo>
                <a:lnTo>
                  <a:pt x="25" y="21"/>
                </a:lnTo>
                <a:lnTo>
                  <a:pt x="25" y="18"/>
                </a:lnTo>
                <a:lnTo>
                  <a:pt x="28" y="15"/>
                </a:lnTo>
                <a:lnTo>
                  <a:pt x="33" y="14"/>
                </a:lnTo>
                <a:lnTo>
                  <a:pt x="40" y="13"/>
                </a:lnTo>
                <a:lnTo>
                  <a:pt x="46" y="9"/>
                </a:lnTo>
                <a:lnTo>
                  <a:pt x="51" y="7"/>
                </a:lnTo>
                <a:lnTo>
                  <a:pt x="61" y="5"/>
                </a:lnTo>
                <a:lnTo>
                  <a:pt x="72" y="3"/>
                </a:lnTo>
                <a:lnTo>
                  <a:pt x="81" y="0"/>
                </a:lnTo>
                <a:lnTo>
                  <a:pt x="88" y="3"/>
                </a:lnTo>
                <a:lnTo>
                  <a:pt x="88" y="9"/>
                </a:lnTo>
                <a:lnTo>
                  <a:pt x="85" y="18"/>
                </a:lnTo>
                <a:lnTo>
                  <a:pt x="81" y="23"/>
                </a:lnTo>
                <a:lnTo>
                  <a:pt x="82" y="27"/>
                </a:lnTo>
                <a:lnTo>
                  <a:pt x="88" y="26"/>
                </a:lnTo>
                <a:lnTo>
                  <a:pt x="95" y="23"/>
                </a:lnTo>
                <a:lnTo>
                  <a:pt x="100" y="24"/>
                </a:lnTo>
                <a:lnTo>
                  <a:pt x="102" y="27"/>
                </a:lnTo>
                <a:lnTo>
                  <a:pt x="104" y="34"/>
                </a:lnTo>
                <a:lnTo>
                  <a:pt x="110" y="41"/>
                </a:lnTo>
                <a:lnTo>
                  <a:pt x="117" y="46"/>
                </a:lnTo>
                <a:lnTo>
                  <a:pt x="124" y="47"/>
                </a:lnTo>
                <a:lnTo>
                  <a:pt x="127" y="45"/>
                </a:lnTo>
                <a:lnTo>
                  <a:pt x="127" y="38"/>
                </a:lnTo>
                <a:lnTo>
                  <a:pt x="126" y="31"/>
                </a:lnTo>
                <a:lnTo>
                  <a:pt x="125" y="27"/>
                </a:lnTo>
                <a:lnTo>
                  <a:pt x="129" y="27"/>
                </a:lnTo>
                <a:lnTo>
                  <a:pt x="134" y="33"/>
                </a:lnTo>
                <a:lnTo>
                  <a:pt x="140" y="39"/>
                </a:lnTo>
                <a:lnTo>
                  <a:pt x="145" y="47"/>
                </a:lnTo>
                <a:lnTo>
                  <a:pt x="146" y="58"/>
                </a:lnTo>
                <a:lnTo>
                  <a:pt x="147" y="69"/>
                </a:lnTo>
                <a:lnTo>
                  <a:pt x="148" y="80"/>
                </a:lnTo>
                <a:lnTo>
                  <a:pt x="152" y="83"/>
                </a:lnTo>
                <a:lnTo>
                  <a:pt x="155" y="75"/>
                </a:lnTo>
                <a:lnTo>
                  <a:pt x="158" y="64"/>
                </a:lnTo>
                <a:lnTo>
                  <a:pt x="161" y="57"/>
                </a:lnTo>
                <a:lnTo>
                  <a:pt x="162" y="51"/>
                </a:lnTo>
                <a:lnTo>
                  <a:pt x="160" y="46"/>
                </a:lnTo>
                <a:lnTo>
                  <a:pt x="157" y="39"/>
                </a:lnTo>
                <a:lnTo>
                  <a:pt x="156" y="33"/>
                </a:lnTo>
                <a:lnTo>
                  <a:pt x="157" y="27"/>
                </a:lnTo>
                <a:lnTo>
                  <a:pt x="160" y="22"/>
                </a:lnTo>
                <a:lnTo>
                  <a:pt x="164" y="20"/>
                </a:lnTo>
                <a:lnTo>
                  <a:pt x="169" y="21"/>
                </a:lnTo>
                <a:lnTo>
                  <a:pt x="173" y="23"/>
                </a:lnTo>
                <a:lnTo>
                  <a:pt x="179" y="26"/>
                </a:lnTo>
                <a:lnTo>
                  <a:pt x="181" y="24"/>
                </a:lnTo>
                <a:lnTo>
                  <a:pt x="183" y="22"/>
                </a:lnTo>
                <a:lnTo>
                  <a:pt x="181" y="19"/>
                </a:lnTo>
                <a:lnTo>
                  <a:pt x="181" y="18"/>
                </a:lnTo>
                <a:lnTo>
                  <a:pt x="179" y="15"/>
                </a:lnTo>
                <a:lnTo>
                  <a:pt x="175" y="11"/>
                </a:lnTo>
                <a:lnTo>
                  <a:pt x="172" y="7"/>
                </a:lnTo>
                <a:lnTo>
                  <a:pt x="179" y="5"/>
                </a:lnTo>
                <a:lnTo>
                  <a:pt x="185" y="5"/>
                </a:lnTo>
                <a:lnTo>
                  <a:pt x="192" y="5"/>
                </a:lnTo>
                <a:lnTo>
                  <a:pt x="198" y="5"/>
                </a:lnTo>
                <a:lnTo>
                  <a:pt x="203" y="6"/>
                </a:lnTo>
                <a:lnTo>
                  <a:pt x="208" y="8"/>
                </a:lnTo>
                <a:lnTo>
                  <a:pt x="211" y="11"/>
                </a:lnTo>
                <a:lnTo>
                  <a:pt x="213" y="15"/>
                </a:lnTo>
                <a:lnTo>
                  <a:pt x="211" y="21"/>
                </a:lnTo>
                <a:lnTo>
                  <a:pt x="207" y="31"/>
                </a:lnTo>
                <a:lnTo>
                  <a:pt x="203" y="37"/>
                </a:lnTo>
                <a:lnTo>
                  <a:pt x="199" y="39"/>
                </a:lnTo>
                <a:lnTo>
                  <a:pt x="195" y="42"/>
                </a:lnTo>
                <a:lnTo>
                  <a:pt x="192" y="45"/>
                </a:lnTo>
                <a:lnTo>
                  <a:pt x="193" y="52"/>
                </a:lnTo>
                <a:lnTo>
                  <a:pt x="195" y="60"/>
                </a:lnTo>
                <a:lnTo>
                  <a:pt x="196" y="69"/>
                </a:lnTo>
                <a:lnTo>
                  <a:pt x="198" y="79"/>
                </a:lnTo>
                <a:lnTo>
                  <a:pt x="199" y="89"/>
                </a:lnTo>
                <a:lnTo>
                  <a:pt x="201" y="98"/>
                </a:lnTo>
                <a:lnTo>
                  <a:pt x="201" y="105"/>
                </a:lnTo>
                <a:lnTo>
                  <a:pt x="200" y="110"/>
                </a:lnTo>
                <a:lnTo>
                  <a:pt x="199" y="112"/>
                </a:lnTo>
                <a:lnTo>
                  <a:pt x="198" y="115"/>
                </a:lnTo>
                <a:lnTo>
                  <a:pt x="198" y="122"/>
                </a:lnTo>
                <a:lnTo>
                  <a:pt x="201" y="130"/>
                </a:lnTo>
                <a:lnTo>
                  <a:pt x="205" y="136"/>
                </a:lnTo>
                <a:lnTo>
                  <a:pt x="209" y="141"/>
                </a:lnTo>
                <a:lnTo>
                  <a:pt x="216" y="147"/>
                </a:lnTo>
                <a:lnTo>
                  <a:pt x="224" y="153"/>
                </a:lnTo>
                <a:lnTo>
                  <a:pt x="231" y="158"/>
                </a:lnTo>
                <a:lnTo>
                  <a:pt x="237" y="160"/>
                </a:lnTo>
                <a:lnTo>
                  <a:pt x="239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3" name="Freeform 445"/>
          <p:cNvSpPr/>
          <p:nvPr/>
        </p:nvSpPr>
        <p:spPr>
          <a:xfrm>
            <a:off x="3948120" y="6037200"/>
            <a:ext cx="52560" cy="27000"/>
          </a:xfrm>
          <a:custGeom>
            <a:avLst/>
            <a:gdLst/>
            <a:ahLst/>
            <a:rect l="l" t="t" r="r" b="b"/>
            <a:pathLst>
              <a:path w="23" h="18">
                <a:moveTo>
                  <a:pt x="2" y="0"/>
                </a:moveTo>
                <a:lnTo>
                  <a:pt x="23" y="1"/>
                </a:lnTo>
                <a:lnTo>
                  <a:pt x="21" y="18"/>
                </a:lnTo>
                <a:lnTo>
                  <a:pt x="0" y="1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4" name="Freeform 450"/>
          <p:cNvSpPr/>
          <p:nvPr/>
        </p:nvSpPr>
        <p:spPr>
          <a:xfrm>
            <a:off x="5432400" y="3514680"/>
            <a:ext cx="187200" cy="73080"/>
          </a:xfrm>
          <a:custGeom>
            <a:avLst/>
            <a:gdLst/>
            <a:ahLst/>
            <a:rect l="l" t="t" r="r" b="b"/>
            <a:pathLst>
              <a:path w="114" h="54">
                <a:moveTo>
                  <a:pt x="14" y="0"/>
                </a:moveTo>
                <a:lnTo>
                  <a:pt x="26" y="14"/>
                </a:lnTo>
                <a:lnTo>
                  <a:pt x="54" y="4"/>
                </a:lnTo>
                <a:lnTo>
                  <a:pt x="88" y="0"/>
                </a:lnTo>
                <a:lnTo>
                  <a:pt x="114" y="18"/>
                </a:lnTo>
                <a:lnTo>
                  <a:pt x="96" y="38"/>
                </a:lnTo>
                <a:lnTo>
                  <a:pt x="68" y="54"/>
                </a:lnTo>
                <a:lnTo>
                  <a:pt x="30" y="42"/>
                </a:lnTo>
                <a:lnTo>
                  <a:pt x="10" y="44"/>
                </a:lnTo>
                <a:lnTo>
                  <a:pt x="26" y="36"/>
                </a:lnTo>
                <a:lnTo>
                  <a:pt x="16" y="22"/>
                </a:lnTo>
                <a:lnTo>
                  <a:pt x="0" y="16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8280" bIns="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Freeform 451"/>
          <p:cNvSpPr/>
          <p:nvPr/>
        </p:nvSpPr>
        <p:spPr>
          <a:xfrm>
            <a:off x="11115720" y="6550200"/>
            <a:ext cx="306360" cy="263520"/>
          </a:xfrm>
          <a:custGeom>
            <a:avLst/>
            <a:gdLst/>
            <a:ahLst/>
            <a:rect l="l" t="t" r="r" b="b"/>
            <a:pathLst>
              <a:path w="575" h="488">
                <a:moveTo>
                  <a:pt x="410" y="71"/>
                </a:moveTo>
                <a:lnTo>
                  <a:pt x="321" y="142"/>
                </a:lnTo>
                <a:lnTo>
                  <a:pt x="233" y="142"/>
                </a:lnTo>
                <a:lnTo>
                  <a:pt x="178" y="71"/>
                </a:lnTo>
                <a:lnTo>
                  <a:pt x="107" y="0"/>
                </a:lnTo>
                <a:lnTo>
                  <a:pt x="36" y="19"/>
                </a:lnTo>
                <a:lnTo>
                  <a:pt x="0" y="90"/>
                </a:lnTo>
                <a:lnTo>
                  <a:pt x="72" y="124"/>
                </a:lnTo>
                <a:lnTo>
                  <a:pt x="89" y="159"/>
                </a:lnTo>
                <a:lnTo>
                  <a:pt x="107" y="213"/>
                </a:lnTo>
                <a:lnTo>
                  <a:pt x="160" y="213"/>
                </a:lnTo>
                <a:lnTo>
                  <a:pt x="197" y="230"/>
                </a:lnTo>
                <a:lnTo>
                  <a:pt x="321" y="283"/>
                </a:lnTo>
                <a:lnTo>
                  <a:pt x="446" y="353"/>
                </a:lnTo>
                <a:lnTo>
                  <a:pt x="465" y="389"/>
                </a:lnTo>
                <a:lnTo>
                  <a:pt x="393" y="424"/>
                </a:lnTo>
                <a:lnTo>
                  <a:pt x="465" y="442"/>
                </a:lnTo>
                <a:lnTo>
                  <a:pt x="518" y="459"/>
                </a:lnTo>
                <a:lnTo>
                  <a:pt x="575" y="488"/>
                </a:lnTo>
                <a:lnTo>
                  <a:pt x="575" y="122"/>
                </a:lnTo>
                <a:lnTo>
                  <a:pt x="410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6" name="Freeform 452"/>
          <p:cNvSpPr/>
          <p:nvPr/>
        </p:nvSpPr>
        <p:spPr>
          <a:xfrm>
            <a:off x="11422080" y="6613560"/>
            <a:ext cx="247680" cy="241200"/>
          </a:xfrm>
          <a:custGeom>
            <a:avLst/>
            <a:gdLst/>
            <a:ahLst/>
            <a:rect l="l" t="t" r="r" b="b"/>
            <a:pathLst>
              <a:path w="460" h="443">
                <a:moveTo>
                  <a:pt x="353" y="302"/>
                </a:moveTo>
                <a:lnTo>
                  <a:pt x="336" y="249"/>
                </a:lnTo>
                <a:lnTo>
                  <a:pt x="372" y="214"/>
                </a:lnTo>
                <a:lnTo>
                  <a:pt x="283" y="161"/>
                </a:lnTo>
                <a:lnTo>
                  <a:pt x="247" y="108"/>
                </a:lnTo>
                <a:lnTo>
                  <a:pt x="122" y="37"/>
                </a:lnTo>
                <a:lnTo>
                  <a:pt x="0" y="0"/>
                </a:lnTo>
                <a:lnTo>
                  <a:pt x="0" y="366"/>
                </a:lnTo>
                <a:lnTo>
                  <a:pt x="14" y="373"/>
                </a:lnTo>
                <a:lnTo>
                  <a:pt x="67" y="373"/>
                </a:lnTo>
                <a:lnTo>
                  <a:pt x="122" y="320"/>
                </a:lnTo>
                <a:lnTo>
                  <a:pt x="211" y="284"/>
                </a:lnTo>
                <a:lnTo>
                  <a:pt x="264" y="320"/>
                </a:lnTo>
                <a:lnTo>
                  <a:pt x="389" y="408"/>
                </a:lnTo>
                <a:lnTo>
                  <a:pt x="460" y="443"/>
                </a:lnTo>
                <a:lnTo>
                  <a:pt x="460" y="337"/>
                </a:lnTo>
                <a:lnTo>
                  <a:pt x="353" y="3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77" name="Group 453" descr=""/>
          <p:cNvPicPr/>
          <p:nvPr/>
        </p:nvPicPr>
        <p:blipFill>
          <a:blip r:embed="rId1"/>
          <a:stretch/>
        </p:blipFill>
        <p:spPr>
          <a:xfrm>
            <a:off x="6095880" y="4065480"/>
            <a:ext cx="365400" cy="525600"/>
          </a:xfrm>
          <a:prstGeom prst="rect">
            <a:avLst/>
          </a:prstGeom>
          <a:ln w="0">
            <a:noFill/>
          </a:ln>
        </p:spPr>
      </p:pic>
      <p:sp>
        <p:nvSpPr>
          <p:cNvPr id="878" name="Freeform 458"/>
          <p:cNvSpPr/>
          <p:nvPr/>
        </p:nvSpPr>
        <p:spPr>
          <a:xfrm>
            <a:off x="7502400" y="5276880"/>
            <a:ext cx="103320" cy="6336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15"/>
                </a:moveTo>
                <a:lnTo>
                  <a:pt x="3" y="17"/>
                </a:lnTo>
                <a:lnTo>
                  <a:pt x="12" y="14"/>
                </a:lnTo>
                <a:lnTo>
                  <a:pt x="13" y="8"/>
                </a:lnTo>
                <a:lnTo>
                  <a:pt x="27" y="9"/>
                </a:lnTo>
                <a:lnTo>
                  <a:pt x="46" y="0"/>
                </a:lnTo>
                <a:lnTo>
                  <a:pt x="46" y="1"/>
                </a:lnTo>
                <a:lnTo>
                  <a:pt x="33" y="11"/>
                </a:lnTo>
                <a:lnTo>
                  <a:pt x="36" y="18"/>
                </a:lnTo>
                <a:lnTo>
                  <a:pt x="27" y="21"/>
                </a:lnTo>
                <a:lnTo>
                  <a:pt x="15" y="28"/>
                </a:lnTo>
                <a:lnTo>
                  <a:pt x="13" y="28"/>
                </a:lnTo>
                <a:lnTo>
                  <a:pt x="8" y="26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Freeform 507"/>
          <p:cNvSpPr/>
          <p:nvPr/>
        </p:nvSpPr>
        <p:spPr>
          <a:xfrm>
            <a:off x="9020160" y="4402080"/>
            <a:ext cx="2144880" cy="1490760"/>
          </a:xfrm>
          <a:custGeom>
            <a:avLst/>
            <a:gdLst/>
            <a:ahLst/>
            <a:rect l="l" t="t" r="r" b="b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0" name="Freeform 260"/>
          <p:cNvSpPr/>
          <p:nvPr/>
        </p:nvSpPr>
        <p:spPr>
          <a:xfrm>
            <a:off x="9083520" y="6632640"/>
            <a:ext cx="81000" cy="98280"/>
          </a:xfrm>
          <a:custGeom>
            <a:avLst/>
            <a:gdLst/>
            <a:ahLst/>
            <a:rect l="l" t="t" r="r" b="b"/>
            <a:pathLst>
              <a:path w="42" h="54">
                <a:moveTo>
                  <a:pt x="6" y="0"/>
                </a:moveTo>
                <a:lnTo>
                  <a:pt x="0" y="24"/>
                </a:lnTo>
                <a:lnTo>
                  <a:pt x="6" y="54"/>
                </a:lnTo>
                <a:lnTo>
                  <a:pt x="30" y="54"/>
                </a:lnTo>
                <a:lnTo>
                  <a:pt x="42" y="3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1" name="Freeform 261"/>
          <p:cNvSpPr/>
          <p:nvPr/>
        </p:nvSpPr>
        <p:spPr>
          <a:xfrm>
            <a:off x="10247400" y="5892840"/>
            <a:ext cx="777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0"/>
                </a:moveTo>
                <a:lnTo>
                  <a:pt x="12" y="12"/>
                </a:lnTo>
                <a:lnTo>
                  <a:pt x="30" y="0"/>
                </a:lnTo>
                <a:lnTo>
                  <a:pt x="42" y="12"/>
                </a:lnTo>
                <a:lnTo>
                  <a:pt x="30" y="30"/>
                </a:lnTo>
                <a:lnTo>
                  <a:pt x="12" y="42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1520" bIns="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Freeform 262"/>
          <p:cNvSpPr/>
          <p:nvPr/>
        </p:nvSpPr>
        <p:spPr>
          <a:xfrm>
            <a:off x="10661760" y="5703840"/>
            <a:ext cx="44280" cy="13176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42"/>
                </a:moveTo>
                <a:lnTo>
                  <a:pt x="0" y="18"/>
                </a:lnTo>
                <a:lnTo>
                  <a:pt x="24" y="0"/>
                </a:lnTo>
                <a:lnTo>
                  <a:pt x="24" y="24"/>
                </a:lnTo>
                <a:lnTo>
                  <a:pt x="6" y="7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3" name="Freeform 263"/>
          <p:cNvSpPr/>
          <p:nvPr/>
        </p:nvSpPr>
        <p:spPr>
          <a:xfrm>
            <a:off x="10995120" y="5357880"/>
            <a:ext cx="65160" cy="100080"/>
          </a:xfrm>
          <a:custGeom>
            <a:avLst/>
            <a:gdLst/>
            <a:ahLst/>
            <a:rect l="l" t="t" r="r" b="b"/>
            <a:pathLst>
              <a:path w="36" h="54">
                <a:moveTo>
                  <a:pt x="0" y="18"/>
                </a:moveTo>
                <a:lnTo>
                  <a:pt x="6" y="36"/>
                </a:lnTo>
                <a:lnTo>
                  <a:pt x="12" y="54"/>
                </a:lnTo>
                <a:lnTo>
                  <a:pt x="30" y="42"/>
                </a:lnTo>
                <a:lnTo>
                  <a:pt x="36" y="18"/>
                </a:lnTo>
                <a:lnTo>
                  <a:pt x="3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4" name="Freeform 264"/>
          <p:cNvSpPr/>
          <p:nvPr/>
        </p:nvSpPr>
        <p:spPr>
          <a:xfrm>
            <a:off x="11074320" y="4848120"/>
            <a:ext cx="490680" cy="532080"/>
          </a:xfrm>
          <a:custGeom>
            <a:avLst/>
            <a:gdLst/>
            <a:ahLst/>
            <a:rect l="l" t="t" r="r" b="b"/>
            <a:pathLst>
              <a:path w="264" h="289">
                <a:moveTo>
                  <a:pt x="6" y="247"/>
                </a:moveTo>
                <a:lnTo>
                  <a:pt x="42" y="235"/>
                </a:lnTo>
                <a:lnTo>
                  <a:pt x="66" y="235"/>
                </a:lnTo>
                <a:lnTo>
                  <a:pt x="108" y="199"/>
                </a:lnTo>
                <a:lnTo>
                  <a:pt x="138" y="187"/>
                </a:lnTo>
                <a:lnTo>
                  <a:pt x="144" y="157"/>
                </a:lnTo>
                <a:lnTo>
                  <a:pt x="156" y="109"/>
                </a:lnTo>
                <a:lnTo>
                  <a:pt x="156" y="72"/>
                </a:lnTo>
                <a:lnTo>
                  <a:pt x="174" y="48"/>
                </a:lnTo>
                <a:lnTo>
                  <a:pt x="174" y="18"/>
                </a:lnTo>
                <a:lnTo>
                  <a:pt x="186" y="0"/>
                </a:lnTo>
                <a:lnTo>
                  <a:pt x="210" y="18"/>
                </a:lnTo>
                <a:lnTo>
                  <a:pt x="246" y="30"/>
                </a:lnTo>
                <a:lnTo>
                  <a:pt x="264" y="30"/>
                </a:lnTo>
                <a:lnTo>
                  <a:pt x="240" y="54"/>
                </a:lnTo>
                <a:lnTo>
                  <a:pt x="222" y="66"/>
                </a:lnTo>
                <a:lnTo>
                  <a:pt x="210" y="85"/>
                </a:lnTo>
                <a:lnTo>
                  <a:pt x="180" y="60"/>
                </a:lnTo>
                <a:lnTo>
                  <a:pt x="162" y="97"/>
                </a:lnTo>
                <a:lnTo>
                  <a:pt x="186" y="139"/>
                </a:lnTo>
                <a:lnTo>
                  <a:pt x="168" y="169"/>
                </a:lnTo>
                <a:lnTo>
                  <a:pt x="162" y="193"/>
                </a:lnTo>
                <a:lnTo>
                  <a:pt x="162" y="235"/>
                </a:lnTo>
                <a:lnTo>
                  <a:pt x="150" y="247"/>
                </a:lnTo>
                <a:lnTo>
                  <a:pt x="138" y="241"/>
                </a:lnTo>
                <a:lnTo>
                  <a:pt x="126" y="247"/>
                </a:lnTo>
                <a:lnTo>
                  <a:pt x="102" y="247"/>
                </a:lnTo>
                <a:lnTo>
                  <a:pt x="90" y="247"/>
                </a:lnTo>
                <a:lnTo>
                  <a:pt x="66" y="271"/>
                </a:lnTo>
                <a:lnTo>
                  <a:pt x="60" y="259"/>
                </a:lnTo>
                <a:lnTo>
                  <a:pt x="48" y="265"/>
                </a:lnTo>
                <a:lnTo>
                  <a:pt x="36" y="271"/>
                </a:lnTo>
                <a:lnTo>
                  <a:pt x="12" y="289"/>
                </a:lnTo>
                <a:lnTo>
                  <a:pt x="0" y="259"/>
                </a:lnTo>
                <a:lnTo>
                  <a:pt x="6" y="24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5" name="Freeform 265"/>
          <p:cNvSpPr/>
          <p:nvPr/>
        </p:nvSpPr>
        <p:spPr>
          <a:xfrm>
            <a:off x="11420640" y="4357800"/>
            <a:ext cx="87120" cy="434880"/>
          </a:xfrm>
          <a:custGeom>
            <a:avLst/>
            <a:gdLst/>
            <a:ahLst/>
            <a:rect l="l" t="t" r="r" b="b"/>
            <a:pathLst>
              <a:path w="48" h="234">
                <a:moveTo>
                  <a:pt x="12" y="222"/>
                </a:moveTo>
                <a:lnTo>
                  <a:pt x="12" y="180"/>
                </a:lnTo>
                <a:lnTo>
                  <a:pt x="6" y="90"/>
                </a:lnTo>
                <a:lnTo>
                  <a:pt x="0" y="66"/>
                </a:lnTo>
                <a:lnTo>
                  <a:pt x="6" y="30"/>
                </a:lnTo>
                <a:lnTo>
                  <a:pt x="12" y="0"/>
                </a:lnTo>
                <a:lnTo>
                  <a:pt x="24" y="36"/>
                </a:lnTo>
                <a:lnTo>
                  <a:pt x="24" y="60"/>
                </a:lnTo>
                <a:lnTo>
                  <a:pt x="48" y="156"/>
                </a:lnTo>
                <a:lnTo>
                  <a:pt x="30" y="144"/>
                </a:lnTo>
                <a:lnTo>
                  <a:pt x="24" y="168"/>
                </a:lnTo>
                <a:lnTo>
                  <a:pt x="24" y="198"/>
                </a:lnTo>
                <a:lnTo>
                  <a:pt x="42" y="234"/>
                </a:lnTo>
                <a:lnTo>
                  <a:pt x="12" y="2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6" name="Freeform 272"/>
          <p:cNvSpPr/>
          <p:nvPr/>
        </p:nvSpPr>
        <p:spPr>
          <a:xfrm>
            <a:off x="10636200" y="5958000"/>
            <a:ext cx="201600" cy="277560"/>
          </a:xfrm>
          <a:custGeom>
            <a:avLst/>
            <a:gdLst/>
            <a:ahLst/>
            <a:rect l="l" t="t" r="r" b="b"/>
            <a:pathLst>
              <a:path w="108" h="151">
                <a:moveTo>
                  <a:pt x="12" y="18"/>
                </a:moveTo>
                <a:lnTo>
                  <a:pt x="0" y="42"/>
                </a:lnTo>
                <a:lnTo>
                  <a:pt x="6" y="72"/>
                </a:lnTo>
                <a:lnTo>
                  <a:pt x="18" y="85"/>
                </a:lnTo>
                <a:lnTo>
                  <a:pt x="36" y="91"/>
                </a:lnTo>
                <a:lnTo>
                  <a:pt x="72" y="109"/>
                </a:lnTo>
                <a:lnTo>
                  <a:pt x="78" y="139"/>
                </a:lnTo>
                <a:lnTo>
                  <a:pt x="108" y="151"/>
                </a:lnTo>
                <a:lnTo>
                  <a:pt x="102" y="127"/>
                </a:lnTo>
                <a:lnTo>
                  <a:pt x="78" y="91"/>
                </a:lnTo>
                <a:lnTo>
                  <a:pt x="42" y="66"/>
                </a:lnTo>
                <a:lnTo>
                  <a:pt x="48" y="48"/>
                </a:lnTo>
                <a:lnTo>
                  <a:pt x="54" y="12"/>
                </a:lnTo>
                <a:lnTo>
                  <a:pt x="30" y="0"/>
                </a:ln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Freeform 273"/>
          <p:cNvSpPr/>
          <p:nvPr/>
        </p:nvSpPr>
        <p:spPr>
          <a:xfrm>
            <a:off x="10717200" y="6281640"/>
            <a:ext cx="165240" cy="130320"/>
          </a:xfrm>
          <a:custGeom>
            <a:avLst/>
            <a:gdLst/>
            <a:ahLst/>
            <a:rect l="l" t="t" r="r" b="b"/>
            <a:pathLst>
              <a:path w="90" h="72">
                <a:moveTo>
                  <a:pt x="0" y="54"/>
                </a:moveTo>
                <a:lnTo>
                  <a:pt x="18" y="24"/>
                </a:lnTo>
                <a:lnTo>
                  <a:pt x="42" y="24"/>
                </a:lnTo>
                <a:lnTo>
                  <a:pt x="60" y="0"/>
                </a:lnTo>
                <a:lnTo>
                  <a:pt x="90" y="24"/>
                </a:lnTo>
                <a:lnTo>
                  <a:pt x="90" y="72"/>
                </a:lnTo>
                <a:lnTo>
                  <a:pt x="60" y="60"/>
                </a:lnTo>
                <a:lnTo>
                  <a:pt x="42" y="60"/>
                </a:lnTo>
                <a:lnTo>
                  <a:pt x="24" y="48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8" name="Freeform 333"/>
          <p:cNvSpPr/>
          <p:nvPr/>
        </p:nvSpPr>
        <p:spPr>
          <a:xfrm>
            <a:off x="9518760" y="4470480"/>
            <a:ext cx="1106280" cy="555480"/>
          </a:xfrm>
          <a:custGeom>
            <a:avLst/>
            <a:gdLst/>
            <a:ahLst/>
            <a:rect l="l" t="t" r="r" b="b"/>
            <a:pathLst>
              <a:path w="595" h="301">
                <a:moveTo>
                  <a:pt x="42" y="126"/>
                </a:moveTo>
                <a:lnTo>
                  <a:pt x="48" y="186"/>
                </a:lnTo>
                <a:lnTo>
                  <a:pt x="127" y="210"/>
                </a:lnTo>
                <a:lnTo>
                  <a:pt x="181" y="264"/>
                </a:lnTo>
                <a:lnTo>
                  <a:pt x="253" y="270"/>
                </a:lnTo>
                <a:lnTo>
                  <a:pt x="313" y="301"/>
                </a:lnTo>
                <a:lnTo>
                  <a:pt x="379" y="258"/>
                </a:lnTo>
                <a:lnTo>
                  <a:pt x="445" y="252"/>
                </a:lnTo>
                <a:lnTo>
                  <a:pt x="457" y="210"/>
                </a:lnTo>
                <a:lnTo>
                  <a:pt x="499" y="192"/>
                </a:lnTo>
                <a:lnTo>
                  <a:pt x="541" y="174"/>
                </a:lnTo>
                <a:lnTo>
                  <a:pt x="595" y="156"/>
                </a:lnTo>
                <a:lnTo>
                  <a:pt x="583" y="132"/>
                </a:lnTo>
                <a:lnTo>
                  <a:pt x="529" y="126"/>
                </a:lnTo>
                <a:lnTo>
                  <a:pt x="529" y="96"/>
                </a:lnTo>
                <a:lnTo>
                  <a:pt x="541" y="72"/>
                </a:lnTo>
                <a:lnTo>
                  <a:pt x="499" y="60"/>
                </a:lnTo>
                <a:lnTo>
                  <a:pt x="403" y="84"/>
                </a:lnTo>
                <a:lnTo>
                  <a:pt x="367" y="54"/>
                </a:lnTo>
                <a:lnTo>
                  <a:pt x="307" y="54"/>
                </a:lnTo>
                <a:lnTo>
                  <a:pt x="289" y="36"/>
                </a:lnTo>
                <a:lnTo>
                  <a:pt x="217" y="0"/>
                </a:lnTo>
                <a:lnTo>
                  <a:pt x="193" y="30"/>
                </a:lnTo>
                <a:lnTo>
                  <a:pt x="169" y="66"/>
                </a:lnTo>
                <a:lnTo>
                  <a:pt x="121" y="48"/>
                </a:lnTo>
                <a:lnTo>
                  <a:pt x="54" y="54"/>
                </a:lnTo>
                <a:lnTo>
                  <a:pt x="12" y="78"/>
                </a:lnTo>
                <a:lnTo>
                  <a:pt x="0" y="102"/>
                </a:lnTo>
                <a:lnTo>
                  <a:pt x="6" y="108"/>
                </a:lnTo>
                <a:lnTo>
                  <a:pt x="4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9" name="Line 449"/>
          <p:cNvSpPr/>
          <p:nvPr/>
        </p:nvSpPr>
        <p:spPr>
          <a:xfrm>
            <a:off x="10582200" y="5983200"/>
            <a:ext cx="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0" name="Freeform 506"/>
          <p:cNvSpPr/>
          <p:nvPr/>
        </p:nvSpPr>
        <p:spPr>
          <a:xfrm>
            <a:off x="10794960" y="4967280"/>
            <a:ext cx="176400" cy="220680"/>
          </a:xfrm>
          <a:custGeom>
            <a:avLst/>
            <a:gdLst/>
            <a:ahLst/>
            <a:rect l="l" t="t" r="r" b="b"/>
            <a:pathLst>
              <a:path w="78" h="98">
                <a:moveTo>
                  <a:pt x="32" y="12"/>
                </a:moveTo>
                <a:lnTo>
                  <a:pt x="34" y="32"/>
                </a:lnTo>
                <a:lnTo>
                  <a:pt x="20" y="22"/>
                </a:lnTo>
                <a:lnTo>
                  <a:pt x="6" y="34"/>
                </a:lnTo>
                <a:lnTo>
                  <a:pt x="0" y="56"/>
                </a:lnTo>
                <a:lnTo>
                  <a:pt x="6" y="56"/>
                </a:lnTo>
                <a:lnTo>
                  <a:pt x="10" y="56"/>
                </a:lnTo>
                <a:lnTo>
                  <a:pt x="30" y="70"/>
                </a:lnTo>
                <a:lnTo>
                  <a:pt x="34" y="84"/>
                </a:lnTo>
                <a:lnTo>
                  <a:pt x="36" y="92"/>
                </a:lnTo>
                <a:lnTo>
                  <a:pt x="40" y="98"/>
                </a:lnTo>
                <a:lnTo>
                  <a:pt x="70" y="88"/>
                </a:lnTo>
                <a:lnTo>
                  <a:pt x="70" y="84"/>
                </a:lnTo>
                <a:lnTo>
                  <a:pt x="68" y="82"/>
                </a:lnTo>
                <a:lnTo>
                  <a:pt x="66" y="78"/>
                </a:lnTo>
                <a:lnTo>
                  <a:pt x="64" y="76"/>
                </a:lnTo>
                <a:lnTo>
                  <a:pt x="64" y="60"/>
                </a:lnTo>
                <a:lnTo>
                  <a:pt x="64" y="46"/>
                </a:lnTo>
                <a:lnTo>
                  <a:pt x="54" y="26"/>
                </a:lnTo>
                <a:lnTo>
                  <a:pt x="64" y="16"/>
                </a:lnTo>
                <a:lnTo>
                  <a:pt x="78" y="4"/>
                </a:lnTo>
                <a:lnTo>
                  <a:pt x="52" y="0"/>
                </a:lnTo>
                <a:lnTo>
                  <a:pt x="3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1" name="Freeform 517"/>
          <p:cNvSpPr/>
          <p:nvPr/>
        </p:nvSpPr>
        <p:spPr>
          <a:xfrm>
            <a:off x="10861560" y="5165640"/>
            <a:ext cx="122400" cy="149400"/>
          </a:xfrm>
          <a:custGeom>
            <a:avLst/>
            <a:gdLst/>
            <a:ahLst/>
            <a:rect l="l" t="t" r="r" b="b"/>
            <a:pathLst>
              <a:path w="54" h="66">
                <a:moveTo>
                  <a:pt x="10" y="12"/>
                </a:moveTo>
                <a:lnTo>
                  <a:pt x="10" y="12"/>
                </a:lnTo>
                <a:lnTo>
                  <a:pt x="10" y="36"/>
                </a:lnTo>
                <a:lnTo>
                  <a:pt x="0" y="66"/>
                </a:lnTo>
                <a:lnTo>
                  <a:pt x="20" y="66"/>
                </a:lnTo>
                <a:lnTo>
                  <a:pt x="40" y="60"/>
                </a:lnTo>
                <a:lnTo>
                  <a:pt x="50" y="52"/>
                </a:lnTo>
                <a:lnTo>
                  <a:pt x="54" y="36"/>
                </a:lnTo>
                <a:lnTo>
                  <a:pt x="40" y="0"/>
                </a:lnTo>
                <a:lnTo>
                  <a:pt x="1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2" name="Freeform 411"/>
          <p:cNvSpPr/>
          <p:nvPr/>
        </p:nvSpPr>
        <p:spPr>
          <a:xfrm>
            <a:off x="4151160" y="7631280"/>
            <a:ext cx="181080" cy="23652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66" y="24"/>
                </a:moveTo>
                <a:lnTo>
                  <a:pt x="36" y="6"/>
                </a:lnTo>
                <a:lnTo>
                  <a:pt x="18" y="0"/>
                </a:lnTo>
                <a:lnTo>
                  <a:pt x="6" y="18"/>
                </a:lnTo>
                <a:lnTo>
                  <a:pt x="0" y="48"/>
                </a:lnTo>
                <a:lnTo>
                  <a:pt x="0" y="78"/>
                </a:lnTo>
                <a:lnTo>
                  <a:pt x="24" y="96"/>
                </a:lnTo>
                <a:lnTo>
                  <a:pt x="36" y="108"/>
                </a:lnTo>
                <a:lnTo>
                  <a:pt x="66" y="114"/>
                </a:lnTo>
                <a:lnTo>
                  <a:pt x="96" y="90"/>
                </a:lnTo>
                <a:lnTo>
                  <a:pt x="102" y="78"/>
                </a:lnTo>
                <a:lnTo>
                  <a:pt x="84" y="42"/>
                </a:lnTo>
                <a:lnTo>
                  <a:pt x="6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3" name="Freeform 420"/>
          <p:cNvSpPr/>
          <p:nvPr/>
        </p:nvSpPr>
        <p:spPr>
          <a:xfrm>
            <a:off x="3373560" y="6648480"/>
            <a:ext cx="455400" cy="558720"/>
          </a:xfrm>
          <a:custGeom>
            <a:avLst/>
            <a:gdLst/>
            <a:ahLst/>
            <a:rect l="l" t="t" r="r" b="b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4" name="Freeform 413"/>
          <p:cNvSpPr/>
          <p:nvPr/>
        </p:nvSpPr>
        <p:spPr>
          <a:xfrm>
            <a:off x="3664080" y="6473880"/>
            <a:ext cx="1257120" cy="1295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5000" y="7769"/>
                </a:moveTo>
                <a:cubicBezTo>
                  <a:pt x="5027" y="7795"/>
                  <a:pt x="5055" y="7820"/>
                  <a:pt x="5082" y="7846"/>
                </a:cubicBezTo>
                <a:cubicBezTo>
                  <a:pt x="5027" y="8000"/>
                  <a:pt x="4973" y="8154"/>
                  <a:pt x="4918" y="8308"/>
                </a:cubicBezTo>
                <a:lnTo>
                  <a:pt x="4672" y="8462"/>
                </a:lnTo>
                <a:lnTo>
                  <a:pt x="4098" y="9000"/>
                </a:lnTo>
                <a:lnTo>
                  <a:pt x="4180" y="9000"/>
                </a:lnTo>
                <a:lnTo>
                  <a:pt x="4098" y="9000"/>
                </a:lnTo>
                <a:lnTo>
                  <a:pt x="4344" y="9077"/>
                </a:lnTo>
                <a:lnTo>
                  <a:pt x="4754" y="9308"/>
                </a:lnTo>
                <a:lnTo>
                  <a:pt x="5000" y="9538"/>
                </a:lnTo>
                <a:lnTo>
                  <a:pt x="5246" y="10000"/>
                </a:lnTo>
                <a:cubicBezTo>
                  <a:pt x="5273" y="9923"/>
                  <a:pt x="5301" y="9846"/>
                  <a:pt x="5328" y="9769"/>
                </a:cubicBezTo>
                <a:lnTo>
                  <a:pt x="5656" y="9462"/>
                </a:lnTo>
                <a:lnTo>
                  <a:pt x="6066" y="9077"/>
                </a:lnTo>
                <a:lnTo>
                  <a:pt x="6393" y="8077"/>
                </a:lnTo>
                <a:lnTo>
                  <a:pt x="6639" y="7615"/>
                </a:lnTo>
                <a:lnTo>
                  <a:pt x="7541" y="7077"/>
                </a:lnTo>
                <a:lnTo>
                  <a:pt x="8115" y="7000"/>
                </a:lnTo>
                <a:lnTo>
                  <a:pt x="8279" y="6923"/>
                </a:lnTo>
                <a:lnTo>
                  <a:pt x="8443" y="6615"/>
                </a:lnTo>
                <a:cubicBezTo>
                  <a:pt x="8470" y="6513"/>
                  <a:pt x="8498" y="6410"/>
                  <a:pt x="8525" y="6308"/>
                </a:cubicBezTo>
                <a:cubicBezTo>
                  <a:pt x="8607" y="6180"/>
                  <a:pt x="8688" y="6051"/>
                  <a:pt x="8770" y="5923"/>
                </a:cubicBezTo>
                <a:cubicBezTo>
                  <a:pt x="8797" y="5872"/>
                  <a:pt x="8825" y="5820"/>
                  <a:pt x="8852" y="5769"/>
                </a:cubicBezTo>
                <a:cubicBezTo>
                  <a:pt x="8879" y="5333"/>
                  <a:pt x="8907" y="4898"/>
                  <a:pt x="8934" y="4462"/>
                </a:cubicBezTo>
                <a:lnTo>
                  <a:pt x="9180" y="4385"/>
                </a:lnTo>
                <a:lnTo>
                  <a:pt x="10000" y="3385"/>
                </a:lnTo>
                <a:lnTo>
                  <a:pt x="10000" y="3154"/>
                </a:lnTo>
                <a:cubicBezTo>
                  <a:pt x="9945" y="2974"/>
                  <a:pt x="9891" y="2795"/>
                  <a:pt x="9836" y="2615"/>
                </a:cubicBezTo>
                <a:lnTo>
                  <a:pt x="9344" y="2462"/>
                </a:lnTo>
                <a:lnTo>
                  <a:pt x="8607" y="2077"/>
                </a:lnTo>
                <a:lnTo>
                  <a:pt x="7787" y="2000"/>
                </a:lnTo>
                <a:lnTo>
                  <a:pt x="7541" y="1923"/>
                </a:lnTo>
                <a:lnTo>
                  <a:pt x="7377" y="1692"/>
                </a:lnTo>
                <a:lnTo>
                  <a:pt x="6721" y="1462"/>
                </a:lnTo>
                <a:lnTo>
                  <a:pt x="6148" y="1154"/>
                </a:lnTo>
                <a:cubicBezTo>
                  <a:pt x="6121" y="1051"/>
                  <a:pt x="6093" y="949"/>
                  <a:pt x="6066" y="846"/>
                </a:cubicBezTo>
                <a:lnTo>
                  <a:pt x="5820" y="231"/>
                </a:lnTo>
                <a:lnTo>
                  <a:pt x="5738" y="231"/>
                </a:lnTo>
                <a:lnTo>
                  <a:pt x="5410" y="692"/>
                </a:lnTo>
                <a:lnTo>
                  <a:pt x="5082" y="846"/>
                </a:lnTo>
                <a:cubicBezTo>
                  <a:pt x="5055" y="820"/>
                  <a:pt x="5027" y="795"/>
                  <a:pt x="5000" y="769"/>
                </a:cubicBezTo>
                <a:lnTo>
                  <a:pt x="4590" y="769"/>
                </a:lnTo>
                <a:lnTo>
                  <a:pt x="4426" y="846"/>
                </a:lnTo>
                <a:lnTo>
                  <a:pt x="4344" y="846"/>
                </a:lnTo>
                <a:lnTo>
                  <a:pt x="3934" y="923"/>
                </a:lnTo>
                <a:lnTo>
                  <a:pt x="3689" y="1000"/>
                </a:lnTo>
                <a:lnTo>
                  <a:pt x="3443" y="769"/>
                </a:lnTo>
                <a:cubicBezTo>
                  <a:pt x="3470" y="615"/>
                  <a:pt x="3498" y="462"/>
                  <a:pt x="3525" y="308"/>
                </a:cubicBezTo>
                <a:lnTo>
                  <a:pt x="3361" y="77"/>
                </a:lnTo>
                <a:lnTo>
                  <a:pt x="3197" y="0"/>
                </a:lnTo>
                <a:cubicBezTo>
                  <a:pt x="3224" y="51"/>
                  <a:pt x="3252" y="103"/>
                  <a:pt x="3279" y="154"/>
                </a:cubicBezTo>
                <a:lnTo>
                  <a:pt x="2869" y="308"/>
                </a:lnTo>
                <a:lnTo>
                  <a:pt x="2213" y="308"/>
                </a:lnTo>
                <a:lnTo>
                  <a:pt x="2459" y="692"/>
                </a:lnTo>
                <a:cubicBezTo>
                  <a:pt x="2486" y="769"/>
                  <a:pt x="2514" y="846"/>
                  <a:pt x="2541" y="923"/>
                </a:cubicBezTo>
                <a:lnTo>
                  <a:pt x="1803" y="1154"/>
                </a:lnTo>
                <a:lnTo>
                  <a:pt x="1557" y="923"/>
                </a:lnTo>
                <a:lnTo>
                  <a:pt x="902" y="1077"/>
                </a:lnTo>
                <a:cubicBezTo>
                  <a:pt x="929" y="1205"/>
                  <a:pt x="957" y="1334"/>
                  <a:pt x="984" y="1462"/>
                </a:cubicBezTo>
                <a:cubicBezTo>
                  <a:pt x="929" y="1744"/>
                  <a:pt x="875" y="2026"/>
                  <a:pt x="820" y="2308"/>
                </a:cubicBezTo>
                <a:cubicBezTo>
                  <a:pt x="765" y="2257"/>
                  <a:pt x="711" y="2205"/>
                  <a:pt x="656" y="2154"/>
                </a:cubicBezTo>
                <a:cubicBezTo>
                  <a:pt x="629" y="2231"/>
                  <a:pt x="601" y="2308"/>
                  <a:pt x="574" y="2385"/>
                </a:cubicBezTo>
                <a:lnTo>
                  <a:pt x="328" y="2538"/>
                </a:lnTo>
                <a:lnTo>
                  <a:pt x="0" y="3000"/>
                </a:lnTo>
                <a:lnTo>
                  <a:pt x="0" y="3462"/>
                </a:lnTo>
                <a:lnTo>
                  <a:pt x="328" y="3692"/>
                </a:lnTo>
                <a:lnTo>
                  <a:pt x="738" y="3538"/>
                </a:lnTo>
                <a:cubicBezTo>
                  <a:pt x="765" y="3692"/>
                  <a:pt x="793" y="3846"/>
                  <a:pt x="820" y="4000"/>
                </a:cubicBezTo>
                <a:lnTo>
                  <a:pt x="984" y="4000"/>
                </a:lnTo>
                <a:lnTo>
                  <a:pt x="984" y="4077"/>
                </a:lnTo>
                <a:cubicBezTo>
                  <a:pt x="1311" y="4000"/>
                  <a:pt x="1240" y="3993"/>
                  <a:pt x="1311" y="4000"/>
                </a:cubicBezTo>
                <a:cubicBezTo>
                  <a:pt x="1382" y="4007"/>
                  <a:pt x="1378" y="4124"/>
                  <a:pt x="1411" y="4121"/>
                </a:cubicBezTo>
                <a:cubicBezTo>
                  <a:pt x="1487" y="4047"/>
                  <a:pt x="1644" y="3939"/>
                  <a:pt x="1720" y="3900"/>
                </a:cubicBezTo>
                <a:cubicBezTo>
                  <a:pt x="1796" y="3861"/>
                  <a:pt x="1787" y="3873"/>
                  <a:pt x="1869" y="3886"/>
                </a:cubicBezTo>
                <a:cubicBezTo>
                  <a:pt x="1951" y="3899"/>
                  <a:pt x="2074" y="3776"/>
                  <a:pt x="2131" y="3846"/>
                </a:cubicBezTo>
                <a:cubicBezTo>
                  <a:pt x="2188" y="3916"/>
                  <a:pt x="2186" y="4154"/>
                  <a:pt x="2213" y="4308"/>
                </a:cubicBezTo>
                <a:lnTo>
                  <a:pt x="2705" y="4538"/>
                </a:lnTo>
                <a:lnTo>
                  <a:pt x="3279" y="4769"/>
                </a:lnTo>
                <a:lnTo>
                  <a:pt x="3279" y="5077"/>
                </a:lnTo>
                <a:lnTo>
                  <a:pt x="3443" y="5308"/>
                </a:lnTo>
                <a:cubicBezTo>
                  <a:pt x="3525" y="5308"/>
                  <a:pt x="3934" y="5385"/>
                  <a:pt x="3934" y="5385"/>
                </a:cubicBezTo>
                <a:lnTo>
                  <a:pt x="3934" y="5692"/>
                </a:lnTo>
                <a:lnTo>
                  <a:pt x="3934" y="6231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5" name="Freeform 409"/>
          <p:cNvSpPr/>
          <p:nvPr/>
        </p:nvSpPr>
        <p:spPr>
          <a:xfrm>
            <a:off x="3646440" y="7329600"/>
            <a:ext cx="673200" cy="1347840"/>
          </a:xfrm>
          <a:custGeom>
            <a:avLst/>
            <a:gdLst/>
            <a:ahLst/>
            <a:rect l="l" t="t" r="r" b="b"/>
            <a:pathLst>
              <a:path w="10000" h="10001">
                <a:moveTo>
                  <a:pt x="7581" y="2950"/>
                </a:moveTo>
                <a:cubicBezTo>
                  <a:pt x="7635" y="2818"/>
                  <a:pt x="7688" y="2685"/>
                  <a:pt x="7742" y="2552"/>
                </a:cubicBezTo>
                <a:lnTo>
                  <a:pt x="8065" y="2312"/>
                </a:lnTo>
                <a:lnTo>
                  <a:pt x="9194" y="1754"/>
                </a:lnTo>
                <a:lnTo>
                  <a:pt x="9677" y="1595"/>
                </a:lnTo>
                <a:lnTo>
                  <a:pt x="10000" y="1116"/>
                </a:lnTo>
                <a:lnTo>
                  <a:pt x="9839" y="1037"/>
                </a:lnTo>
                <a:lnTo>
                  <a:pt x="9355" y="1197"/>
                </a:lnTo>
                <a:lnTo>
                  <a:pt x="8387" y="1435"/>
                </a:lnTo>
                <a:lnTo>
                  <a:pt x="7581" y="1356"/>
                </a:lnTo>
                <a:cubicBezTo>
                  <a:pt x="7635" y="1170"/>
                  <a:pt x="7688" y="983"/>
                  <a:pt x="7742" y="797"/>
                </a:cubicBezTo>
                <a:lnTo>
                  <a:pt x="7258" y="638"/>
                </a:lnTo>
                <a:lnTo>
                  <a:pt x="6290" y="479"/>
                </a:lnTo>
                <a:lnTo>
                  <a:pt x="5806" y="319"/>
                </a:lnTo>
                <a:lnTo>
                  <a:pt x="5323" y="0"/>
                </a:lnTo>
                <a:lnTo>
                  <a:pt x="4677" y="81"/>
                </a:lnTo>
                <a:lnTo>
                  <a:pt x="4516" y="159"/>
                </a:lnTo>
                <a:lnTo>
                  <a:pt x="3710" y="81"/>
                </a:lnTo>
                <a:cubicBezTo>
                  <a:pt x="3387" y="81"/>
                  <a:pt x="3476" y="72"/>
                  <a:pt x="3387" y="81"/>
                </a:cubicBezTo>
                <a:cubicBezTo>
                  <a:pt x="3298" y="89"/>
                  <a:pt x="3178" y="131"/>
                  <a:pt x="3178" y="131"/>
                </a:cubicBezTo>
                <a:cubicBezTo>
                  <a:pt x="3339" y="211"/>
                  <a:pt x="3245" y="168"/>
                  <a:pt x="3226" y="240"/>
                </a:cubicBezTo>
                <a:cubicBezTo>
                  <a:pt x="3207" y="310"/>
                  <a:pt x="3065" y="558"/>
                  <a:pt x="3065" y="558"/>
                </a:cubicBezTo>
                <a:lnTo>
                  <a:pt x="2581" y="797"/>
                </a:lnTo>
                <a:lnTo>
                  <a:pt x="2581" y="1275"/>
                </a:lnTo>
                <a:lnTo>
                  <a:pt x="2258" y="1595"/>
                </a:lnTo>
                <a:lnTo>
                  <a:pt x="1774" y="2631"/>
                </a:lnTo>
                <a:cubicBezTo>
                  <a:pt x="1828" y="2896"/>
                  <a:pt x="1881" y="3163"/>
                  <a:pt x="1935" y="3428"/>
                </a:cubicBezTo>
                <a:lnTo>
                  <a:pt x="968" y="4466"/>
                </a:lnTo>
                <a:lnTo>
                  <a:pt x="806" y="5582"/>
                </a:lnTo>
                <a:lnTo>
                  <a:pt x="806" y="6141"/>
                </a:lnTo>
                <a:cubicBezTo>
                  <a:pt x="752" y="6327"/>
                  <a:pt x="699" y="6514"/>
                  <a:pt x="645" y="6699"/>
                </a:cubicBezTo>
                <a:lnTo>
                  <a:pt x="968" y="7019"/>
                </a:lnTo>
                <a:lnTo>
                  <a:pt x="484" y="8294"/>
                </a:lnTo>
                <a:lnTo>
                  <a:pt x="0" y="8852"/>
                </a:lnTo>
                <a:cubicBezTo>
                  <a:pt x="54" y="8985"/>
                  <a:pt x="47" y="9085"/>
                  <a:pt x="161" y="9251"/>
                </a:cubicBezTo>
                <a:cubicBezTo>
                  <a:pt x="275" y="9417"/>
                  <a:pt x="316" y="9724"/>
                  <a:pt x="685" y="9848"/>
                </a:cubicBezTo>
                <a:cubicBezTo>
                  <a:pt x="1054" y="9973"/>
                  <a:pt x="2126" y="10011"/>
                  <a:pt x="2375" y="10000"/>
                </a:cubicBezTo>
                <a:cubicBezTo>
                  <a:pt x="2624" y="9989"/>
                  <a:pt x="2202" y="9881"/>
                  <a:pt x="2182" y="9783"/>
                </a:cubicBezTo>
                <a:cubicBezTo>
                  <a:pt x="2163" y="9685"/>
                  <a:pt x="2172" y="9527"/>
                  <a:pt x="2258" y="9410"/>
                </a:cubicBezTo>
                <a:cubicBezTo>
                  <a:pt x="2345" y="9293"/>
                  <a:pt x="2550" y="9220"/>
                  <a:pt x="2701" y="9082"/>
                </a:cubicBezTo>
                <a:cubicBezTo>
                  <a:pt x="2852" y="8944"/>
                  <a:pt x="3004" y="8707"/>
                  <a:pt x="3165" y="8584"/>
                </a:cubicBezTo>
                <a:cubicBezTo>
                  <a:pt x="3326" y="8461"/>
                  <a:pt x="3550" y="8459"/>
                  <a:pt x="3668" y="8344"/>
                </a:cubicBezTo>
                <a:cubicBezTo>
                  <a:pt x="3786" y="8229"/>
                  <a:pt x="3918" y="7996"/>
                  <a:pt x="3871" y="7895"/>
                </a:cubicBezTo>
                <a:cubicBezTo>
                  <a:pt x="3824" y="7794"/>
                  <a:pt x="3548" y="7789"/>
                  <a:pt x="3387" y="7736"/>
                </a:cubicBezTo>
                <a:cubicBezTo>
                  <a:pt x="3280" y="7629"/>
                  <a:pt x="3000" y="7495"/>
                  <a:pt x="3065" y="7416"/>
                </a:cubicBezTo>
                <a:cubicBezTo>
                  <a:pt x="3130" y="7337"/>
                  <a:pt x="3541" y="7312"/>
                  <a:pt x="3779" y="7260"/>
                </a:cubicBezTo>
                <a:cubicBezTo>
                  <a:pt x="3810" y="7153"/>
                  <a:pt x="3875" y="7075"/>
                  <a:pt x="3971" y="6968"/>
                </a:cubicBezTo>
                <a:cubicBezTo>
                  <a:pt x="4067" y="6861"/>
                  <a:pt x="4220" y="6700"/>
                  <a:pt x="4355" y="6620"/>
                </a:cubicBezTo>
                <a:cubicBezTo>
                  <a:pt x="4490" y="6540"/>
                  <a:pt x="4699" y="6570"/>
                  <a:pt x="4780" y="6490"/>
                </a:cubicBezTo>
                <a:cubicBezTo>
                  <a:pt x="4861" y="6410"/>
                  <a:pt x="4853" y="6226"/>
                  <a:pt x="4839" y="6141"/>
                </a:cubicBezTo>
                <a:cubicBezTo>
                  <a:pt x="5323" y="5822"/>
                  <a:pt x="5348" y="5984"/>
                  <a:pt x="5437" y="5921"/>
                </a:cubicBezTo>
                <a:cubicBezTo>
                  <a:pt x="5526" y="5858"/>
                  <a:pt x="5368" y="5818"/>
                  <a:pt x="5376" y="5762"/>
                </a:cubicBezTo>
                <a:cubicBezTo>
                  <a:pt x="5384" y="5706"/>
                  <a:pt x="5412" y="5665"/>
                  <a:pt x="5484" y="5582"/>
                </a:cubicBezTo>
                <a:cubicBezTo>
                  <a:pt x="5556" y="5499"/>
                  <a:pt x="5622" y="5319"/>
                  <a:pt x="5806" y="5264"/>
                </a:cubicBezTo>
                <a:cubicBezTo>
                  <a:pt x="5990" y="5209"/>
                  <a:pt x="6266" y="5289"/>
                  <a:pt x="6588" y="5253"/>
                </a:cubicBezTo>
                <a:cubicBezTo>
                  <a:pt x="6910" y="5217"/>
                  <a:pt x="7468" y="5176"/>
                  <a:pt x="7741" y="5045"/>
                </a:cubicBezTo>
                <a:cubicBezTo>
                  <a:pt x="8014" y="4914"/>
                  <a:pt x="8092" y="4629"/>
                  <a:pt x="8226" y="4466"/>
                </a:cubicBezTo>
                <a:cubicBezTo>
                  <a:pt x="8361" y="4303"/>
                  <a:pt x="8441" y="4199"/>
                  <a:pt x="8548" y="4066"/>
                </a:cubicBezTo>
                <a:lnTo>
                  <a:pt x="8226" y="3748"/>
                </a:lnTo>
                <a:cubicBezTo>
                  <a:pt x="8065" y="3668"/>
                  <a:pt x="7825" y="3557"/>
                  <a:pt x="7742" y="3509"/>
                </a:cubicBezTo>
                <a:cubicBezTo>
                  <a:pt x="7659" y="3461"/>
                  <a:pt x="7731" y="3475"/>
                  <a:pt x="7726" y="3458"/>
                </a:cubicBezTo>
                <a:lnTo>
                  <a:pt x="7581" y="3350"/>
                </a:lnTo>
                <a:lnTo>
                  <a:pt x="7581" y="29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Freeform 444"/>
          <p:cNvSpPr/>
          <p:nvPr/>
        </p:nvSpPr>
        <p:spPr>
          <a:xfrm>
            <a:off x="3556080" y="7186680"/>
            <a:ext cx="345960" cy="1677960"/>
          </a:xfrm>
          <a:custGeom>
            <a:avLst/>
            <a:gdLst/>
            <a:ahLst/>
            <a:rect l="l" t="t" r="r" b="b"/>
            <a:pathLst>
              <a:path w="14463" h="11339">
                <a:moveTo>
                  <a:pt x="8188" y="209"/>
                </a:moveTo>
                <a:lnTo>
                  <a:pt x="8780" y="0"/>
                </a:lnTo>
                <a:lnTo>
                  <a:pt x="10217" y="207"/>
                </a:lnTo>
                <a:cubicBezTo>
                  <a:pt x="10556" y="264"/>
                  <a:pt x="10640" y="126"/>
                  <a:pt x="10761" y="229"/>
                </a:cubicBezTo>
                <a:cubicBezTo>
                  <a:pt x="10936" y="271"/>
                  <a:pt x="11461" y="322"/>
                  <a:pt x="11696" y="417"/>
                </a:cubicBezTo>
                <a:cubicBezTo>
                  <a:pt x="11902" y="494"/>
                  <a:pt x="11642" y="593"/>
                  <a:pt x="11730" y="676"/>
                </a:cubicBezTo>
                <a:cubicBezTo>
                  <a:pt x="11818" y="759"/>
                  <a:pt x="12063" y="841"/>
                  <a:pt x="12227" y="913"/>
                </a:cubicBezTo>
                <a:lnTo>
                  <a:pt x="12983" y="1126"/>
                </a:lnTo>
                <a:lnTo>
                  <a:pt x="12748" y="1307"/>
                </a:lnTo>
                <a:cubicBezTo>
                  <a:pt x="12663" y="1515"/>
                  <a:pt x="11910" y="1697"/>
                  <a:pt x="11825" y="1905"/>
                </a:cubicBezTo>
                <a:lnTo>
                  <a:pt x="10725" y="2530"/>
                </a:lnTo>
                <a:lnTo>
                  <a:pt x="10429" y="2947"/>
                </a:lnTo>
                <a:cubicBezTo>
                  <a:pt x="10471" y="3165"/>
                  <a:pt x="10514" y="3383"/>
                  <a:pt x="10556" y="3601"/>
                </a:cubicBezTo>
                <a:lnTo>
                  <a:pt x="10852" y="3839"/>
                </a:lnTo>
                <a:lnTo>
                  <a:pt x="10345" y="3839"/>
                </a:lnTo>
                <a:lnTo>
                  <a:pt x="11191" y="4197"/>
                </a:lnTo>
                <a:cubicBezTo>
                  <a:pt x="11149" y="4405"/>
                  <a:pt x="11106" y="4613"/>
                  <a:pt x="11064" y="4821"/>
                </a:cubicBezTo>
                <a:lnTo>
                  <a:pt x="10599" y="5030"/>
                </a:lnTo>
                <a:lnTo>
                  <a:pt x="9456" y="5298"/>
                </a:lnTo>
                <a:lnTo>
                  <a:pt x="8822" y="6012"/>
                </a:lnTo>
                <a:lnTo>
                  <a:pt x="8272" y="6161"/>
                </a:lnTo>
                <a:lnTo>
                  <a:pt x="8526" y="6429"/>
                </a:lnTo>
                <a:lnTo>
                  <a:pt x="8145" y="7084"/>
                </a:lnTo>
                <a:lnTo>
                  <a:pt x="7299" y="7768"/>
                </a:lnTo>
                <a:lnTo>
                  <a:pt x="7383" y="8155"/>
                </a:lnTo>
                <a:lnTo>
                  <a:pt x="7680" y="8393"/>
                </a:lnTo>
                <a:cubicBezTo>
                  <a:pt x="7624" y="8571"/>
                  <a:pt x="7567" y="8750"/>
                  <a:pt x="7511" y="8928"/>
                </a:cubicBezTo>
                <a:lnTo>
                  <a:pt x="7003" y="9465"/>
                </a:lnTo>
                <a:lnTo>
                  <a:pt x="10190" y="10380"/>
                </a:lnTo>
                <a:cubicBezTo>
                  <a:pt x="10685" y="10621"/>
                  <a:pt x="15360" y="10855"/>
                  <a:pt x="14311" y="11050"/>
                </a:cubicBezTo>
                <a:cubicBezTo>
                  <a:pt x="11744" y="11422"/>
                  <a:pt x="9928" y="11345"/>
                  <a:pt x="8880" y="11304"/>
                </a:cubicBezTo>
                <a:lnTo>
                  <a:pt x="3686" y="10662"/>
                </a:lnTo>
                <a:lnTo>
                  <a:pt x="0" y="9499"/>
                </a:lnTo>
                <a:lnTo>
                  <a:pt x="1492" y="8492"/>
                </a:lnTo>
                <a:lnTo>
                  <a:pt x="2079" y="7943"/>
                </a:lnTo>
                <a:lnTo>
                  <a:pt x="4644" y="6748"/>
                </a:lnTo>
                <a:cubicBezTo>
                  <a:pt x="4630" y="6430"/>
                  <a:pt x="2665" y="7030"/>
                  <a:pt x="2651" y="6712"/>
                </a:cubicBezTo>
                <a:lnTo>
                  <a:pt x="4099" y="5323"/>
                </a:lnTo>
                <a:lnTo>
                  <a:pt x="5760" y="4554"/>
                </a:lnTo>
                <a:cubicBezTo>
                  <a:pt x="5651" y="3371"/>
                  <a:pt x="6192" y="4301"/>
                  <a:pt x="6082" y="3119"/>
                </a:cubicBezTo>
                <a:lnTo>
                  <a:pt x="7891" y="1548"/>
                </a:lnTo>
                <a:lnTo>
                  <a:pt x="8314" y="982"/>
                </a:lnTo>
                <a:lnTo>
                  <a:pt x="8188" y="2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7" name="Freeform 410"/>
          <p:cNvSpPr/>
          <p:nvPr/>
        </p:nvSpPr>
        <p:spPr>
          <a:xfrm>
            <a:off x="4011480" y="7261200"/>
            <a:ext cx="284400" cy="266760"/>
          </a:xfrm>
          <a:custGeom>
            <a:avLst/>
            <a:gdLst/>
            <a:ahLst/>
            <a:rect l="l" t="t" r="r" b="b"/>
            <a:pathLst>
              <a:path w="168" h="156">
                <a:moveTo>
                  <a:pt x="48" y="0"/>
                </a:moveTo>
                <a:lnTo>
                  <a:pt x="0" y="36"/>
                </a:lnTo>
                <a:lnTo>
                  <a:pt x="0" y="48"/>
                </a:lnTo>
                <a:lnTo>
                  <a:pt x="18" y="72"/>
                </a:lnTo>
                <a:lnTo>
                  <a:pt x="36" y="84"/>
                </a:lnTo>
                <a:lnTo>
                  <a:pt x="72" y="96"/>
                </a:lnTo>
                <a:lnTo>
                  <a:pt x="90" y="108"/>
                </a:lnTo>
                <a:lnTo>
                  <a:pt x="84" y="150"/>
                </a:lnTo>
                <a:lnTo>
                  <a:pt x="114" y="156"/>
                </a:lnTo>
                <a:lnTo>
                  <a:pt x="150" y="138"/>
                </a:lnTo>
                <a:lnTo>
                  <a:pt x="168" y="126"/>
                </a:lnTo>
                <a:lnTo>
                  <a:pt x="162" y="114"/>
                </a:lnTo>
                <a:lnTo>
                  <a:pt x="162" y="90"/>
                </a:lnTo>
                <a:lnTo>
                  <a:pt x="144" y="84"/>
                </a:lnTo>
                <a:lnTo>
                  <a:pt x="120" y="54"/>
                </a:lnTo>
                <a:lnTo>
                  <a:pt x="108" y="42"/>
                </a:lnTo>
                <a:lnTo>
                  <a:pt x="90" y="12"/>
                </a:lnTo>
                <a:lnTo>
                  <a:pt x="90" y="6"/>
                </a:lnTo>
                <a:lnTo>
                  <a:pt x="78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Freeform 412"/>
          <p:cNvSpPr/>
          <p:nvPr/>
        </p:nvSpPr>
        <p:spPr>
          <a:xfrm>
            <a:off x="3792600" y="6966000"/>
            <a:ext cx="379440" cy="407880"/>
          </a:xfrm>
          <a:custGeom>
            <a:avLst/>
            <a:gdLst/>
            <a:ahLst/>
            <a:rect l="l" t="t" r="r" b="b"/>
            <a:pathLst>
              <a:path w="10141" h="10000">
                <a:moveTo>
                  <a:pt x="6087" y="9512"/>
                </a:moveTo>
                <a:lnTo>
                  <a:pt x="6087" y="9024"/>
                </a:lnTo>
                <a:lnTo>
                  <a:pt x="8249" y="7561"/>
                </a:lnTo>
                <a:lnTo>
                  <a:pt x="9600" y="7561"/>
                </a:lnTo>
                <a:lnTo>
                  <a:pt x="10141" y="7805"/>
                </a:lnTo>
                <a:lnTo>
                  <a:pt x="10141" y="6098"/>
                </a:lnTo>
                <a:lnTo>
                  <a:pt x="10141" y="5122"/>
                </a:lnTo>
                <a:cubicBezTo>
                  <a:pt x="10141" y="5122"/>
                  <a:pt x="8790" y="4878"/>
                  <a:pt x="8519" y="4878"/>
                </a:cubicBezTo>
                <a:lnTo>
                  <a:pt x="7979" y="4146"/>
                </a:lnTo>
                <a:lnTo>
                  <a:pt x="7979" y="3171"/>
                </a:lnTo>
                <a:lnTo>
                  <a:pt x="6087" y="2439"/>
                </a:lnTo>
                <a:lnTo>
                  <a:pt x="4465" y="1707"/>
                </a:lnTo>
                <a:lnTo>
                  <a:pt x="4195" y="244"/>
                </a:lnTo>
                <a:lnTo>
                  <a:pt x="2573" y="0"/>
                </a:lnTo>
                <a:lnTo>
                  <a:pt x="1492" y="732"/>
                </a:lnTo>
                <a:lnTo>
                  <a:pt x="411" y="976"/>
                </a:lnTo>
                <a:cubicBezTo>
                  <a:pt x="591" y="1220"/>
                  <a:pt x="924" y="1260"/>
                  <a:pt x="952" y="1707"/>
                </a:cubicBezTo>
                <a:cubicBezTo>
                  <a:pt x="980" y="2154"/>
                  <a:pt x="691" y="3085"/>
                  <a:pt x="578" y="3659"/>
                </a:cubicBezTo>
                <a:cubicBezTo>
                  <a:pt x="465" y="4234"/>
                  <a:pt x="368" y="4765"/>
                  <a:pt x="272" y="5154"/>
                </a:cubicBezTo>
                <a:cubicBezTo>
                  <a:pt x="176" y="5543"/>
                  <a:pt x="-27" y="5787"/>
                  <a:pt x="2" y="5992"/>
                </a:cubicBezTo>
                <a:cubicBezTo>
                  <a:pt x="31" y="6197"/>
                  <a:pt x="243" y="6244"/>
                  <a:pt x="446" y="6383"/>
                </a:cubicBezTo>
                <a:cubicBezTo>
                  <a:pt x="649" y="6522"/>
                  <a:pt x="1138" y="6592"/>
                  <a:pt x="1222" y="6829"/>
                </a:cubicBezTo>
                <a:cubicBezTo>
                  <a:pt x="1306" y="7066"/>
                  <a:pt x="1042" y="7480"/>
                  <a:pt x="952" y="7805"/>
                </a:cubicBezTo>
                <a:lnTo>
                  <a:pt x="2033" y="9512"/>
                </a:lnTo>
                <a:lnTo>
                  <a:pt x="2303" y="10000"/>
                </a:lnTo>
                <a:lnTo>
                  <a:pt x="2844" y="9756"/>
                </a:lnTo>
                <a:lnTo>
                  <a:pt x="3384" y="9756"/>
                </a:lnTo>
                <a:lnTo>
                  <a:pt x="4736" y="10000"/>
                </a:lnTo>
                <a:lnTo>
                  <a:pt x="5006" y="9756"/>
                </a:lnTo>
                <a:lnTo>
                  <a:pt x="6087" y="9512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9" name="Freeform 405"/>
          <p:cNvSpPr/>
          <p:nvPr/>
        </p:nvSpPr>
        <p:spPr>
          <a:xfrm>
            <a:off x="3600360" y="6583320"/>
            <a:ext cx="277920" cy="198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3889"/>
                </a:moveTo>
                <a:lnTo>
                  <a:pt x="0" y="3889"/>
                </a:lnTo>
                <a:lnTo>
                  <a:pt x="2000" y="5556"/>
                </a:lnTo>
                <a:lnTo>
                  <a:pt x="3200" y="7222"/>
                </a:lnTo>
                <a:lnTo>
                  <a:pt x="4800" y="7222"/>
                </a:lnTo>
                <a:lnTo>
                  <a:pt x="5600" y="8889"/>
                </a:lnTo>
                <a:lnTo>
                  <a:pt x="5268" y="8163"/>
                </a:lnTo>
                <a:lnTo>
                  <a:pt x="5600" y="8889"/>
                </a:lnTo>
                <a:lnTo>
                  <a:pt x="6400" y="10000"/>
                </a:lnTo>
                <a:lnTo>
                  <a:pt x="7200" y="3889"/>
                </a:lnTo>
                <a:cubicBezTo>
                  <a:pt x="7067" y="2963"/>
                  <a:pt x="6933" y="2037"/>
                  <a:pt x="6800" y="1111"/>
                </a:cubicBezTo>
                <a:lnTo>
                  <a:pt x="10000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Freeform 407"/>
          <p:cNvSpPr/>
          <p:nvPr/>
        </p:nvSpPr>
        <p:spPr>
          <a:xfrm>
            <a:off x="4059360" y="6346800"/>
            <a:ext cx="166680" cy="255600"/>
          </a:xfrm>
          <a:custGeom>
            <a:avLst/>
            <a:gdLst/>
            <a:ahLst/>
            <a:rect l="l" t="t" r="r" b="b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1" name="Freeform 408"/>
          <p:cNvSpPr/>
          <p:nvPr/>
        </p:nvSpPr>
        <p:spPr>
          <a:xfrm>
            <a:off x="4319640" y="6437160"/>
            <a:ext cx="108000" cy="133560"/>
          </a:xfrm>
          <a:custGeom>
            <a:avLst/>
            <a:gdLst/>
            <a:ahLst/>
            <a:rect l="l" t="t" r="r" b="b"/>
            <a:pathLst>
              <a:path w="60" h="72">
                <a:moveTo>
                  <a:pt x="6" y="42"/>
                </a:moveTo>
                <a:lnTo>
                  <a:pt x="6" y="66"/>
                </a:lnTo>
                <a:lnTo>
                  <a:pt x="12" y="72"/>
                </a:lnTo>
                <a:lnTo>
                  <a:pt x="36" y="60"/>
                </a:lnTo>
                <a:lnTo>
                  <a:pt x="60" y="24"/>
                </a:lnTo>
                <a:lnTo>
                  <a:pt x="18" y="0"/>
                </a:lnTo>
                <a:lnTo>
                  <a:pt x="6" y="0"/>
                </a:lnTo>
                <a:lnTo>
                  <a:pt x="0" y="18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Freeform 417"/>
          <p:cNvSpPr/>
          <p:nvPr/>
        </p:nvSpPr>
        <p:spPr>
          <a:xfrm>
            <a:off x="4186080" y="6432480"/>
            <a:ext cx="138240" cy="155520"/>
          </a:xfrm>
          <a:custGeom>
            <a:avLst/>
            <a:gdLst/>
            <a:ahLst/>
            <a:rect l="l" t="t" r="r" b="b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3" name="Freeform 418"/>
          <p:cNvSpPr/>
          <p:nvPr/>
        </p:nvSpPr>
        <p:spPr>
          <a:xfrm>
            <a:off x="3668760" y="6226200"/>
            <a:ext cx="474480" cy="399960"/>
          </a:xfrm>
          <a:custGeom>
            <a:avLst/>
            <a:gdLst/>
            <a:ahLst/>
            <a:rect l="l" t="t" r="r" b="b"/>
            <a:pathLst>
              <a:path w="43" h="36">
                <a:moveTo>
                  <a:pt x="38" y="21"/>
                </a:moveTo>
                <a:cubicBezTo>
                  <a:pt x="37" y="18"/>
                  <a:pt x="37" y="18"/>
                  <a:pt x="37" y="18"/>
                </a:cubicBezTo>
                <a:cubicBezTo>
                  <a:pt x="39" y="15"/>
                  <a:pt x="39" y="15"/>
                  <a:pt x="39" y="15"/>
                </a:cubicBezTo>
                <a:cubicBezTo>
                  <a:pt x="43" y="11"/>
                  <a:pt x="43" y="11"/>
                  <a:pt x="43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8"/>
                  <a:pt x="38" y="8"/>
                  <a:pt x="38" y="8"/>
                </a:cubicBezTo>
                <a:cubicBezTo>
                  <a:pt x="32" y="5"/>
                  <a:pt x="32" y="5"/>
                  <a:pt x="3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3"/>
                  <a:pt x="16" y="3"/>
                  <a:pt x="16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7" y="3"/>
                  <a:pt x="6" y="3"/>
                </a:cubicBezTo>
                <a:cubicBezTo>
                  <a:pt x="5" y="3"/>
                  <a:pt x="5" y="1"/>
                  <a:pt x="5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10"/>
                  <a:pt x="0" y="10"/>
                  <a:pt x="0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12" y="19"/>
                  <a:pt x="12" y="19"/>
                  <a:pt x="12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6" y="22"/>
                  <a:pt x="16" y="22"/>
                  <a:pt x="16" y="2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21" y="36"/>
                  <a:pt x="21" y="36"/>
                  <a:pt x="21" y="36"/>
                </a:cubicBezTo>
                <a:cubicBezTo>
                  <a:pt x="30" y="33"/>
                  <a:pt x="30" y="33"/>
                  <a:pt x="30" y="33"/>
                </a:cubicBezTo>
                <a:cubicBezTo>
                  <a:pt x="29" y="30"/>
                  <a:pt x="29" y="30"/>
                  <a:pt x="29" y="30"/>
                </a:cubicBezTo>
                <a:cubicBezTo>
                  <a:pt x="26" y="25"/>
                  <a:pt x="26" y="25"/>
                  <a:pt x="26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9" y="23"/>
                  <a:pt x="39" y="23"/>
                  <a:pt x="39" y="23"/>
                </a:cubicBezTo>
                <a:cubicBezTo>
                  <a:pt x="38" y="21"/>
                  <a:pt x="38" y="21"/>
                  <a:pt x="38" y="2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4" name="Freeform 421"/>
          <p:cNvSpPr/>
          <p:nvPr/>
        </p:nvSpPr>
        <p:spPr>
          <a:xfrm>
            <a:off x="3400560" y="6581880"/>
            <a:ext cx="191880" cy="21096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24" y="114"/>
                </a:moveTo>
                <a:lnTo>
                  <a:pt x="48" y="90"/>
                </a:lnTo>
                <a:lnTo>
                  <a:pt x="66" y="84"/>
                </a:lnTo>
                <a:lnTo>
                  <a:pt x="90" y="60"/>
                </a:lnTo>
                <a:lnTo>
                  <a:pt x="102" y="36"/>
                </a:lnTo>
                <a:lnTo>
                  <a:pt x="78" y="18"/>
                </a:lnTo>
                <a:lnTo>
                  <a:pt x="30" y="0"/>
                </a:lnTo>
                <a:lnTo>
                  <a:pt x="24" y="12"/>
                </a:lnTo>
                <a:lnTo>
                  <a:pt x="0" y="66"/>
                </a:lnTo>
                <a:lnTo>
                  <a:pt x="12" y="90"/>
                </a:lnTo>
                <a:lnTo>
                  <a:pt x="0" y="96"/>
                </a:lnTo>
                <a:lnTo>
                  <a:pt x="6" y="108"/>
                </a:lnTo>
                <a:lnTo>
                  <a:pt x="24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5" name="Freeform 263"/>
          <p:cNvSpPr/>
          <p:nvPr/>
        </p:nvSpPr>
        <p:spPr>
          <a:xfrm>
            <a:off x="6765840" y="4219560"/>
            <a:ext cx="69840" cy="138240"/>
          </a:xfrm>
          <a:custGeom>
            <a:avLst/>
            <a:gdLst/>
            <a:ahLst/>
            <a:rect l="l" t="t" r="r" b="b"/>
            <a:pathLst>
              <a:path w="429209" h="839755">
                <a:moveTo>
                  <a:pt x="53214" y="797282"/>
                </a:moveTo>
                <a:cubicBezTo>
                  <a:pt x="54137" y="718133"/>
                  <a:pt x="55061" y="638985"/>
                  <a:pt x="55984" y="559836"/>
                </a:cubicBezTo>
                <a:lnTo>
                  <a:pt x="0" y="522514"/>
                </a:lnTo>
                <a:lnTo>
                  <a:pt x="111968" y="130628"/>
                </a:lnTo>
                <a:lnTo>
                  <a:pt x="261258" y="130628"/>
                </a:lnTo>
                <a:lnTo>
                  <a:pt x="391886" y="0"/>
                </a:lnTo>
                <a:lnTo>
                  <a:pt x="410547" y="261257"/>
                </a:lnTo>
                <a:lnTo>
                  <a:pt x="429209" y="410547"/>
                </a:lnTo>
                <a:lnTo>
                  <a:pt x="223935" y="634481"/>
                </a:lnTo>
                <a:lnTo>
                  <a:pt x="223935" y="839755"/>
                </a:lnTo>
                <a:lnTo>
                  <a:pt x="111968" y="783771"/>
                </a:lnTo>
                <a:lnTo>
                  <a:pt x="53214" y="79728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6" name="Freeform 295"/>
          <p:cNvSpPr/>
          <p:nvPr/>
        </p:nvSpPr>
        <p:spPr>
          <a:xfrm>
            <a:off x="8561520" y="5195880"/>
            <a:ext cx="623880" cy="593640"/>
          </a:xfrm>
          <a:custGeom>
            <a:avLst/>
            <a:gdLst/>
            <a:ahLst/>
            <a:rect l="l" t="t" r="r" b="b"/>
            <a:pathLst>
              <a:path w="10944" h="10652">
                <a:moveTo>
                  <a:pt x="7267" y="10169"/>
                </a:moveTo>
                <a:cubicBezTo>
                  <a:pt x="7552" y="10018"/>
                  <a:pt x="8071" y="10028"/>
                  <a:pt x="8061" y="9685"/>
                </a:cubicBezTo>
                <a:cubicBezTo>
                  <a:pt x="8051" y="9342"/>
                  <a:pt x="7322" y="8474"/>
                  <a:pt x="7207" y="8110"/>
                </a:cubicBezTo>
                <a:cubicBezTo>
                  <a:pt x="7092" y="7746"/>
                  <a:pt x="7292" y="7666"/>
                  <a:pt x="7371" y="7500"/>
                </a:cubicBezTo>
                <a:cubicBezTo>
                  <a:pt x="7450" y="7334"/>
                  <a:pt x="7495" y="7193"/>
                  <a:pt x="7679" y="7116"/>
                </a:cubicBezTo>
                <a:cubicBezTo>
                  <a:pt x="7863" y="7039"/>
                  <a:pt x="8176" y="7379"/>
                  <a:pt x="8474" y="7039"/>
                </a:cubicBezTo>
                <a:cubicBezTo>
                  <a:pt x="8772" y="6699"/>
                  <a:pt x="9211" y="5615"/>
                  <a:pt x="9468" y="5078"/>
                </a:cubicBezTo>
                <a:cubicBezTo>
                  <a:pt x="9725" y="4541"/>
                  <a:pt x="9869" y="4241"/>
                  <a:pt x="10017" y="3816"/>
                </a:cubicBezTo>
                <a:cubicBezTo>
                  <a:pt x="10165" y="3391"/>
                  <a:pt x="10406" y="2817"/>
                  <a:pt x="10355" y="2527"/>
                </a:cubicBezTo>
                <a:cubicBezTo>
                  <a:pt x="10304" y="2237"/>
                  <a:pt x="9687" y="2325"/>
                  <a:pt x="9713" y="2075"/>
                </a:cubicBezTo>
                <a:cubicBezTo>
                  <a:pt x="9740" y="1811"/>
                  <a:pt x="9649" y="1164"/>
                  <a:pt x="9789" y="1129"/>
                </a:cubicBezTo>
                <a:cubicBezTo>
                  <a:pt x="10290" y="1004"/>
                  <a:pt x="10747" y="957"/>
                  <a:pt x="10897" y="847"/>
                </a:cubicBezTo>
                <a:cubicBezTo>
                  <a:pt x="11047" y="737"/>
                  <a:pt x="10802" y="578"/>
                  <a:pt x="10692" y="467"/>
                </a:cubicBezTo>
                <a:cubicBezTo>
                  <a:pt x="10582" y="356"/>
                  <a:pt x="10409" y="257"/>
                  <a:pt x="10234" y="179"/>
                </a:cubicBezTo>
                <a:cubicBezTo>
                  <a:pt x="10060" y="102"/>
                  <a:pt x="9954" y="-9"/>
                  <a:pt x="9646" y="1"/>
                </a:cubicBezTo>
                <a:cubicBezTo>
                  <a:pt x="9341" y="11"/>
                  <a:pt x="8705" y="193"/>
                  <a:pt x="8396" y="237"/>
                </a:cubicBezTo>
                <a:cubicBezTo>
                  <a:pt x="8087" y="279"/>
                  <a:pt x="8007" y="208"/>
                  <a:pt x="7788" y="263"/>
                </a:cubicBezTo>
                <a:cubicBezTo>
                  <a:pt x="7570" y="320"/>
                  <a:pt x="7301" y="573"/>
                  <a:pt x="7086" y="573"/>
                </a:cubicBezTo>
                <a:cubicBezTo>
                  <a:pt x="7035" y="922"/>
                  <a:pt x="6959" y="1372"/>
                  <a:pt x="6933" y="1623"/>
                </a:cubicBezTo>
                <a:cubicBezTo>
                  <a:pt x="6907" y="1873"/>
                  <a:pt x="6933" y="1924"/>
                  <a:pt x="6933" y="2075"/>
                </a:cubicBezTo>
                <a:cubicBezTo>
                  <a:pt x="6861" y="2150"/>
                  <a:pt x="6794" y="2133"/>
                  <a:pt x="6718" y="2301"/>
                </a:cubicBezTo>
                <a:cubicBezTo>
                  <a:pt x="6642" y="2469"/>
                  <a:pt x="6556" y="2823"/>
                  <a:pt x="6475" y="3084"/>
                </a:cubicBezTo>
                <a:cubicBezTo>
                  <a:pt x="6475" y="3084"/>
                  <a:pt x="5537" y="3490"/>
                  <a:pt x="5221" y="3661"/>
                </a:cubicBezTo>
                <a:cubicBezTo>
                  <a:pt x="4905" y="3832"/>
                  <a:pt x="4793" y="3888"/>
                  <a:pt x="4580" y="4113"/>
                </a:cubicBezTo>
                <a:cubicBezTo>
                  <a:pt x="4366" y="4338"/>
                  <a:pt x="3937" y="5012"/>
                  <a:pt x="3937" y="5012"/>
                </a:cubicBezTo>
                <a:cubicBezTo>
                  <a:pt x="3937" y="5012"/>
                  <a:pt x="3074" y="5037"/>
                  <a:pt x="2655" y="5245"/>
                </a:cubicBezTo>
                <a:cubicBezTo>
                  <a:pt x="2236" y="5453"/>
                  <a:pt x="1833" y="6101"/>
                  <a:pt x="1419" y="6260"/>
                </a:cubicBezTo>
                <a:cubicBezTo>
                  <a:pt x="1005" y="6419"/>
                  <a:pt x="289" y="6073"/>
                  <a:pt x="169" y="6198"/>
                </a:cubicBezTo>
                <a:cubicBezTo>
                  <a:pt x="49" y="6323"/>
                  <a:pt x="507" y="6820"/>
                  <a:pt x="701" y="7008"/>
                </a:cubicBezTo>
                <a:cubicBezTo>
                  <a:pt x="895" y="7196"/>
                  <a:pt x="1223" y="7217"/>
                  <a:pt x="1331" y="7324"/>
                </a:cubicBezTo>
                <a:cubicBezTo>
                  <a:pt x="1439" y="7431"/>
                  <a:pt x="1341" y="7543"/>
                  <a:pt x="1348" y="7649"/>
                </a:cubicBezTo>
                <a:cubicBezTo>
                  <a:pt x="1355" y="7755"/>
                  <a:pt x="1428" y="7881"/>
                  <a:pt x="1372" y="7962"/>
                </a:cubicBezTo>
                <a:cubicBezTo>
                  <a:pt x="1316" y="8043"/>
                  <a:pt x="1188" y="8009"/>
                  <a:pt x="1013" y="8134"/>
                </a:cubicBezTo>
                <a:cubicBezTo>
                  <a:pt x="838" y="8259"/>
                  <a:pt x="295" y="8195"/>
                  <a:pt x="322" y="8711"/>
                </a:cubicBezTo>
                <a:cubicBezTo>
                  <a:pt x="331" y="8882"/>
                  <a:pt x="-498" y="8858"/>
                  <a:pt x="468" y="9181"/>
                </a:cubicBezTo>
                <a:cubicBezTo>
                  <a:pt x="1434" y="9504"/>
                  <a:pt x="5678" y="9982"/>
                  <a:pt x="6120" y="10652"/>
                </a:cubicBezTo>
                <a:lnTo>
                  <a:pt x="6381" y="10504"/>
                </a:lnTo>
                <a:lnTo>
                  <a:pt x="7267" y="101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Freeform 296"/>
          <p:cNvSpPr/>
          <p:nvPr/>
        </p:nvSpPr>
        <p:spPr>
          <a:xfrm>
            <a:off x="8908920" y="5202360"/>
            <a:ext cx="1038240" cy="1266840"/>
          </a:xfrm>
          <a:custGeom>
            <a:avLst/>
            <a:gdLst/>
            <a:ahLst/>
            <a:rect l="l" t="t" r="r" b="b"/>
            <a:pathLst>
              <a:path w="10736" h="10000">
                <a:moveTo>
                  <a:pt x="8784" y="4472"/>
                </a:moveTo>
                <a:cubicBezTo>
                  <a:pt x="8948" y="4542"/>
                  <a:pt x="9262" y="4499"/>
                  <a:pt x="9397" y="4647"/>
                </a:cubicBezTo>
                <a:cubicBezTo>
                  <a:pt x="9282" y="4891"/>
                  <a:pt x="9246" y="4846"/>
                  <a:pt x="9150" y="5059"/>
                </a:cubicBezTo>
                <a:cubicBezTo>
                  <a:pt x="9278" y="5100"/>
                  <a:pt x="9553" y="5244"/>
                  <a:pt x="9543" y="5202"/>
                </a:cubicBezTo>
                <a:cubicBezTo>
                  <a:pt x="9555" y="5140"/>
                  <a:pt x="9941" y="4675"/>
                  <a:pt x="9949" y="4570"/>
                </a:cubicBezTo>
                <a:cubicBezTo>
                  <a:pt x="10062" y="4506"/>
                  <a:pt x="10576" y="4087"/>
                  <a:pt x="10736" y="4050"/>
                </a:cubicBezTo>
                <a:lnTo>
                  <a:pt x="10429" y="3991"/>
                </a:lnTo>
                <a:cubicBezTo>
                  <a:pt x="10556" y="3858"/>
                  <a:pt x="10557" y="3689"/>
                  <a:pt x="10593" y="3380"/>
                </a:cubicBezTo>
                <a:cubicBezTo>
                  <a:pt x="10678" y="3109"/>
                  <a:pt x="10563" y="3146"/>
                  <a:pt x="10508" y="3001"/>
                </a:cubicBezTo>
                <a:cubicBezTo>
                  <a:pt x="10453" y="2856"/>
                  <a:pt x="10430" y="2809"/>
                  <a:pt x="10055" y="2790"/>
                </a:cubicBezTo>
                <a:cubicBezTo>
                  <a:pt x="9757" y="2713"/>
                  <a:pt x="9789" y="2667"/>
                  <a:pt x="9600" y="2544"/>
                </a:cubicBezTo>
                <a:lnTo>
                  <a:pt x="9075" y="2540"/>
                </a:lnTo>
                <a:cubicBezTo>
                  <a:pt x="8904" y="2631"/>
                  <a:pt x="8281" y="3056"/>
                  <a:pt x="8247" y="3163"/>
                </a:cubicBezTo>
                <a:cubicBezTo>
                  <a:pt x="8213" y="3270"/>
                  <a:pt x="8677" y="3148"/>
                  <a:pt x="8793" y="3233"/>
                </a:cubicBezTo>
                <a:cubicBezTo>
                  <a:pt x="8909" y="3318"/>
                  <a:pt x="8879" y="3366"/>
                  <a:pt x="8859" y="3438"/>
                </a:cubicBezTo>
                <a:lnTo>
                  <a:pt x="8437" y="3459"/>
                </a:lnTo>
                <a:cubicBezTo>
                  <a:pt x="8303" y="3436"/>
                  <a:pt x="8184" y="3409"/>
                  <a:pt x="8149" y="3340"/>
                </a:cubicBezTo>
                <a:lnTo>
                  <a:pt x="8262" y="3149"/>
                </a:lnTo>
                <a:lnTo>
                  <a:pt x="7715" y="3110"/>
                </a:lnTo>
                <a:lnTo>
                  <a:pt x="7254" y="3152"/>
                </a:lnTo>
                <a:lnTo>
                  <a:pt x="7031" y="3152"/>
                </a:lnTo>
                <a:lnTo>
                  <a:pt x="6808" y="3468"/>
                </a:lnTo>
                <a:lnTo>
                  <a:pt x="6584" y="3468"/>
                </a:lnTo>
                <a:lnTo>
                  <a:pt x="6138" y="3363"/>
                </a:lnTo>
                <a:lnTo>
                  <a:pt x="5357" y="3257"/>
                </a:lnTo>
                <a:lnTo>
                  <a:pt x="4240" y="2732"/>
                </a:lnTo>
                <a:lnTo>
                  <a:pt x="4575" y="2102"/>
                </a:lnTo>
                <a:lnTo>
                  <a:pt x="4017" y="1891"/>
                </a:lnTo>
                <a:lnTo>
                  <a:pt x="3794" y="1471"/>
                </a:lnTo>
                <a:lnTo>
                  <a:pt x="4017" y="1156"/>
                </a:lnTo>
                <a:cubicBezTo>
                  <a:pt x="3980" y="1051"/>
                  <a:pt x="4011" y="999"/>
                  <a:pt x="3974" y="894"/>
                </a:cubicBezTo>
                <a:lnTo>
                  <a:pt x="4233" y="601"/>
                </a:lnTo>
                <a:cubicBezTo>
                  <a:pt x="4235" y="401"/>
                  <a:pt x="4238" y="200"/>
                  <a:pt x="4240" y="0"/>
                </a:cubicBezTo>
                <a:lnTo>
                  <a:pt x="3571" y="0"/>
                </a:lnTo>
                <a:lnTo>
                  <a:pt x="3125" y="0"/>
                </a:lnTo>
                <a:lnTo>
                  <a:pt x="3236" y="105"/>
                </a:lnTo>
                <a:lnTo>
                  <a:pt x="3348" y="210"/>
                </a:lnTo>
                <a:lnTo>
                  <a:pt x="2120" y="420"/>
                </a:lnTo>
                <a:lnTo>
                  <a:pt x="2120" y="946"/>
                </a:lnTo>
                <a:lnTo>
                  <a:pt x="2455" y="1156"/>
                </a:lnTo>
                <a:cubicBezTo>
                  <a:pt x="2381" y="1331"/>
                  <a:pt x="2306" y="1506"/>
                  <a:pt x="2232" y="1681"/>
                </a:cubicBezTo>
                <a:lnTo>
                  <a:pt x="2009" y="2102"/>
                </a:lnTo>
                <a:lnTo>
                  <a:pt x="1339" y="3047"/>
                </a:lnTo>
                <a:lnTo>
                  <a:pt x="893" y="3047"/>
                </a:lnTo>
                <a:lnTo>
                  <a:pt x="557" y="3363"/>
                </a:lnTo>
                <a:lnTo>
                  <a:pt x="781" y="3783"/>
                </a:lnTo>
                <a:lnTo>
                  <a:pt x="1116" y="4203"/>
                </a:lnTo>
                <a:lnTo>
                  <a:pt x="670" y="4413"/>
                </a:lnTo>
                <a:lnTo>
                  <a:pt x="223" y="4518"/>
                </a:lnTo>
                <a:lnTo>
                  <a:pt x="0" y="4623"/>
                </a:lnTo>
                <a:lnTo>
                  <a:pt x="446" y="5149"/>
                </a:lnTo>
                <a:lnTo>
                  <a:pt x="781" y="5569"/>
                </a:lnTo>
                <a:lnTo>
                  <a:pt x="1450" y="5149"/>
                </a:lnTo>
                <a:cubicBezTo>
                  <a:pt x="1524" y="5814"/>
                  <a:pt x="1599" y="6480"/>
                  <a:pt x="1673" y="7145"/>
                </a:cubicBezTo>
                <a:lnTo>
                  <a:pt x="2009" y="8004"/>
                </a:lnTo>
                <a:lnTo>
                  <a:pt x="2566" y="8949"/>
                </a:lnTo>
                <a:lnTo>
                  <a:pt x="2901" y="9475"/>
                </a:lnTo>
                <a:lnTo>
                  <a:pt x="3236" y="10000"/>
                </a:lnTo>
                <a:lnTo>
                  <a:pt x="3571" y="9685"/>
                </a:lnTo>
                <a:lnTo>
                  <a:pt x="4017" y="9159"/>
                </a:lnTo>
                <a:lnTo>
                  <a:pt x="4128" y="8739"/>
                </a:lnTo>
                <a:cubicBezTo>
                  <a:pt x="4165" y="8494"/>
                  <a:pt x="4203" y="8249"/>
                  <a:pt x="4240" y="8004"/>
                </a:cubicBezTo>
                <a:cubicBezTo>
                  <a:pt x="4277" y="7788"/>
                  <a:pt x="4315" y="7572"/>
                  <a:pt x="4352" y="7356"/>
                </a:cubicBezTo>
                <a:lnTo>
                  <a:pt x="5133" y="6725"/>
                </a:lnTo>
                <a:lnTo>
                  <a:pt x="5915" y="6200"/>
                </a:lnTo>
                <a:lnTo>
                  <a:pt x="6639" y="5875"/>
                </a:lnTo>
                <a:cubicBezTo>
                  <a:pt x="6658" y="5668"/>
                  <a:pt x="7156" y="5557"/>
                  <a:pt x="7176" y="5350"/>
                </a:cubicBezTo>
                <a:cubicBezTo>
                  <a:pt x="7217" y="5258"/>
                  <a:pt x="8021" y="5398"/>
                  <a:pt x="8062" y="5306"/>
                </a:cubicBezTo>
                <a:cubicBezTo>
                  <a:pt x="7988" y="5026"/>
                  <a:pt x="7935" y="4864"/>
                  <a:pt x="7861" y="4584"/>
                </a:cubicBezTo>
                <a:cubicBezTo>
                  <a:pt x="7833" y="4487"/>
                  <a:pt x="7982" y="4490"/>
                  <a:pt x="7954" y="4393"/>
                </a:cubicBezTo>
                <a:cubicBezTo>
                  <a:pt x="7982" y="4385"/>
                  <a:pt x="8059" y="4243"/>
                  <a:pt x="8087" y="4235"/>
                </a:cubicBezTo>
                <a:cubicBezTo>
                  <a:pt x="8120" y="4206"/>
                  <a:pt x="8344" y="4234"/>
                  <a:pt x="8411" y="4228"/>
                </a:cubicBezTo>
                <a:cubicBezTo>
                  <a:pt x="8478" y="4222"/>
                  <a:pt x="8620" y="4402"/>
                  <a:pt x="8784" y="44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8" name="Freeform 297"/>
          <p:cNvSpPr/>
          <p:nvPr/>
        </p:nvSpPr>
        <p:spPr>
          <a:xfrm>
            <a:off x="8535960" y="5156280"/>
            <a:ext cx="504720" cy="390600"/>
          </a:xfrm>
          <a:custGeom>
            <a:avLst/>
            <a:gdLst/>
            <a:ahLst/>
            <a:rect l="l" t="t" r="r" b="b"/>
            <a:pathLst>
              <a:path w="10348" h="11017">
                <a:moveTo>
                  <a:pt x="9574" y="329"/>
                </a:moveTo>
                <a:cubicBezTo>
                  <a:pt x="9252" y="611"/>
                  <a:pt x="8879" y="1035"/>
                  <a:pt x="8609" y="1176"/>
                </a:cubicBezTo>
                <a:cubicBezTo>
                  <a:pt x="8340" y="1317"/>
                  <a:pt x="8174" y="1176"/>
                  <a:pt x="7957" y="1176"/>
                </a:cubicBezTo>
                <a:cubicBezTo>
                  <a:pt x="7884" y="882"/>
                  <a:pt x="7812" y="588"/>
                  <a:pt x="7739" y="294"/>
                </a:cubicBezTo>
                <a:lnTo>
                  <a:pt x="7522" y="0"/>
                </a:lnTo>
                <a:lnTo>
                  <a:pt x="6870" y="882"/>
                </a:lnTo>
                <a:cubicBezTo>
                  <a:pt x="6725" y="1078"/>
                  <a:pt x="6646" y="1425"/>
                  <a:pt x="6435" y="1471"/>
                </a:cubicBezTo>
                <a:cubicBezTo>
                  <a:pt x="6224" y="1517"/>
                  <a:pt x="5881" y="1264"/>
                  <a:pt x="5604" y="1160"/>
                </a:cubicBezTo>
                <a:cubicBezTo>
                  <a:pt x="5446" y="1165"/>
                  <a:pt x="5319" y="1173"/>
                  <a:pt x="5131" y="1176"/>
                </a:cubicBezTo>
                <a:cubicBezTo>
                  <a:pt x="4943" y="1179"/>
                  <a:pt x="4696" y="1176"/>
                  <a:pt x="4478" y="1176"/>
                </a:cubicBezTo>
                <a:lnTo>
                  <a:pt x="3609" y="882"/>
                </a:lnTo>
                <a:cubicBezTo>
                  <a:pt x="3536" y="1372"/>
                  <a:pt x="3464" y="1863"/>
                  <a:pt x="3391" y="2353"/>
                </a:cubicBezTo>
                <a:lnTo>
                  <a:pt x="2305" y="2941"/>
                </a:lnTo>
                <a:lnTo>
                  <a:pt x="1870" y="3529"/>
                </a:lnTo>
                <a:lnTo>
                  <a:pt x="1218" y="3235"/>
                </a:lnTo>
                <a:lnTo>
                  <a:pt x="574" y="2846"/>
                </a:lnTo>
                <a:cubicBezTo>
                  <a:pt x="501" y="3434"/>
                  <a:pt x="429" y="4118"/>
                  <a:pt x="356" y="4706"/>
                </a:cubicBezTo>
                <a:cubicBezTo>
                  <a:pt x="284" y="5098"/>
                  <a:pt x="420" y="5490"/>
                  <a:pt x="348" y="5882"/>
                </a:cubicBezTo>
                <a:cubicBezTo>
                  <a:pt x="278" y="6404"/>
                  <a:pt x="70" y="7212"/>
                  <a:pt x="0" y="7734"/>
                </a:cubicBezTo>
                <a:cubicBezTo>
                  <a:pt x="290" y="7930"/>
                  <a:pt x="510" y="8221"/>
                  <a:pt x="800" y="8417"/>
                </a:cubicBezTo>
                <a:cubicBezTo>
                  <a:pt x="365" y="10182"/>
                  <a:pt x="838" y="9339"/>
                  <a:pt x="783" y="9706"/>
                </a:cubicBezTo>
                <a:cubicBezTo>
                  <a:pt x="728" y="10073"/>
                  <a:pt x="375" y="10425"/>
                  <a:pt x="472" y="10621"/>
                </a:cubicBezTo>
                <a:cubicBezTo>
                  <a:pt x="569" y="10817"/>
                  <a:pt x="1142" y="10837"/>
                  <a:pt x="1365" y="10882"/>
                </a:cubicBezTo>
                <a:cubicBezTo>
                  <a:pt x="1588" y="10927"/>
                  <a:pt x="1663" y="10844"/>
                  <a:pt x="1808" y="10893"/>
                </a:cubicBezTo>
                <a:cubicBezTo>
                  <a:pt x="1953" y="10942"/>
                  <a:pt x="2528" y="11085"/>
                  <a:pt x="3024" y="10980"/>
                </a:cubicBezTo>
                <a:cubicBezTo>
                  <a:pt x="3520" y="10875"/>
                  <a:pt x="4444" y="10604"/>
                  <a:pt x="4782" y="10261"/>
                </a:cubicBezTo>
                <a:cubicBezTo>
                  <a:pt x="5120" y="9918"/>
                  <a:pt x="4865" y="9199"/>
                  <a:pt x="5051" y="8921"/>
                </a:cubicBezTo>
                <a:cubicBezTo>
                  <a:pt x="5237" y="8643"/>
                  <a:pt x="5530" y="8785"/>
                  <a:pt x="5896" y="8595"/>
                </a:cubicBezTo>
                <a:cubicBezTo>
                  <a:pt x="6262" y="8405"/>
                  <a:pt x="7014" y="8083"/>
                  <a:pt x="7247" y="7778"/>
                </a:cubicBezTo>
                <a:cubicBezTo>
                  <a:pt x="7481" y="7473"/>
                  <a:pt x="7240" y="6977"/>
                  <a:pt x="7297" y="6764"/>
                </a:cubicBezTo>
                <a:cubicBezTo>
                  <a:pt x="7354" y="6552"/>
                  <a:pt x="7475" y="6617"/>
                  <a:pt x="7587" y="6503"/>
                </a:cubicBezTo>
                <a:cubicBezTo>
                  <a:pt x="7699" y="6389"/>
                  <a:pt x="7797" y="6339"/>
                  <a:pt x="7969" y="6078"/>
                </a:cubicBezTo>
                <a:cubicBezTo>
                  <a:pt x="8141" y="5817"/>
                  <a:pt x="8490" y="5240"/>
                  <a:pt x="8619" y="4935"/>
                </a:cubicBezTo>
                <a:cubicBezTo>
                  <a:pt x="8748" y="4630"/>
                  <a:pt x="8651" y="4537"/>
                  <a:pt x="8743" y="4248"/>
                </a:cubicBezTo>
                <a:cubicBezTo>
                  <a:pt x="8835" y="3959"/>
                  <a:pt x="9159" y="3568"/>
                  <a:pt x="9173" y="3203"/>
                </a:cubicBezTo>
                <a:cubicBezTo>
                  <a:pt x="9187" y="2838"/>
                  <a:pt x="8630" y="2299"/>
                  <a:pt x="8826" y="2059"/>
                </a:cubicBezTo>
                <a:cubicBezTo>
                  <a:pt x="9022" y="1819"/>
                  <a:pt x="9841" y="1863"/>
                  <a:pt x="10348" y="1765"/>
                </a:cubicBezTo>
                <a:lnTo>
                  <a:pt x="9913" y="882"/>
                </a:lnTo>
                <a:lnTo>
                  <a:pt x="9574" y="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9" name="Freeform 298"/>
          <p:cNvSpPr/>
          <p:nvPr/>
        </p:nvSpPr>
        <p:spPr>
          <a:xfrm>
            <a:off x="9667800" y="5738760"/>
            <a:ext cx="160560" cy="196920"/>
          </a:xfrm>
          <a:custGeom>
            <a:avLst/>
            <a:gdLst/>
            <a:ahLst/>
            <a:rect l="l" t="t" r="r" b="b"/>
            <a:pathLst>
              <a:path w="90" h="78">
                <a:moveTo>
                  <a:pt x="72" y="42"/>
                </a:moveTo>
                <a:lnTo>
                  <a:pt x="78" y="30"/>
                </a:lnTo>
                <a:lnTo>
                  <a:pt x="84" y="18"/>
                </a:lnTo>
                <a:lnTo>
                  <a:pt x="48" y="12"/>
                </a:lnTo>
                <a:lnTo>
                  <a:pt x="30" y="0"/>
                </a:lnTo>
                <a:lnTo>
                  <a:pt x="12" y="0"/>
                </a:lnTo>
                <a:lnTo>
                  <a:pt x="6" y="12"/>
                </a:lnTo>
                <a:lnTo>
                  <a:pt x="0" y="18"/>
                </a:lnTo>
                <a:lnTo>
                  <a:pt x="6" y="30"/>
                </a:lnTo>
                <a:lnTo>
                  <a:pt x="18" y="78"/>
                </a:lnTo>
                <a:lnTo>
                  <a:pt x="54" y="72"/>
                </a:lnTo>
                <a:lnTo>
                  <a:pt x="78" y="66"/>
                </a:lnTo>
                <a:lnTo>
                  <a:pt x="84" y="72"/>
                </a:lnTo>
                <a:lnTo>
                  <a:pt x="90" y="48"/>
                </a:lnTo>
                <a:lnTo>
                  <a:pt x="72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0" name="Freeform 331"/>
          <p:cNvSpPr/>
          <p:nvPr/>
        </p:nvSpPr>
        <p:spPr>
          <a:xfrm>
            <a:off x="9321840" y="5479920"/>
            <a:ext cx="304920" cy="171720"/>
          </a:xfrm>
          <a:custGeom>
            <a:avLst/>
            <a:gdLst/>
            <a:ahLst/>
            <a:rect l="l" t="t" r="r" b="b"/>
            <a:pathLst>
              <a:path w="10000" h="11631">
                <a:moveTo>
                  <a:pt x="7686" y="5391"/>
                </a:moveTo>
                <a:lnTo>
                  <a:pt x="5498" y="4472"/>
                </a:lnTo>
                <a:lnTo>
                  <a:pt x="2084" y="1164"/>
                </a:lnTo>
                <a:lnTo>
                  <a:pt x="886" y="0"/>
                </a:lnTo>
                <a:lnTo>
                  <a:pt x="0" y="4803"/>
                </a:lnTo>
                <a:lnTo>
                  <a:pt x="3459" y="9284"/>
                </a:lnTo>
                <a:lnTo>
                  <a:pt x="5903" y="10259"/>
                </a:lnTo>
                <a:lnTo>
                  <a:pt x="8016" y="11631"/>
                </a:lnTo>
                <a:lnTo>
                  <a:pt x="8676" y="8710"/>
                </a:lnTo>
                <a:lnTo>
                  <a:pt x="10000" y="8128"/>
                </a:lnTo>
                <a:lnTo>
                  <a:pt x="8915" y="6759"/>
                </a:lnTo>
                <a:lnTo>
                  <a:pt x="8310" y="6622"/>
                </a:lnTo>
                <a:cubicBezTo>
                  <a:pt x="8207" y="6039"/>
                  <a:pt x="7790" y="5973"/>
                  <a:pt x="7686" y="53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Freeform 447"/>
          <p:cNvSpPr/>
          <p:nvPr/>
        </p:nvSpPr>
        <p:spPr>
          <a:xfrm>
            <a:off x="9817200" y="5673600"/>
            <a:ext cx="384120" cy="695520"/>
          </a:xfrm>
          <a:custGeom>
            <a:avLst/>
            <a:gdLst/>
            <a:ahLst/>
            <a:rect l="l" t="t" r="r" b="b"/>
            <a:pathLst>
              <a:path w="12864" h="10000">
                <a:moveTo>
                  <a:pt x="6669" y="0"/>
                </a:moveTo>
                <a:lnTo>
                  <a:pt x="5217" y="627"/>
                </a:lnTo>
                <a:lnTo>
                  <a:pt x="4509" y="795"/>
                </a:lnTo>
                <a:lnTo>
                  <a:pt x="4285" y="602"/>
                </a:lnTo>
                <a:lnTo>
                  <a:pt x="1850" y="1511"/>
                </a:lnTo>
                <a:lnTo>
                  <a:pt x="361" y="2700"/>
                </a:lnTo>
                <a:lnTo>
                  <a:pt x="0" y="3527"/>
                </a:lnTo>
                <a:lnTo>
                  <a:pt x="2466" y="5401"/>
                </a:lnTo>
                <a:lnTo>
                  <a:pt x="1912" y="6416"/>
                </a:lnTo>
                <a:cubicBezTo>
                  <a:pt x="2658" y="6304"/>
                  <a:pt x="4006" y="6725"/>
                  <a:pt x="4751" y="6612"/>
                </a:cubicBezTo>
                <a:lnTo>
                  <a:pt x="6380" y="6578"/>
                </a:lnTo>
                <a:lnTo>
                  <a:pt x="5473" y="5791"/>
                </a:lnTo>
                <a:lnTo>
                  <a:pt x="6072" y="6005"/>
                </a:lnTo>
                <a:lnTo>
                  <a:pt x="6683" y="7153"/>
                </a:lnTo>
                <a:lnTo>
                  <a:pt x="7388" y="8015"/>
                </a:lnTo>
                <a:cubicBezTo>
                  <a:pt x="7359" y="8285"/>
                  <a:pt x="7584" y="9729"/>
                  <a:pt x="7556" y="10000"/>
                </a:cubicBezTo>
                <a:lnTo>
                  <a:pt x="9007" y="8884"/>
                </a:lnTo>
                <a:lnTo>
                  <a:pt x="8378" y="6935"/>
                </a:lnTo>
                <a:lnTo>
                  <a:pt x="7353" y="6381"/>
                </a:lnTo>
                <a:lnTo>
                  <a:pt x="7865" y="5938"/>
                </a:lnTo>
                <a:cubicBezTo>
                  <a:pt x="7836" y="5815"/>
                  <a:pt x="7808" y="5693"/>
                  <a:pt x="7779" y="5570"/>
                </a:cubicBezTo>
                <a:lnTo>
                  <a:pt x="6413" y="4795"/>
                </a:lnTo>
                <a:lnTo>
                  <a:pt x="7096" y="4205"/>
                </a:lnTo>
                <a:lnTo>
                  <a:pt x="7916" y="4196"/>
                </a:lnTo>
                <a:lnTo>
                  <a:pt x="9685" y="3821"/>
                </a:lnTo>
                <a:cubicBezTo>
                  <a:pt x="9793" y="3687"/>
                  <a:pt x="10219" y="3634"/>
                  <a:pt x="10327" y="3500"/>
                </a:cubicBezTo>
                <a:lnTo>
                  <a:pt x="11115" y="3002"/>
                </a:lnTo>
                <a:cubicBezTo>
                  <a:pt x="11093" y="2923"/>
                  <a:pt x="12886" y="2990"/>
                  <a:pt x="12864" y="2911"/>
                </a:cubicBezTo>
                <a:lnTo>
                  <a:pt x="12264" y="2052"/>
                </a:lnTo>
                <a:cubicBezTo>
                  <a:pt x="12238" y="1992"/>
                  <a:pt x="11078" y="1787"/>
                  <a:pt x="11052" y="1727"/>
                </a:cubicBezTo>
                <a:cubicBezTo>
                  <a:pt x="11067" y="1385"/>
                  <a:pt x="9494" y="1967"/>
                  <a:pt x="9509" y="1625"/>
                </a:cubicBezTo>
                <a:lnTo>
                  <a:pt x="7778" y="1711"/>
                </a:lnTo>
                <a:lnTo>
                  <a:pt x="7430" y="1763"/>
                </a:lnTo>
                <a:lnTo>
                  <a:pt x="7096" y="1550"/>
                </a:lnTo>
                <a:lnTo>
                  <a:pt x="7865" y="1254"/>
                </a:lnTo>
                <a:lnTo>
                  <a:pt x="7865" y="480"/>
                </a:lnTo>
                <a:lnTo>
                  <a:pt x="666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2" name="Freeform 241"/>
          <p:cNvSpPr/>
          <p:nvPr/>
        </p:nvSpPr>
        <p:spPr>
          <a:xfrm>
            <a:off x="9656640" y="5578560"/>
            <a:ext cx="125640" cy="69840"/>
          </a:xfrm>
          <a:custGeom>
            <a:avLst/>
            <a:gdLst/>
            <a:ahLst/>
            <a:rect l="l" t="t" r="r" b="b"/>
            <a:pathLst>
              <a:path w="348468" h="191264">
                <a:moveTo>
                  <a:pt x="0" y="136243"/>
                </a:moveTo>
                <a:lnTo>
                  <a:pt x="102182" y="191264"/>
                </a:lnTo>
                <a:lnTo>
                  <a:pt x="162443" y="162443"/>
                </a:lnTo>
                <a:lnTo>
                  <a:pt x="217465" y="188644"/>
                </a:lnTo>
                <a:lnTo>
                  <a:pt x="324887" y="167683"/>
                </a:lnTo>
                <a:lnTo>
                  <a:pt x="348468" y="104802"/>
                </a:lnTo>
                <a:lnTo>
                  <a:pt x="254145" y="5240"/>
                </a:lnTo>
                <a:lnTo>
                  <a:pt x="167684" y="20960"/>
                </a:lnTo>
                <a:lnTo>
                  <a:pt x="115282" y="0"/>
                </a:lnTo>
                <a:lnTo>
                  <a:pt x="28821" y="73361"/>
                </a:lnTo>
                <a:lnTo>
                  <a:pt x="0" y="1362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3" name="Freeform 448"/>
          <p:cNvSpPr/>
          <p:nvPr/>
        </p:nvSpPr>
        <p:spPr>
          <a:xfrm>
            <a:off x="10139400" y="6492960"/>
            <a:ext cx="182520" cy="210960"/>
          </a:xfrm>
          <a:custGeom>
            <a:avLst/>
            <a:gdLst/>
            <a:ahLst/>
            <a:rect l="l" t="t" r="r" b="b"/>
            <a:pathLst>
              <a:path w="675" h="773">
                <a:moveTo>
                  <a:pt x="0" y="41"/>
                </a:moveTo>
                <a:lnTo>
                  <a:pt x="75" y="339"/>
                </a:lnTo>
                <a:lnTo>
                  <a:pt x="273" y="579"/>
                </a:lnTo>
                <a:lnTo>
                  <a:pt x="605" y="769"/>
                </a:lnTo>
                <a:lnTo>
                  <a:pt x="675" y="773"/>
                </a:lnTo>
                <a:lnTo>
                  <a:pt x="563" y="583"/>
                </a:lnTo>
                <a:lnTo>
                  <a:pt x="493" y="521"/>
                </a:lnTo>
                <a:lnTo>
                  <a:pt x="493" y="269"/>
                </a:lnTo>
                <a:lnTo>
                  <a:pt x="323" y="78"/>
                </a:lnTo>
                <a:lnTo>
                  <a:pt x="286" y="58"/>
                </a:lnTo>
                <a:lnTo>
                  <a:pt x="253" y="111"/>
                </a:lnTo>
                <a:lnTo>
                  <a:pt x="141" y="128"/>
                </a:lnTo>
                <a:lnTo>
                  <a:pt x="145" y="70"/>
                </a:lnTo>
                <a:lnTo>
                  <a:pt x="17" y="0"/>
                </a:lnTo>
                <a:lnTo>
                  <a:pt x="0" y="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4" name="Freeform 330"/>
          <p:cNvSpPr/>
          <p:nvPr/>
        </p:nvSpPr>
        <p:spPr>
          <a:xfrm>
            <a:off x="10188720" y="5843520"/>
            <a:ext cx="285480" cy="557280"/>
          </a:xfrm>
          <a:custGeom>
            <a:avLst/>
            <a:gdLst/>
            <a:ahLst/>
            <a:rect l="l" t="t" r="r" b="b"/>
            <a:pathLst>
              <a:path w="138" h="271">
                <a:moveTo>
                  <a:pt x="66" y="0"/>
                </a:moveTo>
                <a:lnTo>
                  <a:pt x="6" y="0"/>
                </a:lnTo>
                <a:lnTo>
                  <a:pt x="0" y="24"/>
                </a:lnTo>
                <a:lnTo>
                  <a:pt x="6" y="24"/>
                </a:lnTo>
                <a:lnTo>
                  <a:pt x="18" y="42"/>
                </a:lnTo>
                <a:lnTo>
                  <a:pt x="36" y="48"/>
                </a:lnTo>
                <a:lnTo>
                  <a:pt x="42" y="60"/>
                </a:lnTo>
                <a:lnTo>
                  <a:pt x="36" y="72"/>
                </a:lnTo>
                <a:lnTo>
                  <a:pt x="54" y="96"/>
                </a:lnTo>
                <a:lnTo>
                  <a:pt x="78" y="126"/>
                </a:lnTo>
                <a:lnTo>
                  <a:pt x="96" y="144"/>
                </a:lnTo>
                <a:lnTo>
                  <a:pt x="96" y="175"/>
                </a:lnTo>
                <a:lnTo>
                  <a:pt x="96" y="211"/>
                </a:lnTo>
                <a:lnTo>
                  <a:pt x="78" y="223"/>
                </a:lnTo>
                <a:lnTo>
                  <a:pt x="60" y="229"/>
                </a:lnTo>
                <a:lnTo>
                  <a:pt x="54" y="241"/>
                </a:lnTo>
                <a:lnTo>
                  <a:pt x="42" y="247"/>
                </a:lnTo>
                <a:lnTo>
                  <a:pt x="48" y="253"/>
                </a:lnTo>
                <a:lnTo>
                  <a:pt x="66" y="271"/>
                </a:lnTo>
                <a:lnTo>
                  <a:pt x="108" y="241"/>
                </a:lnTo>
                <a:lnTo>
                  <a:pt x="138" y="211"/>
                </a:lnTo>
                <a:lnTo>
                  <a:pt x="114" y="132"/>
                </a:lnTo>
                <a:lnTo>
                  <a:pt x="102" y="114"/>
                </a:lnTo>
                <a:lnTo>
                  <a:pt x="78" y="84"/>
                </a:lnTo>
                <a:lnTo>
                  <a:pt x="66" y="60"/>
                </a:lnTo>
                <a:lnTo>
                  <a:pt x="78" y="48"/>
                </a:lnTo>
                <a:lnTo>
                  <a:pt x="96" y="36"/>
                </a:lnTo>
                <a:lnTo>
                  <a:pt x="90" y="18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Freeform 446"/>
          <p:cNvSpPr/>
          <p:nvPr/>
        </p:nvSpPr>
        <p:spPr>
          <a:xfrm>
            <a:off x="10005840" y="5935680"/>
            <a:ext cx="316080" cy="568440"/>
          </a:xfrm>
          <a:custGeom>
            <a:avLst/>
            <a:gdLst/>
            <a:ahLst/>
            <a:rect l="l" t="t" r="r" b="b"/>
            <a:pathLst>
              <a:path w="107" h="190">
                <a:moveTo>
                  <a:pt x="7" y="9"/>
                </a:moveTo>
                <a:lnTo>
                  <a:pt x="0" y="23"/>
                </a:lnTo>
                <a:lnTo>
                  <a:pt x="15" y="47"/>
                </a:lnTo>
                <a:lnTo>
                  <a:pt x="15" y="60"/>
                </a:lnTo>
                <a:lnTo>
                  <a:pt x="22" y="78"/>
                </a:lnTo>
                <a:lnTo>
                  <a:pt x="19" y="93"/>
                </a:lnTo>
                <a:lnTo>
                  <a:pt x="23" y="110"/>
                </a:lnTo>
                <a:lnTo>
                  <a:pt x="26" y="118"/>
                </a:lnTo>
                <a:lnTo>
                  <a:pt x="19" y="126"/>
                </a:lnTo>
                <a:lnTo>
                  <a:pt x="13" y="159"/>
                </a:lnTo>
                <a:lnTo>
                  <a:pt x="33" y="182"/>
                </a:lnTo>
                <a:lnTo>
                  <a:pt x="34" y="178"/>
                </a:lnTo>
                <a:lnTo>
                  <a:pt x="46" y="185"/>
                </a:lnTo>
                <a:lnTo>
                  <a:pt x="46" y="190"/>
                </a:lnTo>
                <a:lnTo>
                  <a:pt x="56" y="188"/>
                </a:lnTo>
                <a:lnTo>
                  <a:pt x="59" y="184"/>
                </a:lnTo>
                <a:lnTo>
                  <a:pt x="43" y="174"/>
                </a:lnTo>
                <a:lnTo>
                  <a:pt x="27" y="149"/>
                </a:lnTo>
                <a:lnTo>
                  <a:pt x="19" y="138"/>
                </a:lnTo>
                <a:lnTo>
                  <a:pt x="32" y="113"/>
                </a:lnTo>
                <a:lnTo>
                  <a:pt x="57" y="108"/>
                </a:lnTo>
                <a:lnTo>
                  <a:pt x="70" y="119"/>
                </a:lnTo>
                <a:lnTo>
                  <a:pt x="63" y="97"/>
                </a:lnTo>
                <a:lnTo>
                  <a:pt x="72" y="87"/>
                </a:lnTo>
                <a:lnTo>
                  <a:pt x="101" y="87"/>
                </a:lnTo>
                <a:lnTo>
                  <a:pt x="107" y="73"/>
                </a:lnTo>
                <a:lnTo>
                  <a:pt x="95" y="50"/>
                </a:lnTo>
                <a:lnTo>
                  <a:pt x="85" y="37"/>
                </a:lnTo>
                <a:lnTo>
                  <a:pt x="48" y="27"/>
                </a:lnTo>
                <a:lnTo>
                  <a:pt x="36" y="0"/>
                </a:lnTo>
                <a:lnTo>
                  <a:pt x="7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6" name="Freeform 329"/>
          <p:cNvSpPr/>
          <p:nvPr/>
        </p:nvSpPr>
        <p:spPr>
          <a:xfrm>
            <a:off x="10101240" y="5878440"/>
            <a:ext cx="300240" cy="328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672" y="9830"/>
                </a:moveTo>
                <a:lnTo>
                  <a:pt x="10000" y="10000"/>
                </a:lnTo>
                <a:lnTo>
                  <a:pt x="10000" y="7948"/>
                </a:lnTo>
                <a:lnTo>
                  <a:pt x="8696" y="6754"/>
                </a:lnTo>
                <a:lnTo>
                  <a:pt x="6957" y="4769"/>
                </a:lnTo>
                <a:lnTo>
                  <a:pt x="5652" y="3176"/>
                </a:lnTo>
                <a:lnTo>
                  <a:pt x="6087" y="2384"/>
                </a:lnTo>
                <a:lnTo>
                  <a:pt x="5652" y="1590"/>
                </a:lnTo>
                <a:lnTo>
                  <a:pt x="4348" y="1191"/>
                </a:lnTo>
                <a:lnTo>
                  <a:pt x="3478" y="0"/>
                </a:lnTo>
                <a:lnTo>
                  <a:pt x="3043" y="0"/>
                </a:lnTo>
                <a:lnTo>
                  <a:pt x="870" y="396"/>
                </a:lnTo>
                <a:lnTo>
                  <a:pt x="0" y="1590"/>
                </a:lnTo>
                <a:lnTo>
                  <a:pt x="435" y="2384"/>
                </a:lnTo>
                <a:lnTo>
                  <a:pt x="870" y="4769"/>
                </a:lnTo>
                <a:lnTo>
                  <a:pt x="3913" y="4769"/>
                </a:lnTo>
                <a:lnTo>
                  <a:pt x="5217" y="5165"/>
                </a:lnTo>
                <a:lnTo>
                  <a:pt x="7391" y="8344"/>
                </a:lnTo>
                <a:lnTo>
                  <a:pt x="6957" y="9602"/>
                </a:lnTo>
                <a:lnTo>
                  <a:pt x="8672" y="98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7" name="Freeform 329"/>
          <p:cNvSpPr/>
          <p:nvPr/>
        </p:nvSpPr>
        <p:spPr>
          <a:xfrm>
            <a:off x="10191600" y="6183360"/>
            <a:ext cx="209880" cy="168120"/>
          </a:xfrm>
          <a:custGeom>
            <a:avLst/>
            <a:gdLst/>
            <a:ahLst/>
            <a:rect l="l" t="t" r="r" b="b"/>
            <a:pathLst>
              <a:path w="10000" h="6448">
                <a:moveTo>
                  <a:pt x="8160" y="269"/>
                </a:moveTo>
                <a:cubicBezTo>
                  <a:pt x="7722" y="211"/>
                  <a:pt x="7792" y="194"/>
                  <a:pt x="7370" y="149"/>
                </a:cubicBezTo>
                <a:lnTo>
                  <a:pt x="5626" y="0"/>
                </a:lnTo>
                <a:lnTo>
                  <a:pt x="1875" y="496"/>
                </a:lnTo>
                <a:lnTo>
                  <a:pt x="0" y="1489"/>
                </a:lnTo>
                <a:lnTo>
                  <a:pt x="0" y="3473"/>
                </a:lnTo>
                <a:lnTo>
                  <a:pt x="3125" y="5951"/>
                </a:lnTo>
                <a:lnTo>
                  <a:pt x="4375" y="6448"/>
                </a:lnTo>
                <a:lnTo>
                  <a:pt x="5626" y="5951"/>
                </a:lnTo>
                <a:lnTo>
                  <a:pt x="6249" y="4959"/>
                </a:lnTo>
                <a:lnTo>
                  <a:pt x="8126" y="4466"/>
                </a:lnTo>
                <a:lnTo>
                  <a:pt x="10000" y="3473"/>
                </a:lnTo>
                <a:lnTo>
                  <a:pt x="10000" y="496"/>
                </a:lnTo>
                <a:lnTo>
                  <a:pt x="8160" y="2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8" name="Rectangle 213"/>
          <p:cNvSpPr/>
          <p:nvPr/>
        </p:nvSpPr>
        <p:spPr>
          <a:xfrm>
            <a:off x="201600" y="700884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Rectangle 214"/>
          <p:cNvSpPr/>
          <p:nvPr/>
        </p:nvSpPr>
        <p:spPr>
          <a:xfrm>
            <a:off x="201600" y="7550280"/>
            <a:ext cx="452520" cy="45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0" name="Rectangle 215"/>
          <p:cNvSpPr/>
          <p:nvPr/>
        </p:nvSpPr>
        <p:spPr>
          <a:xfrm>
            <a:off x="201600" y="8110440"/>
            <a:ext cx="452520" cy="45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1" name="Rectangle 216"/>
          <p:cNvSpPr/>
          <p:nvPr/>
        </p:nvSpPr>
        <p:spPr>
          <a:xfrm>
            <a:off x="201600" y="865188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Rectangle 217"/>
          <p:cNvSpPr/>
          <p:nvPr/>
        </p:nvSpPr>
        <p:spPr>
          <a:xfrm>
            <a:off x="201600" y="919476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3" name="Rectangle 218"/>
          <p:cNvSpPr/>
          <p:nvPr/>
        </p:nvSpPr>
        <p:spPr>
          <a:xfrm>
            <a:off x="201600" y="644832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4" name="Rectangle 219"/>
          <p:cNvSpPr/>
          <p:nvPr/>
        </p:nvSpPr>
        <p:spPr>
          <a:xfrm>
            <a:off x="791280" y="63774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1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5" name="Rectangle 220"/>
          <p:cNvSpPr/>
          <p:nvPr/>
        </p:nvSpPr>
        <p:spPr>
          <a:xfrm>
            <a:off x="791280" y="69372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2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6" name="Rectangle 221"/>
          <p:cNvSpPr/>
          <p:nvPr/>
        </p:nvSpPr>
        <p:spPr>
          <a:xfrm>
            <a:off x="791280" y="74790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3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Rectangle 222"/>
          <p:cNvSpPr/>
          <p:nvPr/>
        </p:nvSpPr>
        <p:spPr>
          <a:xfrm>
            <a:off x="791280" y="80388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4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8" name="Rectangle 223"/>
          <p:cNvSpPr/>
          <p:nvPr/>
        </p:nvSpPr>
        <p:spPr>
          <a:xfrm>
            <a:off x="791280" y="858168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5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9" name="Rectangle 224"/>
          <p:cNvSpPr/>
          <p:nvPr/>
        </p:nvSpPr>
        <p:spPr>
          <a:xfrm>
            <a:off x="791280" y="912312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6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0" name="Rectangle 69"/>
          <p:cNvSpPr/>
          <p:nvPr/>
        </p:nvSpPr>
        <p:spPr>
          <a:xfrm>
            <a:off x="49320" y="5838480"/>
            <a:ext cx="2315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1" descr=""/>
          <p:cNvPicPr/>
          <p:nvPr/>
        </p:nvPicPr>
        <p:blipFill>
          <a:blip r:embed="rId1"/>
          <a:stretch/>
        </p:blipFill>
        <p:spPr>
          <a:xfrm>
            <a:off x="608040" y="463680"/>
            <a:ext cx="11785680" cy="7759440"/>
          </a:xfrm>
          <a:prstGeom prst="rect">
            <a:avLst/>
          </a:prstGeom>
          <a:ln w="0">
            <a:noFill/>
          </a:ln>
        </p:spPr>
      </p:pic>
      <p:sp>
        <p:nvSpPr>
          <p:cNvPr id="932" name="AutoShape 2"/>
          <p:cNvSpPr/>
          <p:nvPr/>
        </p:nvSpPr>
        <p:spPr>
          <a:xfrm>
            <a:off x="1978200" y="1444680"/>
            <a:ext cx="1587240" cy="1295280"/>
          </a:xfrm>
          <a:custGeom>
            <a:avLst/>
            <a:gdLst>
              <a:gd name="textAreaLeft" fmla="*/ 0 w 1587240"/>
              <a:gd name="textAreaRight" fmla="*/ 1587600 w 1587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7315"/>
                </a:moveTo>
                <a:lnTo>
                  <a:pt x="501" y="17402"/>
                </a:lnTo>
                <a:lnTo>
                  <a:pt x="17595" y="21600"/>
                </a:lnTo>
                <a:lnTo>
                  <a:pt x="18453" y="15479"/>
                </a:lnTo>
                <a:lnTo>
                  <a:pt x="18882" y="14691"/>
                </a:lnTo>
                <a:lnTo>
                  <a:pt x="19526" y="14167"/>
                </a:lnTo>
                <a:lnTo>
                  <a:pt x="19597" y="13292"/>
                </a:lnTo>
                <a:lnTo>
                  <a:pt x="19454" y="12068"/>
                </a:lnTo>
                <a:lnTo>
                  <a:pt x="21600" y="7346"/>
                </a:lnTo>
                <a:lnTo>
                  <a:pt x="21600" y="6384"/>
                </a:lnTo>
                <a:lnTo>
                  <a:pt x="21385" y="5509"/>
                </a:lnTo>
                <a:lnTo>
                  <a:pt x="20885" y="4722"/>
                </a:lnTo>
                <a:lnTo>
                  <a:pt x="19812" y="4635"/>
                </a:lnTo>
                <a:lnTo>
                  <a:pt x="18882" y="4547"/>
                </a:lnTo>
                <a:lnTo>
                  <a:pt x="17881" y="3935"/>
                </a:lnTo>
                <a:lnTo>
                  <a:pt x="16879" y="3673"/>
                </a:lnTo>
                <a:lnTo>
                  <a:pt x="16164" y="3585"/>
                </a:lnTo>
                <a:lnTo>
                  <a:pt x="15377" y="3673"/>
                </a:lnTo>
                <a:lnTo>
                  <a:pt x="14448" y="3673"/>
                </a:lnTo>
                <a:lnTo>
                  <a:pt x="13375" y="3585"/>
                </a:lnTo>
                <a:lnTo>
                  <a:pt x="12159" y="3498"/>
                </a:lnTo>
                <a:lnTo>
                  <a:pt x="11229" y="3236"/>
                </a:lnTo>
                <a:lnTo>
                  <a:pt x="10371" y="3148"/>
                </a:lnTo>
                <a:lnTo>
                  <a:pt x="9370" y="2798"/>
                </a:lnTo>
                <a:lnTo>
                  <a:pt x="8511" y="2798"/>
                </a:lnTo>
                <a:lnTo>
                  <a:pt x="7796" y="2798"/>
                </a:lnTo>
                <a:lnTo>
                  <a:pt x="7438" y="1924"/>
                </a:lnTo>
                <a:lnTo>
                  <a:pt x="7009" y="1049"/>
                </a:lnTo>
                <a:lnTo>
                  <a:pt x="6580" y="350"/>
                </a:lnTo>
                <a:lnTo>
                  <a:pt x="5936" y="175"/>
                </a:lnTo>
                <a:lnTo>
                  <a:pt x="5078" y="0"/>
                </a:lnTo>
                <a:lnTo>
                  <a:pt x="4721" y="0"/>
                </a:lnTo>
                <a:lnTo>
                  <a:pt x="4291" y="1049"/>
                </a:lnTo>
                <a:lnTo>
                  <a:pt x="3934" y="2099"/>
                </a:lnTo>
                <a:lnTo>
                  <a:pt x="3719" y="3061"/>
                </a:lnTo>
                <a:lnTo>
                  <a:pt x="3648" y="3935"/>
                </a:lnTo>
                <a:lnTo>
                  <a:pt x="3505" y="4722"/>
                </a:lnTo>
                <a:lnTo>
                  <a:pt x="3219" y="5509"/>
                </a:lnTo>
                <a:lnTo>
                  <a:pt x="3004" y="6384"/>
                </a:lnTo>
                <a:cubicBezTo>
                  <a:pt x="3004" y="6384"/>
                  <a:pt x="2861" y="7433"/>
                  <a:pt x="2718" y="7433"/>
                </a:cubicBezTo>
                <a:cubicBezTo>
                  <a:pt x="2575" y="7433"/>
                  <a:pt x="2146" y="7958"/>
                  <a:pt x="2146" y="7958"/>
                </a:cubicBezTo>
                <a:lnTo>
                  <a:pt x="1931" y="8395"/>
                </a:lnTo>
                <a:lnTo>
                  <a:pt x="1430" y="9182"/>
                </a:lnTo>
                <a:lnTo>
                  <a:pt x="1001" y="10144"/>
                </a:lnTo>
                <a:lnTo>
                  <a:pt x="715" y="11106"/>
                </a:lnTo>
                <a:lnTo>
                  <a:pt x="644" y="12418"/>
                </a:lnTo>
                <a:lnTo>
                  <a:pt x="501" y="13205"/>
                </a:lnTo>
                <a:lnTo>
                  <a:pt x="501" y="13904"/>
                </a:lnTo>
                <a:lnTo>
                  <a:pt x="501" y="14954"/>
                </a:lnTo>
                <a:lnTo>
                  <a:pt x="429" y="15916"/>
                </a:lnTo>
                <a:lnTo>
                  <a:pt x="358" y="16703"/>
                </a:lnTo>
                <a:lnTo>
                  <a:pt x="0" y="17315"/>
                </a:lnTo>
                <a:close/>
                <a:moveTo>
                  <a:pt x="0" y="173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3" name="AutoShape 3"/>
          <p:cNvSpPr/>
          <p:nvPr/>
        </p:nvSpPr>
        <p:spPr>
          <a:xfrm>
            <a:off x="2606760" y="2654280"/>
            <a:ext cx="1206360" cy="19875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987560"/>
              <a:gd name="textAreaBottom" fmla="*/ 1987560 h 1987560"/>
            </a:gdLst>
            <a:ahLst/>
            <a:rect l="textAreaLeft" t="textAreaTop" r="textAreaRight" b="textAreaBottom"/>
            <a:pathLst>
              <a:path w="21600" h="21600">
                <a:moveTo>
                  <a:pt x="2103" y="0"/>
                </a:moveTo>
                <a:lnTo>
                  <a:pt x="21600" y="1863"/>
                </a:lnTo>
                <a:lnTo>
                  <a:pt x="18587" y="18219"/>
                </a:lnTo>
                <a:lnTo>
                  <a:pt x="18303" y="18495"/>
                </a:lnTo>
                <a:lnTo>
                  <a:pt x="18076" y="18874"/>
                </a:lnTo>
                <a:lnTo>
                  <a:pt x="17792" y="19116"/>
                </a:lnTo>
                <a:lnTo>
                  <a:pt x="17166" y="19116"/>
                </a:lnTo>
                <a:lnTo>
                  <a:pt x="17053" y="18736"/>
                </a:lnTo>
                <a:lnTo>
                  <a:pt x="16655" y="18667"/>
                </a:lnTo>
                <a:lnTo>
                  <a:pt x="16029" y="18702"/>
                </a:lnTo>
                <a:lnTo>
                  <a:pt x="15575" y="18805"/>
                </a:lnTo>
                <a:lnTo>
                  <a:pt x="15177" y="19116"/>
                </a:lnTo>
                <a:lnTo>
                  <a:pt x="14949" y="21600"/>
                </a:lnTo>
                <a:lnTo>
                  <a:pt x="0" y="8523"/>
                </a:lnTo>
                <a:lnTo>
                  <a:pt x="2103" y="0"/>
                </a:lnTo>
                <a:close/>
                <a:moveTo>
                  <a:pt x="210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4" name="AutoShape 4"/>
          <p:cNvSpPr/>
          <p:nvPr/>
        </p:nvSpPr>
        <p:spPr>
          <a:xfrm>
            <a:off x="3657600" y="2832120"/>
            <a:ext cx="1092240" cy="14508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450800"/>
              <a:gd name="textAreaBottom" fmla="*/ 1451160 h 1450800"/>
            </a:gdLst>
            <a:ahLst/>
            <a:rect l="textAreaLeft" t="textAreaTop" r="textAreaRight" b="textAreaBottom"/>
            <a:pathLst>
              <a:path w="21600" h="21600">
                <a:moveTo>
                  <a:pt x="3077" y="0"/>
                </a:moveTo>
                <a:lnTo>
                  <a:pt x="14756" y="709"/>
                </a:lnTo>
                <a:lnTo>
                  <a:pt x="14505" y="6286"/>
                </a:lnTo>
                <a:lnTo>
                  <a:pt x="21600" y="6523"/>
                </a:lnTo>
                <a:lnTo>
                  <a:pt x="20093" y="21600"/>
                </a:lnTo>
                <a:lnTo>
                  <a:pt x="0" y="20418"/>
                </a:lnTo>
                <a:lnTo>
                  <a:pt x="3077" y="0"/>
                </a:lnTo>
                <a:close/>
                <a:moveTo>
                  <a:pt x="307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5" name="AutoShape 5"/>
          <p:cNvSpPr/>
          <p:nvPr/>
        </p:nvSpPr>
        <p:spPr>
          <a:xfrm>
            <a:off x="3321000" y="4206960"/>
            <a:ext cx="1346400" cy="160956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21600" h="21600">
                <a:moveTo>
                  <a:pt x="5502" y="0"/>
                </a:moveTo>
                <a:lnTo>
                  <a:pt x="5247" y="1406"/>
                </a:lnTo>
                <a:lnTo>
                  <a:pt x="4992" y="2088"/>
                </a:lnTo>
                <a:lnTo>
                  <a:pt x="4534" y="2599"/>
                </a:lnTo>
                <a:lnTo>
                  <a:pt x="3923" y="2641"/>
                </a:lnTo>
                <a:lnTo>
                  <a:pt x="3719" y="2173"/>
                </a:lnTo>
                <a:lnTo>
                  <a:pt x="3006" y="2258"/>
                </a:lnTo>
                <a:lnTo>
                  <a:pt x="2191" y="2727"/>
                </a:lnTo>
                <a:lnTo>
                  <a:pt x="2089" y="3408"/>
                </a:lnTo>
                <a:lnTo>
                  <a:pt x="1885" y="8137"/>
                </a:lnTo>
                <a:lnTo>
                  <a:pt x="2394" y="8393"/>
                </a:lnTo>
                <a:lnTo>
                  <a:pt x="2649" y="8649"/>
                </a:lnTo>
                <a:lnTo>
                  <a:pt x="2751" y="9202"/>
                </a:lnTo>
                <a:lnTo>
                  <a:pt x="2292" y="9714"/>
                </a:lnTo>
                <a:lnTo>
                  <a:pt x="1681" y="10395"/>
                </a:lnTo>
                <a:lnTo>
                  <a:pt x="1426" y="11120"/>
                </a:lnTo>
                <a:lnTo>
                  <a:pt x="1274" y="11801"/>
                </a:lnTo>
                <a:cubicBezTo>
                  <a:pt x="1274" y="11801"/>
                  <a:pt x="1019" y="12312"/>
                  <a:pt x="917" y="12312"/>
                </a:cubicBezTo>
                <a:cubicBezTo>
                  <a:pt x="815" y="12312"/>
                  <a:pt x="713" y="12866"/>
                  <a:pt x="713" y="12866"/>
                </a:cubicBezTo>
                <a:lnTo>
                  <a:pt x="866" y="14485"/>
                </a:lnTo>
                <a:lnTo>
                  <a:pt x="408" y="14826"/>
                </a:lnTo>
                <a:lnTo>
                  <a:pt x="153" y="15295"/>
                </a:lnTo>
                <a:lnTo>
                  <a:pt x="0" y="15593"/>
                </a:lnTo>
                <a:lnTo>
                  <a:pt x="12277" y="21600"/>
                </a:lnTo>
                <a:lnTo>
                  <a:pt x="19409" y="21344"/>
                </a:lnTo>
                <a:lnTo>
                  <a:pt x="21600" y="1065"/>
                </a:lnTo>
                <a:lnTo>
                  <a:pt x="5502" y="0"/>
                </a:lnTo>
                <a:close/>
                <a:moveTo>
                  <a:pt x="550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AutoShape 6"/>
          <p:cNvSpPr/>
          <p:nvPr/>
        </p:nvSpPr>
        <p:spPr>
          <a:xfrm>
            <a:off x="1836720" y="2482920"/>
            <a:ext cx="1649520" cy="282240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577" h="21600">
                <a:moveTo>
                  <a:pt x="11608" y="1215"/>
                </a:moveTo>
                <a:lnTo>
                  <a:pt x="9988" y="7338"/>
                </a:lnTo>
                <a:lnTo>
                  <a:pt x="20995" y="16498"/>
                </a:lnTo>
                <a:lnTo>
                  <a:pt x="20912" y="17810"/>
                </a:lnTo>
                <a:lnTo>
                  <a:pt x="21328" y="17980"/>
                </a:lnTo>
                <a:lnTo>
                  <a:pt x="21577" y="18296"/>
                </a:lnTo>
                <a:lnTo>
                  <a:pt x="21535" y="18563"/>
                </a:lnTo>
                <a:lnTo>
                  <a:pt x="21037" y="18879"/>
                </a:lnTo>
                <a:lnTo>
                  <a:pt x="20705" y="19243"/>
                </a:lnTo>
                <a:lnTo>
                  <a:pt x="20414" y="19948"/>
                </a:lnTo>
                <a:lnTo>
                  <a:pt x="20206" y="20166"/>
                </a:lnTo>
                <a:lnTo>
                  <a:pt x="19957" y="20409"/>
                </a:lnTo>
                <a:lnTo>
                  <a:pt x="19999" y="20822"/>
                </a:lnTo>
                <a:lnTo>
                  <a:pt x="20040" y="21381"/>
                </a:lnTo>
                <a:lnTo>
                  <a:pt x="19874" y="21576"/>
                </a:lnTo>
                <a:lnTo>
                  <a:pt x="19625" y="21600"/>
                </a:lnTo>
                <a:lnTo>
                  <a:pt x="13352" y="21211"/>
                </a:lnTo>
                <a:lnTo>
                  <a:pt x="12937" y="21187"/>
                </a:lnTo>
                <a:lnTo>
                  <a:pt x="13020" y="19681"/>
                </a:lnTo>
                <a:lnTo>
                  <a:pt x="12439" y="19462"/>
                </a:lnTo>
                <a:lnTo>
                  <a:pt x="11899" y="19170"/>
                </a:lnTo>
                <a:lnTo>
                  <a:pt x="11483" y="18806"/>
                </a:lnTo>
                <a:lnTo>
                  <a:pt x="10860" y="18684"/>
                </a:lnTo>
                <a:lnTo>
                  <a:pt x="10237" y="18587"/>
                </a:lnTo>
                <a:lnTo>
                  <a:pt x="9988" y="18369"/>
                </a:lnTo>
                <a:lnTo>
                  <a:pt x="9905" y="18077"/>
                </a:lnTo>
                <a:lnTo>
                  <a:pt x="9323" y="17980"/>
                </a:lnTo>
                <a:lnTo>
                  <a:pt x="8825" y="17858"/>
                </a:lnTo>
                <a:lnTo>
                  <a:pt x="8243" y="17688"/>
                </a:lnTo>
                <a:lnTo>
                  <a:pt x="7911" y="17372"/>
                </a:lnTo>
                <a:lnTo>
                  <a:pt x="7537" y="17056"/>
                </a:lnTo>
                <a:lnTo>
                  <a:pt x="7039" y="16886"/>
                </a:lnTo>
                <a:lnTo>
                  <a:pt x="6374" y="16716"/>
                </a:lnTo>
                <a:lnTo>
                  <a:pt x="6208" y="16522"/>
                </a:lnTo>
                <a:lnTo>
                  <a:pt x="5834" y="16255"/>
                </a:lnTo>
                <a:lnTo>
                  <a:pt x="5460" y="16133"/>
                </a:lnTo>
                <a:lnTo>
                  <a:pt x="5211" y="15866"/>
                </a:lnTo>
                <a:lnTo>
                  <a:pt x="5211" y="15599"/>
                </a:lnTo>
                <a:lnTo>
                  <a:pt x="5419" y="15380"/>
                </a:lnTo>
                <a:lnTo>
                  <a:pt x="5626" y="15186"/>
                </a:lnTo>
                <a:lnTo>
                  <a:pt x="5751" y="14991"/>
                </a:lnTo>
                <a:lnTo>
                  <a:pt x="5543" y="14748"/>
                </a:lnTo>
                <a:lnTo>
                  <a:pt x="5294" y="14457"/>
                </a:lnTo>
                <a:lnTo>
                  <a:pt x="4712" y="13752"/>
                </a:lnTo>
                <a:lnTo>
                  <a:pt x="4131" y="12999"/>
                </a:lnTo>
                <a:lnTo>
                  <a:pt x="3799" y="12391"/>
                </a:lnTo>
                <a:lnTo>
                  <a:pt x="3549" y="11881"/>
                </a:lnTo>
                <a:lnTo>
                  <a:pt x="3383" y="11468"/>
                </a:lnTo>
                <a:lnTo>
                  <a:pt x="3799" y="11274"/>
                </a:lnTo>
                <a:lnTo>
                  <a:pt x="3965" y="11128"/>
                </a:lnTo>
                <a:lnTo>
                  <a:pt x="3965" y="10885"/>
                </a:lnTo>
                <a:lnTo>
                  <a:pt x="3508" y="10788"/>
                </a:lnTo>
                <a:lnTo>
                  <a:pt x="3051" y="10666"/>
                </a:lnTo>
                <a:lnTo>
                  <a:pt x="2511" y="10035"/>
                </a:lnTo>
                <a:lnTo>
                  <a:pt x="2428" y="9694"/>
                </a:lnTo>
                <a:lnTo>
                  <a:pt x="2428" y="9160"/>
                </a:lnTo>
                <a:lnTo>
                  <a:pt x="2802" y="8893"/>
                </a:lnTo>
                <a:lnTo>
                  <a:pt x="3175" y="8893"/>
                </a:lnTo>
                <a:lnTo>
                  <a:pt x="3425" y="8893"/>
                </a:lnTo>
                <a:lnTo>
                  <a:pt x="3799" y="8966"/>
                </a:lnTo>
                <a:lnTo>
                  <a:pt x="4048" y="8844"/>
                </a:lnTo>
                <a:lnTo>
                  <a:pt x="4048" y="8625"/>
                </a:lnTo>
                <a:lnTo>
                  <a:pt x="3757" y="8431"/>
                </a:lnTo>
                <a:lnTo>
                  <a:pt x="3175" y="8139"/>
                </a:lnTo>
                <a:lnTo>
                  <a:pt x="2760" y="8139"/>
                </a:lnTo>
                <a:lnTo>
                  <a:pt x="2511" y="8188"/>
                </a:lnTo>
                <a:lnTo>
                  <a:pt x="2220" y="8431"/>
                </a:lnTo>
                <a:lnTo>
                  <a:pt x="1805" y="8407"/>
                </a:lnTo>
                <a:lnTo>
                  <a:pt x="1639" y="8237"/>
                </a:lnTo>
                <a:lnTo>
                  <a:pt x="1348" y="8115"/>
                </a:lnTo>
                <a:lnTo>
                  <a:pt x="1223" y="7848"/>
                </a:lnTo>
                <a:lnTo>
                  <a:pt x="974" y="7556"/>
                </a:lnTo>
                <a:lnTo>
                  <a:pt x="932" y="7313"/>
                </a:lnTo>
                <a:lnTo>
                  <a:pt x="891" y="6949"/>
                </a:lnTo>
                <a:lnTo>
                  <a:pt x="766" y="6682"/>
                </a:lnTo>
                <a:lnTo>
                  <a:pt x="600" y="6390"/>
                </a:lnTo>
                <a:lnTo>
                  <a:pt x="600" y="6123"/>
                </a:lnTo>
                <a:lnTo>
                  <a:pt x="517" y="5540"/>
                </a:lnTo>
                <a:lnTo>
                  <a:pt x="475" y="4908"/>
                </a:lnTo>
                <a:lnTo>
                  <a:pt x="517" y="4446"/>
                </a:lnTo>
                <a:lnTo>
                  <a:pt x="559" y="3912"/>
                </a:lnTo>
                <a:lnTo>
                  <a:pt x="143" y="3669"/>
                </a:lnTo>
                <a:lnTo>
                  <a:pt x="19" y="3474"/>
                </a:lnTo>
                <a:cubicBezTo>
                  <a:pt x="19" y="3474"/>
                  <a:pt x="-23" y="3061"/>
                  <a:pt x="19" y="3013"/>
                </a:cubicBezTo>
                <a:cubicBezTo>
                  <a:pt x="60" y="2964"/>
                  <a:pt x="351" y="2746"/>
                  <a:pt x="351" y="2746"/>
                </a:cubicBezTo>
                <a:lnTo>
                  <a:pt x="725" y="2527"/>
                </a:lnTo>
                <a:lnTo>
                  <a:pt x="600" y="2357"/>
                </a:lnTo>
                <a:lnTo>
                  <a:pt x="309" y="2284"/>
                </a:lnTo>
                <a:lnTo>
                  <a:pt x="309" y="1919"/>
                </a:lnTo>
                <a:lnTo>
                  <a:pt x="475" y="1628"/>
                </a:lnTo>
                <a:lnTo>
                  <a:pt x="932" y="1434"/>
                </a:lnTo>
                <a:lnTo>
                  <a:pt x="1182" y="1191"/>
                </a:lnTo>
                <a:lnTo>
                  <a:pt x="1223" y="680"/>
                </a:lnTo>
                <a:lnTo>
                  <a:pt x="1431" y="462"/>
                </a:lnTo>
                <a:lnTo>
                  <a:pt x="1680" y="121"/>
                </a:lnTo>
                <a:lnTo>
                  <a:pt x="1888" y="0"/>
                </a:lnTo>
                <a:lnTo>
                  <a:pt x="11608" y="1215"/>
                </a:lnTo>
                <a:close/>
                <a:moveTo>
                  <a:pt x="11608" y="12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7" name="AutoShape 7"/>
          <p:cNvSpPr/>
          <p:nvPr/>
        </p:nvSpPr>
        <p:spPr>
          <a:xfrm>
            <a:off x="2320920" y="733320"/>
            <a:ext cx="1380960" cy="9939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21600" h="21531">
                <a:moveTo>
                  <a:pt x="18670" y="21531"/>
                </a:moveTo>
                <a:lnTo>
                  <a:pt x="21600" y="6948"/>
                </a:lnTo>
                <a:lnTo>
                  <a:pt x="7448" y="1307"/>
                </a:lnTo>
                <a:lnTo>
                  <a:pt x="7697" y="2820"/>
                </a:lnTo>
                <a:lnTo>
                  <a:pt x="7697" y="3990"/>
                </a:lnTo>
                <a:lnTo>
                  <a:pt x="7647" y="5090"/>
                </a:lnTo>
                <a:lnTo>
                  <a:pt x="7498" y="5710"/>
                </a:lnTo>
                <a:lnTo>
                  <a:pt x="7101" y="6810"/>
                </a:lnTo>
                <a:lnTo>
                  <a:pt x="6654" y="7842"/>
                </a:lnTo>
                <a:lnTo>
                  <a:pt x="6008" y="8599"/>
                </a:lnTo>
                <a:lnTo>
                  <a:pt x="5561" y="9149"/>
                </a:lnTo>
                <a:lnTo>
                  <a:pt x="4966" y="9424"/>
                </a:lnTo>
                <a:lnTo>
                  <a:pt x="4320" y="9424"/>
                </a:lnTo>
                <a:lnTo>
                  <a:pt x="4320" y="8599"/>
                </a:lnTo>
                <a:lnTo>
                  <a:pt x="4966" y="8255"/>
                </a:lnTo>
                <a:lnTo>
                  <a:pt x="5512" y="7773"/>
                </a:lnTo>
                <a:lnTo>
                  <a:pt x="5710" y="6673"/>
                </a:lnTo>
                <a:lnTo>
                  <a:pt x="5959" y="6397"/>
                </a:lnTo>
                <a:lnTo>
                  <a:pt x="5263" y="6397"/>
                </a:lnTo>
                <a:lnTo>
                  <a:pt x="4916" y="6397"/>
                </a:lnTo>
                <a:lnTo>
                  <a:pt x="5065" y="5572"/>
                </a:lnTo>
                <a:lnTo>
                  <a:pt x="5065" y="4678"/>
                </a:lnTo>
                <a:lnTo>
                  <a:pt x="5512" y="4334"/>
                </a:lnTo>
                <a:lnTo>
                  <a:pt x="5909" y="4196"/>
                </a:lnTo>
                <a:lnTo>
                  <a:pt x="5859" y="3233"/>
                </a:lnTo>
                <a:lnTo>
                  <a:pt x="5512" y="2752"/>
                </a:lnTo>
                <a:lnTo>
                  <a:pt x="4767" y="2752"/>
                </a:lnTo>
                <a:lnTo>
                  <a:pt x="4072" y="2614"/>
                </a:lnTo>
                <a:lnTo>
                  <a:pt x="3327" y="2201"/>
                </a:lnTo>
                <a:lnTo>
                  <a:pt x="2433" y="1169"/>
                </a:lnTo>
                <a:lnTo>
                  <a:pt x="1738" y="344"/>
                </a:lnTo>
                <a:lnTo>
                  <a:pt x="1092" y="0"/>
                </a:lnTo>
                <a:lnTo>
                  <a:pt x="695" y="413"/>
                </a:lnTo>
                <a:lnTo>
                  <a:pt x="646" y="1238"/>
                </a:lnTo>
                <a:lnTo>
                  <a:pt x="497" y="2820"/>
                </a:lnTo>
                <a:lnTo>
                  <a:pt x="497" y="4334"/>
                </a:lnTo>
                <a:lnTo>
                  <a:pt x="646" y="5847"/>
                </a:lnTo>
                <a:lnTo>
                  <a:pt x="745" y="6810"/>
                </a:lnTo>
                <a:lnTo>
                  <a:pt x="1192" y="7223"/>
                </a:lnTo>
                <a:lnTo>
                  <a:pt x="1490" y="7498"/>
                </a:lnTo>
                <a:lnTo>
                  <a:pt x="1688" y="7842"/>
                </a:lnTo>
                <a:cubicBezTo>
                  <a:pt x="1688" y="7842"/>
                  <a:pt x="1539" y="8324"/>
                  <a:pt x="1440" y="8392"/>
                </a:cubicBezTo>
                <a:cubicBezTo>
                  <a:pt x="1341" y="8461"/>
                  <a:pt x="794" y="9080"/>
                  <a:pt x="794" y="9080"/>
                </a:cubicBezTo>
                <a:lnTo>
                  <a:pt x="646" y="10250"/>
                </a:lnTo>
                <a:lnTo>
                  <a:pt x="546" y="11350"/>
                </a:lnTo>
                <a:lnTo>
                  <a:pt x="447" y="12451"/>
                </a:lnTo>
                <a:lnTo>
                  <a:pt x="497" y="13483"/>
                </a:lnTo>
                <a:lnTo>
                  <a:pt x="447" y="14308"/>
                </a:lnTo>
                <a:lnTo>
                  <a:pt x="0" y="14790"/>
                </a:lnTo>
                <a:lnTo>
                  <a:pt x="199" y="15271"/>
                </a:lnTo>
                <a:lnTo>
                  <a:pt x="695" y="15615"/>
                </a:lnTo>
                <a:lnTo>
                  <a:pt x="1341" y="15478"/>
                </a:lnTo>
                <a:lnTo>
                  <a:pt x="1688" y="15478"/>
                </a:lnTo>
                <a:lnTo>
                  <a:pt x="2234" y="16234"/>
                </a:lnTo>
                <a:lnTo>
                  <a:pt x="2830" y="17060"/>
                </a:lnTo>
                <a:lnTo>
                  <a:pt x="3277" y="18023"/>
                </a:lnTo>
                <a:lnTo>
                  <a:pt x="3575" y="19124"/>
                </a:lnTo>
                <a:lnTo>
                  <a:pt x="4221" y="19124"/>
                </a:lnTo>
                <a:lnTo>
                  <a:pt x="4767" y="19055"/>
                </a:lnTo>
                <a:lnTo>
                  <a:pt x="5114" y="19055"/>
                </a:lnTo>
                <a:lnTo>
                  <a:pt x="5760" y="19192"/>
                </a:lnTo>
                <a:lnTo>
                  <a:pt x="6505" y="19468"/>
                </a:lnTo>
                <a:lnTo>
                  <a:pt x="7150" y="19605"/>
                </a:lnTo>
                <a:lnTo>
                  <a:pt x="8193" y="19743"/>
                </a:lnTo>
                <a:lnTo>
                  <a:pt x="8839" y="19811"/>
                </a:lnTo>
                <a:lnTo>
                  <a:pt x="9484" y="19811"/>
                </a:lnTo>
                <a:lnTo>
                  <a:pt x="10378" y="19880"/>
                </a:lnTo>
                <a:lnTo>
                  <a:pt x="11619" y="19880"/>
                </a:lnTo>
                <a:cubicBezTo>
                  <a:pt x="11619" y="19880"/>
                  <a:pt x="11868" y="19949"/>
                  <a:pt x="11967" y="19949"/>
                </a:cubicBezTo>
                <a:cubicBezTo>
                  <a:pt x="12066" y="19949"/>
                  <a:pt x="12563" y="19880"/>
                  <a:pt x="12563" y="19880"/>
                </a:cubicBezTo>
                <a:lnTo>
                  <a:pt x="13059" y="19811"/>
                </a:lnTo>
                <a:lnTo>
                  <a:pt x="13556" y="19880"/>
                </a:lnTo>
                <a:lnTo>
                  <a:pt x="13953" y="20018"/>
                </a:lnTo>
                <a:lnTo>
                  <a:pt x="14350" y="20224"/>
                </a:lnTo>
                <a:lnTo>
                  <a:pt x="15046" y="20637"/>
                </a:lnTo>
                <a:lnTo>
                  <a:pt x="15592" y="20775"/>
                </a:lnTo>
                <a:lnTo>
                  <a:pt x="16138" y="21118"/>
                </a:lnTo>
                <a:lnTo>
                  <a:pt x="16883" y="21462"/>
                </a:lnTo>
                <a:cubicBezTo>
                  <a:pt x="16883" y="21462"/>
                  <a:pt x="17628" y="21600"/>
                  <a:pt x="17628" y="21462"/>
                </a:cubicBezTo>
                <a:cubicBezTo>
                  <a:pt x="17628" y="21325"/>
                  <a:pt x="18074" y="21394"/>
                  <a:pt x="18074" y="21394"/>
                </a:cubicBezTo>
                <a:lnTo>
                  <a:pt x="18670" y="21531"/>
                </a:lnTo>
                <a:close/>
                <a:moveTo>
                  <a:pt x="18670" y="2153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AutoShape 8"/>
          <p:cNvSpPr/>
          <p:nvPr/>
        </p:nvSpPr>
        <p:spPr>
          <a:xfrm>
            <a:off x="3273480" y="1057320"/>
            <a:ext cx="1177920" cy="18320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1832040"/>
              <a:gd name="textAreaBottom" fmla="*/ 1832400 h 1832040"/>
            </a:gdLst>
            <a:ahLst/>
            <a:rect l="textAreaLeft" t="textAreaTop" r="textAreaRight" b="textAreaBottom"/>
            <a:pathLst>
              <a:path w="21600" h="21600">
                <a:moveTo>
                  <a:pt x="7976" y="0"/>
                </a:moveTo>
                <a:lnTo>
                  <a:pt x="12052" y="412"/>
                </a:lnTo>
                <a:lnTo>
                  <a:pt x="11353" y="2546"/>
                </a:lnTo>
                <a:lnTo>
                  <a:pt x="11644" y="3407"/>
                </a:lnTo>
                <a:lnTo>
                  <a:pt x="11877" y="4605"/>
                </a:lnTo>
                <a:lnTo>
                  <a:pt x="12459" y="5540"/>
                </a:lnTo>
                <a:lnTo>
                  <a:pt x="12925" y="6327"/>
                </a:lnTo>
                <a:lnTo>
                  <a:pt x="13274" y="7150"/>
                </a:lnTo>
                <a:lnTo>
                  <a:pt x="13449" y="7712"/>
                </a:lnTo>
                <a:lnTo>
                  <a:pt x="13391" y="8498"/>
                </a:lnTo>
                <a:lnTo>
                  <a:pt x="12983" y="9359"/>
                </a:lnTo>
                <a:lnTo>
                  <a:pt x="13042" y="9995"/>
                </a:lnTo>
                <a:lnTo>
                  <a:pt x="13391" y="10519"/>
                </a:lnTo>
                <a:lnTo>
                  <a:pt x="13798" y="10519"/>
                </a:lnTo>
                <a:lnTo>
                  <a:pt x="14264" y="11081"/>
                </a:lnTo>
                <a:lnTo>
                  <a:pt x="14322" y="11829"/>
                </a:lnTo>
                <a:lnTo>
                  <a:pt x="14846" y="12765"/>
                </a:lnTo>
                <a:lnTo>
                  <a:pt x="15079" y="13364"/>
                </a:lnTo>
                <a:lnTo>
                  <a:pt x="15545" y="14188"/>
                </a:lnTo>
                <a:cubicBezTo>
                  <a:pt x="15545" y="14188"/>
                  <a:pt x="16127" y="14712"/>
                  <a:pt x="16127" y="14637"/>
                </a:cubicBezTo>
                <a:cubicBezTo>
                  <a:pt x="16127" y="14562"/>
                  <a:pt x="17466" y="14637"/>
                  <a:pt x="17466" y="14637"/>
                </a:cubicBezTo>
                <a:lnTo>
                  <a:pt x="18922" y="14637"/>
                </a:lnTo>
                <a:lnTo>
                  <a:pt x="19912" y="14675"/>
                </a:lnTo>
                <a:lnTo>
                  <a:pt x="21192" y="14712"/>
                </a:lnTo>
                <a:lnTo>
                  <a:pt x="21600" y="14749"/>
                </a:lnTo>
                <a:lnTo>
                  <a:pt x="20785" y="21600"/>
                </a:lnTo>
                <a:lnTo>
                  <a:pt x="0" y="19803"/>
                </a:lnTo>
                <a:lnTo>
                  <a:pt x="291" y="18867"/>
                </a:lnTo>
                <a:lnTo>
                  <a:pt x="582" y="17819"/>
                </a:lnTo>
                <a:lnTo>
                  <a:pt x="757" y="17258"/>
                </a:lnTo>
                <a:lnTo>
                  <a:pt x="1048" y="16284"/>
                </a:lnTo>
                <a:lnTo>
                  <a:pt x="1106" y="15798"/>
                </a:lnTo>
                <a:cubicBezTo>
                  <a:pt x="1106" y="15798"/>
                  <a:pt x="1456" y="15236"/>
                  <a:pt x="1572" y="15236"/>
                </a:cubicBezTo>
                <a:cubicBezTo>
                  <a:pt x="1688" y="15236"/>
                  <a:pt x="1980" y="14899"/>
                  <a:pt x="1980" y="14899"/>
                </a:cubicBezTo>
                <a:lnTo>
                  <a:pt x="2387" y="14675"/>
                </a:lnTo>
                <a:lnTo>
                  <a:pt x="2678" y="14263"/>
                </a:lnTo>
                <a:lnTo>
                  <a:pt x="2620" y="13739"/>
                </a:lnTo>
                <a:lnTo>
                  <a:pt x="2504" y="13252"/>
                </a:lnTo>
                <a:lnTo>
                  <a:pt x="2678" y="12878"/>
                </a:lnTo>
                <a:lnTo>
                  <a:pt x="3027" y="12466"/>
                </a:lnTo>
                <a:lnTo>
                  <a:pt x="3377" y="12054"/>
                </a:lnTo>
                <a:lnTo>
                  <a:pt x="3843" y="11717"/>
                </a:lnTo>
                <a:lnTo>
                  <a:pt x="4134" y="11193"/>
                </a:lnTo>
                <a:lnTo>
                  <a:pt x="4541" y="10819"/>
                </a:lnTo>
                <a:lnTo>
                  <a:pt x="4891" y="10332"/>
                </a:lnTo>
                <a:lnTo>
                  <a:pt x="5123" y="9883"/>
                </a:lnTo>
                <a:lnTo>
                  <a:pt x="5240" y="9209"/>
                </a:lnTo>
                <a:lnTo>
                  <a:pt x="5182" y="8535"/>
                </a:lnTo>
                <a:lnTo>
                  <a:pt x="4716" y="8198"/>
                </a:lnTo>
                <a:lnTo>
                  <a:pt x="4425" y="7824"/>
                </a:lnTo>
                <a:lnTo>
                  <a:pt x="7976" y="0"/>
                </a:lnTo>
                <a:close/>
                <a:moveTo>
                  <a:pt x="797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9" name="AutoShape 9"/>
          <p:cNvSpPr/>
          <p:nvPr/>
        </p:nvSpPr>
        <p:spPr>
          <a:xfrm>
            <a:off x="4660920" y="3260880"/>
            <a:ext cx="1454040" cy="1136520"/>
          </a:xfrm>
          <a:custGeom>
            <a:avLst/>
            <a:gdLst>
              <a:gd name="textAreaLeft" fmla="*/ 0 w 1454040"/>
              <a:gd name="textAreaRight" fmla="*/ 1454400 w 14540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21540"/>
                </a:moveTo>
                <a:lnTo>
                  <a:pt x="1321" y="181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40"/>
                </a:lnTo>
                <a:close/>
                <a:moveTo>
                  <a:pt x="0" y="2154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AutoShape 10"/>
          <p:cNvSpPr/>
          <p:nvPr/>
        </p:nvSpPr>
        <p:spPr>
          <a:xfrm>
            <a:off x="4390920" y="2181240"/>
            <a:ext cx="1346400" cy="108252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968" y="0"/>
                </a:moveTo>
                <a:lnTo>
                  <a:pt x="0" y="21410"/>
                </a:lnTo>
                <a:lnTo>
                  <a:pt x="21600" y="21600"/>
                </a:lnTo>
                <a:lnTo>
                  <a:pt x="21549" y="127"/>
                </a:lnTo>
                <a:lnTo>
                  <a:pt x="968" y="0"/>
                </a:lnTo>
                <a:close/>
                <a:moveTo>
                  <a:pt x="968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5740560" y="1171440"/>
            <a:ext cx="1333440" cy="8416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20006" y="0"/>
                </a:moveTo>
                <a:lnTo>
                  <a:pt x="20211" y="4402"/>
                </a:lnTo>
                <a:lnTo>
                  <a:pt x="20469" y="4972"/>
                </a:lnTo>
                <a:lnTo>
                  <a:pt x="20469" y="5869"/>
                </a:lnTo>
                <a:lnTo>
                  <a:pt x="20469" y="8477"/>
                </a:lnTo>
                <a:lnTo>
                  <a:pt x="20880" y="8477"/>
                </a:lnTo>
                <a:lnTo>
                  <a:pt x="20829" y="9455"/>
                </a:lnTo>
                <a:lnTo>
                  <a:pt x="21034" y="10189"/>
                </a:lnTo>
                <a:lnTo>
                  <a:pt x="21446" y="10678"/>
                </a:lnTo>
                <a:lnTo>
                  <a:pt x="21600" y="11737"/>
                </a:lnTo>
                <a:lnTo>
                  <a:pt x="21600" y="21518"/>
                </a:lnTo>
                <a:lnTo>
                  <a:pt x="51" y="21600"/>
                </a:lnTo>
                <a:lnTo>
                  <a:pt x="0" y="245"/>
                </a:lnTo>
                <a:lnTo>
                  <a:pt x="20006" y="0"/>
                </a:lnTo>
                <a:close/>
                <a:moveTo>
                  <a:pt x="20006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AutoShape 12"/>
          <p:cNvSpPr/>
          <p:nvPr/>
        </p:nvSpPr>
        <p:spPr>
          <a:xfrm>
            <a:off x="5737320" y="2013120"/>
            <a:ext cx="1419120" cy="88884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8514"/>
                </a:moveTo>
                <a:lnTo>
                  <a:pt x="145" y="0"/>
                </a:lnTo>
                <a:lnTo>
                  <a:pt x="20344" y="0"/>
                </a:lnTo>
                <a:lnTo>
                  <a:pt x="20199" y="694"/>
                </a:lnTo>
                <a:lnTo>
                  <a:pt x="20005" y="1543"/>
                </a:lnTo>
                <a:lnTo>
                  <a:pt x="20150" y="2160"/>
                </a:lnTo>
                <a:lnTo>
                  <a:pt x="20440" y="2854"/>
                </a:lnTo>
                <a:lnTo>
                  <a:pt x="20682" y="3626"/>
                </a:lnTo>
                <a:lnTo>
                  <a:pt x="20537" y="15043"/>
                </a:lnTo>
                <a:lnTo>
                  <a:pt x="20247" y="15120"/>
                </a:lnTo>
                <a:lnTo>
                  <a:pt x="20199" y="16431"/>
                </a:lnTo>
                <a:lnTo>
                  <a:pt x="20392" y="17280"/>
                </a:lnTo>
                <a:lnTo>
                  <a:pt x="20923" y="17357"/>
                </a:lnTo>
                <a:lnTo>
                  <a:pt x="21165" y="18129"/>
                </a:lnTo>
                <a:lnTo>
                  <a:pt x="21262" y="19671"/>
                </a:lnTo>
                <a:lnTo>
                  <a:pt x="21600" y="21369"/>
                </a:lnTo>
                <a:lnTo>
                  <a:pt x="21165" y="21600"/>
                </a:lnTo>
                <a:lnTo>
                  <a:pt x="20634" y="20829"/>
                </a:lnTo>
                <a:lnTo>
                  <a:pt x="20247" y="20134"/>
                </a:lnTo>
                <a:lnTo>
                  <a:pt x="19764" y="19826"/>
                </a:lnTo>
                <a:lnTo>
                  <a:pt x="19377" y="19517"/>
                </a:lnTo>
                <a:lnTo>
                  <a:pt x="18846" y="19517"/>
                </a:lnTo>
                <a:lnTo>
                  <a:pt x="18169" y="19517"/>
                </a:lnTo>
                <a:lnTo>
                  <a:pt x="17686" y="19054"/>
                </a:lnTo>
                <a:lnTo>
                  <a:pt x="17444" y="18514"/>
                </a:lnTo>
                <a:lnTo>
                  <a:pt x="17106" y="18283"/>
                </a:lnTo>
                <a:lnTo>
                  <a:pt x="0" y="18514"/>
                </a:lnTo>
                <a:close/>
                <a:moveTo>
                  <a:pt x="0" y="18514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3" name="AutoShape 13"/>
          <p:cNvSpPr/>
          <p:nvPr/>
        </p:nvSpPr>
        <p:spPr>
          <a:xfrm>
            <a:off x="5734080" y="2768760"/>
            <a:ext cx="1641600" cy="83160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21140" y="19456"/>
                </a:lnTo>
                <a:lnTo>
                  <a:pt x="20764" y="18055"/>
                </a:lnTo>
                <a:lnTo>
                  <a:pt x="20556" y="16736"/>
                </a:lnTo>
                <a:lnTo>
                  <a:pt x="20221" y="14922"/>
                </a:lnTo>
                <a:lnTo>
                  <a:pt x="19845" y="13768"/>
                </a:lnTo>
                <a:lnTo>
                  <a:pt x="19720" y="12202"/>
                </a:lnTo>
                <a:lnTo>
                  <a:pt x="19636" y="10305"/>
                </a:lnTo>
                <a:lnTo>
                  <a:pt x="19302" y="8821"/>
                </a:lnTo>
                <a:lnTo>
                  <a:pt x="19135" y="7502"/>
                </a:lnTo>
                <a:lnTo>
                  <a:pt x="19093" y="6183"/>
                </a:lnTo>
                <a:lnTo>
                  <a:pt x="18759" y="5029"/>
                </a:lnTo>
                <a:lnTo>
                  <a:pt x="18425" y="3463"/>
                </a:lnTo>
                <a:lnTo>
                  <a:pt x="17631" y="2061"/>
                </a:lnTo>
                <a:lnTo>
                  <a:pt x="16795" y="1402"/>
                </a:lnTo>
                <a:lnTo>
                  <a:pt x="16252" y="1237"/>
                </a:lnTo>
                <a:lnTo>
                  <a:pt x="15667" y="1154"/>
                </a:lnTo>
                <a:lnTo>
                  <a:pt x="15082" y="82"/>
                </a:lnTo>
                <a:lnTo>
                  <a:pt x="14623" y="0"/>
                </a:lnTo>
                <a:lnTo>
                  <a:pt x="13787" y="0"/>
                </a:lnTo>
                <a:lnTo>
                  <a:pt x="0" y="330"/>
                </a:lnTo>
                <a:lnTo>
                  <a:pt x="0" y="12779"/>
                </a:lnTo>
                <a:lnTo>
                  <a:pt x="5055" y="12779"/>
                </a:lnTo>
                <a:lnTo>
                  <a:pt x="5055" y="2160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4" name="AutoShape 14"/>
          <p:cNvSpPr/>
          <p:nvPr/>
        </p:nvSpPr>
        <p:spPr>
          <a:xfrm>
            <a:off x="6114960" y="3603600"/>
            <a:ext cx="1489320" cy="79380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20080" y="1296"/>
                </a:moveTo>
                <a:lnTo>
                  <a:pt x="19758" y="2160"/>
                </a:lnTo>
                <a:lnTo>
                  <a:pt x="19620" y="3283"/>
                </a:lnTo>
                <a:lnTo>
                  <a:pt x="19804" y="4406"/>
                </a:lnTo>
                <a:lnTo>
                  <a:pt x="20172" y="4752"/>
                </a:lnTo>
                <a:lnTo>
                  <a:pt x="20541" y="5357"/>
                </a:lnTo>
                <a:lnTo>
                  <a:pt x="20955" y="5702"/>
                </a:lnTo>
                <a:lnTo>
                  <a:pt x="21370" y="5875"/>
                </a:lnTo>
                <a:lnTo>
                  <a:pt x="21600" y="6307"/>
                </a:lnTo>
                <a:lnTo>
                  <a:pt x="21462" y="21600"/>
                </a:lnTo>
                <a:lnTo>
                  <a:pt x="0" y="21600"/>
                </a:lnTo>
                <a:lnTo>
                  <a:pt x="46" y="0"/>
                </a:lnTo>
                <a:lnTo>
                  <a:pt x="18376" y="0"/>
                </a:lnTo>
                <a:lnTo>
                  <a:pt x="18791" y="432"/>
                </a:lnTo>
                <a:lnTo>
                  <a:pt x="19251" y="518"/>
                </a:lnTo>
                <a:lnTo>
                  <a:pt x="19620" y="432"/>
                </a:lnTo>
                <a:lnTo>
                  <a:pt x="20034" y="432"/>
                </a:lnTo>
                <a:lnTo>
                  <a:pt x="20264" y="778"/>
                </a:lnTo>
                <a:lnTo>
                  <a:pt x="20080" y="1296"/>
                </a:lnTo>
                <a:close/>
                <a:moveTo>
                  <a:pt x="20080" y="1296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5" name="AutoShape 15"/>
          <p:cNvSpPr/>
          <p:nvPr/>
        </p:nvSpPr>
        <p:spPr>
          <a:xfrm>
            <a:off x="4530600" y="4397400"/>
            <a:ext cx="1362240" cy="140328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21551"/>
                </a:moveTo>
                <a:lnTo>
                  <a:pt x="3122" y="21600"/>
                </a:lnTo>
                <a:lnTo>
                  <a:pt x="3222" y="21111"/>
                </a:lnTo>
                <a:lnTo>
                  <a:pt x="3625" y="21160"/>
                </a:lnTo>
                <a:lnTo>
                  <a:pt x="3575" y="20525"/>
                </a:lnTo>
                <a:lnTo>
                  <a:pt x="9164" y="20427"/>
                </a:lnTo>
                <a:lnTo>
                  <a:pt x="9164" y="19987"/>
                </a:lnTo>
                <a:lnTo>
                  <a:pt x="21600" y="20134"/>
                </a:lnTo>
                <a:lnTo>
                  <a:pt x="21600" y="98"/>
                </a:lnTo>
                <a:lnTo>
                  <a:pt x="2064" y="0"/>
                </a:lnTo>
                <a:lnTo>
                  <a:pt x="0" y="21551"/>
                </a:lnTo>
                <a:close/>
                <a:moveTo>
                  <a:pt x="0" y="21551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6" name="AutoShape 16"/>
          <p:cNvSpPr/>
          <p:nvPr/>
        </p:nvSpPr>
        <p:spPr>
          <a:xfrm>
            <a:off x="5892840" y="4394160"/>
            <a:ext cx="1743120" cy="8222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21049" y="0"/>
                </a:moveTo>
                <a:lnTo>
                  <a:pt x="21128" y="2752"/>
                </a:lnTo>
                <a:lnTo>
                  <a:pt x="21364" y="3086"/>
                </a:lnTo>
                <a:lnTo>
                  <a:pt x="21364" y="5254"/>
                </a:lnTo>
                <a:lnTo>
                  <a:pt x="21364" y="6255"/>
                </a:lnTo>
                <a:lnTo>
                  <a:pt x="21364" y="7089"/>
                </a:lnTo>
                <a:lnTo>
                  <a:pt x="21600" y="7089"/>
                </a:lnTo>
                <a:lnTo>
                  <a:pt x="21600" y="20516"/>
                </a:lnTo>
                <a:lnTo>
                  <a:pt x="21010" y="20516"/>
                </a:lnTo>
                <a:lnTo>
                  <a:pt x="20656" y="19682"/>
                </a:lnTo>
                <a:lnTo>
                  <a:pt x="20184" y="19348"/>
                </a:lnTo>
                <a:lnTo>
                  <a:pt x="19830" y="19849"/>
                </a:lnTo>
                <a:lnTo>
                  <a:pt x="19239" y="20099"/>
                </a:lnTo>
                <a:lnTo>
                  <a:pt x="18767" y="20349"/>
                </a:lnTo>
                <a:lnTo>
                  <a:pt x="18334" y="20516"/>
                </a:lnTo>
                <a:lnTo>
                  <a:pt x="17902" y="20849"/>
                </a:lnTo>
                <a:lnTo>
                  <a:pt x="17587" y="21266"/>
                </a:lnTo>
                <a:lnTo>
                  <a:pt x="17272" y="21600"/>
                </a:lnTo>
                <a:lnTo>
                  <a:pt x="16839" y="20766"/>
                </a:lnTo>
                <a:lnTo>
                  <a:pt x="13928" y="20516"/>
                </a:lnTo>
                <a:lnTo>
                  <a:pt x="13574" y="19932"/>
                </a:lnTo>
                <a:lnTo>
                  <a:pt x="13180" y="19765"/>
                </a:lnTo>
                <a:lnTo>
                  <a:pt x="12708" y="19348"/>
                </a:lnTo>
                <a:lnTo>
                  <a:pt x="11764" y="19432"/>
                </a:lnTo>
                <a:lnTo>
                  <a:pt x="11213" y="19432"/>
                </a:lnTo>
                <a:lnTo>
                  <a:pt x="11016" y="18848"/>
                </a:lnTo>
                <a:lnTo>
                  <a:pt x="10348" y="18848"/>
                </a:lnTo>
                <a:lnTo>
                  <a:pt x="9836" y="18181"/>
                </a:lnTo>
                <a:lnTo>
                  <a:pt x="9679" y="17430"/>
                </a:lnTo>
                <a:lnTo>
                  <a:pt x="9207" y="17180"/>
                </a:lnTo>
                <a:lnTo>
                  <a:pt x="8774" y="17347"/>
                </a:lnTo>
                <a:lnTo>
                  <a:pt x="8538" y="17597"/>
                </a:lnTo>
                <a:lnTo>
                  <a:pt x="8341" y="18097"/>
                </a:lnTo>
                <a:lnTo>
                  <a:pt x="7790" y="17597"/>
                </a:lnTo>
                <a:lnTo>
                  <a:pt x="7515" y="17097"/>
                </a:lnTo>
                <a:lnTo>
                  <a:pt x="7672" y="3503"/>
                </a:lnTo>
                <a:lnTo>
                  <a:pt x="0" y="3336"/>
                </a:lnTo>
                <a:lnTo>
                  <a:pt x="79" y="250"/>
                </a:lnTo>
                <a:lnTo>
                  <a:pt x="21049" y="0"/>
                </a:lnTo>
                <a:close/>
                <a:moveTo>
                  <a:pt x="21049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AutoShape 17"/>
          <p:cNvSpPr/>
          <p:nvPr/>
        </p:nvSpPr>
        <p:spPr>
          <a:xfrm>
            <a:off x="3882960" y="1101600"/>
            <a:ext cx="1860480" cy="12034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553" y="0"/>
                </a:moveTo>
                <a:lnTo>
                  <a:pt x="21600" y="1311"/>
                </a:lnTo>
                <a:lnTo>
                  <a:pt x="21526" y="19548"/>
                </a:lnTo>
                <a:lnTo>
                  <a:pt x="6561" y="19434"/>
                </a:lnTo>
                <a:lnTo>
                  <a:pt x="6487" y="21600"/>
                </a:lnTo>
                <a:lnTo>
                  <a:pt x="3096" y="21486"/>
                </a:lnTo>
                <a:lnTo>
                  <a:pt x="2728" y="20916"/>
                </a:lnTo>
                <a:lnTo>
                  <a:pt x="2359" y="19377"/>
                </a:lnTo>
                <a:lnTo>
                  <a:pt x="2212" y="17839"/>
                </a:lnTo>
                <a:lnTo>
                  <a:pt x="1990" y="17155"/>
                </a:lnTo>
                <a:lnTo>
                  <a:pt x="1954" y="16129"/>
                </a:lnTo>
                <a:lnTo>
                  <a:pt x="1732" y="15559"/>
                </a:lnTo>
                <a:lnTo>
                  <a:pt x="1585" y="15160"/>
                </a:lnTo>
                <a:lnTo>
                  <a:pt x="1290" y="15046"/>
                </a:lnTo>
                <a:lnTo>
                  <a:pt x="1180" y="14191"/>
                </a:lnTo>
                <a:cubicBezTo>
                  <a:pt x="1180" y="14191"/>
                  <a:pt x="1032" y="13507"/>
                  <a:pt x="1106" y="13507"/>
                </a:cubicBezTo>
                <a:cubicBezTo>
                  <a:pt x="1180" y="13507"/>
                  <a:pt x="1143" y="13165"/>
                  <a:pt x="1143" y="13165"/>
                </a:cubicBezTo>
                <a:lnTo>
                  <a:pt x="1290" y="12937"/>
                </a:lnTo>
                <a:lnTo>
                  <a:pt x="1401" y="12367"/>
                </a:lnTo>
                <a:lnTo>
                  <a:pt x="1474" y="11854"/>
                </a:lnTo>
                <a:lnTo>
                  <a:pt x="1474" y="11284"/>
                </a:lnTo>
                <a:lnTo>
                  <a:pt x="1290" y="10316"/>
                </a:lnTo>
                <a:lnTo>
                  <a:pt x="1253" y="9518"/>
                </a:lnTo>
                <a:lnTo>
                  <a:pt x="1069" y="8834"/>
                </a:lnTo>
                <a:lnTo>
                  <a:pt x="885" y="7922"/>
                </a:lnTo>
                <a:lnTo>
                  <a:pt x="663" y="7295"/>
                </a:lnTo>
                <a:lnTo>
                  <a:pt x="405" y="6440"/>
                </a:lnTo>
                <a:lnTo>
                  <a:pt x="332" y="5300"/>
                </a:lnTo>
                <a:lnTo>
                  <a:pt x="369" y="4274"/>
                </a:lnTo>
                <a:lnTo>
                  <a:pt x="147" y="3477"/>
                </a:lnTo>
                <a:lnTo>
                  <a:pt x="0" y="3135"/>
                </a:lnTo>
                <a:lnTo>
                  <a:pt x="553" y="0"/>
                </a:lnTo>
                <a:close/>
                <a:moveTo>
                  <a:pt x="553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8" name="AutoShape 18"/>
          <p:cNvSpPr/>
          <p:nvPr/>
        </p:nvSpPr>
        <p:spPr>
          <a:xfrm>
            <a:off x="3683160" y="6635880"/>
            <a:ext cx="199800" cy="142920"/>
          </a:xfrm>
          <a:custGeom>
            <a:avLst/>
            <a:gdLst>
              <a:gd name="textAreaLeft" fmla="*/ 0 w 199800"/>
              <a:gd name="textAreaRight" fmla="*/ 200160 w 1998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5486" y="0"/>
                </a:moveTo>
                <a:lnTo>
                  <a:pt x="14057" y="960"/>
                </a:lnTo>
                <a:lnTo>
                  <a:pt x="18857" y="5280"/>
                </a:lnTo>
                <a:lnTo>
                  <a:pt x="21600" y="11520"/>
                </a:lnTo>
                <a:lnTo>
                  <a:pt x="19886" y="17760"/>
                </a:lnTo>
                <a:lnTo>
                  <a:pt x="16114" y="21600"/>
                </a:lnTo>
                <a:lnTo>
                  <a:pt x="10971" y="21600"/>
                </a:lnTo>
                <a:lnTo>
                  <a:pt x="6171" y="21120"/>
                </a:lnTo>
                <a:lnTo>
                  <a:pt x="3429" y="18240"/>
                </a:lnTo>
                <a:lnTo>
                  <a:pt x="0" y="13920"/>
                </a:lnTo>
                <a:lnTo>
                  <a:pt x="0" y="6720"/>
                </a:lnTo>
                <a:lnTo>
                  <a:pt x="5486" y="0"/>
                </a:lnTo>
                <a:close/>
                <a:moveTo>
                  <a:pt x="548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9" name="AutoShape 19"/>
          <p:cNvSpPr/>
          <p:nvPr/>
        </p:nvSpPr>
        <p:spPr>
          <a:xfrm>
            <a:off x="4111560" y="6842160"/>
            <a:ext cx="289080" cy="200160"/>
          </a:xfrm>
          <a:custGeom>
            <a:avLst/>
            <a:gdLst>
              <a:gd name="textAreaLeft" fmla="*/ 0 w 289080"/>
              <a:gd name="textAreaRight" fmla="*/ 289440 w 2890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210" h="21600">
                <a:moveTo>
                  <a:pt x="0" y="6171"/>
                </a:moveTo>
                <a:lnTo>
                  <a:pt x="0" y="10629"/>
                </a:lnTo>
                <a:lnTo>
                  <a:pt x="4645" y="11314"/>
                </a:lnTo>
                <a:lnTo>
                  <a:pt x="5110" y="17486"/>
                </a:lnTo>
                <a:lnTo>
                  <a:pt x="7897" y="20571"/>
                </a:lnTo>
                <a:lnTo>
                  <a:pt x="9290" y="16800"/>
                </a:lnTo>
                <a:lnTo>
                  <a:pt x="11381" y="18514"/>
                </a:lnTo>
                <a:lnTo>
                  <a:pt x="14632" y="18171"/>
                </a:lnTo>
                <a:lnTo>
                  <a:pt x="16258" y="21600"/>
                </a:lnTo>
                <a:lnTo>
                  <a:pt x="19742" y="20914"/>
                </a:lnTo>
                <a:cubicBezTo>
                  <a:pt x="19742" y="20914"/>
                  <a:pt x="21600" y="17486"/>
                  <a:pt x="21135" y="17486"/>
                </a:cubicBezTo>
                <a:cubicBezTo>
                  <a:pt x="20671" y="17486"/>
                  <a:pt x="20671" y="13371"/>
                  <a:pt x="20671" y="13371"/>
                </a:cubicBezTo>
                <a:lnTo>
                  <a:pt x="17419" y="12000"/>
                </a:lnTo>
                <a:lnTo>
                  <a:pt x="14400" y="11314"/>
                </a:lnTo>
                <a:lnTo>
                  <a:pt x="13703" y="7543"/>
                </a:lnTo>
                <a:lnTo>
                  <a:pt x="12542" y="2400"/>
                </a:lnTo>
                <a:lnTo>
                  <a:pt x="9755" y="0"/>
                </a:lnTo>
                <a:lnTo>
                  <a:pt x="6735" y="0"/>
                </a:lnTo>
                <a:lnTo>
                  <a:pt x="3948" y="1371"/>
                </a:lnTo>
                <a:lnTo>
                  <a:pt x="2090" y="3429"/>
                </a:lnTo>
                <a:lnTo>
                  <a:pt x="0" y="6171"/>
                </a:lnTo>
                <a:close/>
                <a:moveTo>
                  <a:pt x="0" y="617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0" name="AutoShape 20"/>
          <p:cNvSpPr/>
          <p:nvPr/>
        </p:nvSpPr>
        <p:spPr>
          <a:xfrm>
            <a:off x="4565520" y="7067520"/>
            <a:ext cx="273240" cy="69840"/>
          </a:xfrm>
          <a:custGeom>
            <a:avLst/>
            <a:gdLst>
              <a:gd name="textAreaLeft" fmla="*/ 0 w 273240"/>
              <a:gd name="textAreaRight" fmla="*/ 273600 w 273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5526" y="20618"/>
                </a:lnTo>
                <a:lnTo>
                  <a:pt x="9042" y="19636"/>
                </a:lnTo>
                <a:lnTo>
                  <a:pt x="12809" y="17673"/>
                </a:lnTo>
                <a:lnTo>
                  <a:pt x="16326" y="20618"/>
                </a:lnTo>
                <a:lnTo>
                  <a:pt x="20847" y="17673"/>
                </a:lnTo>
                <a:lnTo>
                  <a:pt x="21600" y="7855"/>
                </a:lnTo>
                <a:lnTo>
                  <a:pt x="13060" y="4909"/>
                </a:lnTo>
                <a:lnTo>
                  <a:pt x="10298" y="0"/>
                </a:lnTo>
                <a:lnTo>
                  <a:pt x="6530" y="0"/>
                </a:lnTo>
                <a:lnTo>
                  <a:pt x="2512" y="982"/>
                </a:lnTo>
                <a:lnTo>
                  <a:pt x="502" y="8836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AutoShape 21"/>
          <p:cNvSpPr/>
          <p:nvPr/>
        </p:nvSpPr>
        <p:spPr>
          <a:xfrm>
            <a:off x="4670280" y="7191360"/>
            <a:ext cx="133560" cy="117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1600" h="21600">
                <a:moveTo>
                  <a:pt x="13886" y="16346"/>
                </a:moveTo>
                <a:lnTo>
                  <a:pt x="21600" y="14011"/>
                </a:lnTo>
                <a:lnTo>
                  <a:pt x="18000" y="6422"/>
                </a:lnTo>
                <a:lnTo>
                  <a:pt x="10800" y="3503"/>
                </a:lnTo>
                <a:lnTo>
                  <a:pt x="2571" y="0"/>
                </a:lnTo>
                <a:lnTo>
                  <a:pt x="0" y="3503"/>
                </a:lnTo>
                <a:lnTo>
                  <a:pt x="1029" y="10508"/>
                </a:lnTo>
                <a:lnTo>
                  <a:pt x="6686" y="9341"/>
                </a:lnTo>
                <a:lnTo>
                  <a:pt x="6171" y="14595"/>
                </a:lnTo>
                <a:lnTo>
                  <a:pt x="7200" y="21600"/>
                </a:lnTo>
                <a:lnTo>
                  <a:pt x="12343" y="19265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2" name="AutoShape 22"/>
          <p:cNvSpPr/>
          <p:nvPr/>
        </p:nvSpPr>
        <p:spPr>
          <a:xfrm>
            <a:off x="4861080" y="7159680"/>
            <a:ext cx="352440" cy="212760"/>
          </a:xfrm>
          <a:custGeom>
            <a:avLst/>
            <a:gdLst>
              <a:gd name="textAreaLeft" fmla="*/ 0 w 352440"/>
              <a:gd name="textAreaRight" fmla="*/ 352800 w 352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4865" y="9027"/>
                </a:moveTo>
                <a:lnTo>
                  <a:pt x="0" y="8060"/>
                </a:lnTo>
                <a:lnTo>
                  <a:pt x="0" y="4513"/>
                </a:lnTo>
                <a:lnTo>
                  <a:pt x="0" y="322"/>
                </a:lnTo>
                <a:lnTo>
                  <a:pt x="2530" y="0"/>
                </a:lnTo>
                <a:lnTo>
                  <a:pt x="4670" y="3224"/>
                </a:lnTo>
                <a:lnTo>
                  <a:pt x="6422" y="5158"/>
                </a:lnTo>
                <a:lnTo>
                  <a:pt x="10508" y="3224"/>
                </a:lnTo>
                <a:lnTo>
                  <a:pt x="14011" y="3546"/>
                </a:lnTo>
                <a:lnTo>
                  <a:pt x="15568" y="6770"/>
                </a:lnTo>
                <a:lnTo>
                  <a:pt x="16930" y="9994"/>
                </a:lnTo>
                <a:lnTo>
                  <a:pt x="20238" y="9994"/>
                </a:lnTo>
                <a:lnTo>
                  <a:pt x="21600" y="11928"/>
                </a:lnTo>
                <a:lnTo>
                  <a:pt x="21211" y="15797"/>
                </a:lnTo>
                <a:lnTo>
                  <a:pt x="15957" y="15797"/>
                </a:lnTo>
                <a:lnTo>
                  <a:pt x="12843" y="16764"/>
                </a:lnTo>
                <a:lnTo>
                  <a:pt x="12649" y="20633"/>
                </a:lnTo>
                <a:lnTo>
                  <a:pt x="10119" y="21600"/>
                </a:lnTo>
                <a:lnTo>
                  <a:pt x="7589" y="21600"/>
                </a:lnTo>
                <a:lnTo>
                  <a:pt x="5838" y="18376"/>
                </a:lnTo>
                <a:lnTo>
                  <a:pt x="5449" y="14830"/>
                </a:lnTo>
                <a:lnTo>
                  <a:pt x="5643" y="10961"/>
                </a:lnTo>
                <a:lnTo>
                  <a:pt x="4865" y="9027"/>
                </a:lnTo>
                <a:close/>
                <a:moveTo>
                  <a:pt x="4865" y="902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3" name="AutoShape 23"/>
          <p:cNvSpPr/>
          <p:nvPr/>
        </p:nvSpPr>
        <p:spPr>
          <a:xfrm>
            <a:off x="5153040" y="7508880"/>
            <a:ext cx="606240" cy="638280"/>
          </a:xfrm>
          <a:custGeom>
            <a:avLst/>
            <a:gdLst>
              <a:gd name="textAreaLeft" fmla="*/ 0 w 606240"/>
              <a:gd name="textAreaRight" fmla="*/ 606600 w 6062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1600" h="21600">
                <a:moveTo>
                  <a:pt x="2601" y="537"/>
                </a:moveTo>
                <a:lnTo>
                  <a:pt x="2827" y="2257"/>
                </a:lnTo>
                <a:lnTo>
                  <a:pt x="4184" y="4299"/>
                </a:lnTo>
                <a:lnTo>
                  <a:pt x="3166" y="4621"/>
                </a:lnTo>
                <a:lnTo>
                  <a:pt x="2262" y="5803"/>
                </a:lnTo>
                <a:lnTo>
                  <a:pt x="1244" y="6663"/>
                </a:lnTo>
                <a:lnTo>
                  <a:pt x="0" y="8060"/>
                </a:lnTo>
                <a:cubicBezTo>
                  <a:pt x="0" y="8060"/>
                  <a:pt x="0" y="9887"/>
                  <a:pt x="339" y="9994"/>
                </a:cubicBezTo>
                <a:cubicBezTo>
                  <a:pt x="679" y="10101"/>
                  <a:pt x="1809" y="11176"/>
                  <a:pt x="1809" y="11176"/>
                </a:cubicBezTo>
                <a:lnTo>
                  <a:pt x="3506" y="11928"/>
                </a:lnTo>
                <a:lnTo>
                  <a:pt x="4071" y="13540"/>
                </a:lnTo>
                <a:lnTo>
                  <a:pt x="3393" y="15582"/>
                </a:lnTo>
                <a:lnTo>
                  <a:pt x="2488" y="17409"/>
                </a:lnTo>
                <a:lnTo>
                  <a:pt x="3053" y="18913"/>
                </a:lnTo>
                <a:lnTo>
                  <a:pt x="4297" y="19666"/>
                </a:lnTo>
                <a:lnTo>
                  <a:pt x="5768" y="20955"/>
                </a:lnTo>
                <a:lnTo>
                  <a:pt x="7012" y="21600"/>
                </a:lnTo>
                <a:lnTo>
                  <a:pt x="8255" y="21385"/>
                </a:lnTo>
                <a:lnTo>
                  <a:pt x="8142" y="18484"/>
                </a:lnTo>
                <a:lnTo>
                  <a:pt x="8142" y="17301"/>
                </a:lnTo>
                <a:lnTo>
                  <a:pt x="11874" y="17301"/>
                </a:lnTo>
                <a:lnTo>
                  <a:pt x="13797" y="16657"/>
                </a:lnTo>
                <a:lnTo>
                  <a:pt x="14928" y="15260"/>
                </a:lnTo>
                <a:lnTo>
                  <a:pt x="16737" y="15260"/>
                </a:lnTo>
                <a:lnTo>
                  <a:pt x="18773" y="15045"/>
                </a:lnTo>
                <a:lnTo>
                  <a:pt x="20921" y="14507"/>
                </a:lnTo>
                <a:lnTo>
                  <a:pt x="21600" y="13755"/>
                </a:lnTo>
                <a:lnTo>
                  <a:pt x="21148" y="12358"/>
                </a:lnTo>
                <a:lnTo>
                  <a:pt x="19112" y="11284"/>
                </a:lnTo>
                <a:lnTo>
                  <a:pt x="18660" y="10316"/>
                </a:lnTo>
                <a:lnTo>
                  <a:pt x="18434" y="9027"/>
                </a:lnTo>
                <a:lnTo>
                  <a:pt x="17416" y="8382"/>
                </a:lnTo>
                <a:lnTo>
                  <a:pt x="17416" y="7307"/>
                </a:lnTo>
                <a:lnTo>
                  <a:pt x="15606" y="5373"/>
                </a:lnTo>
                <a:lnTo>
                  <a:pt x="13684" y="4943"/>
                </a:lnTo>
                <a:lnTo>
                  <a:pt x="12553" y="4943"/>
                </a:lnTo>
                <a:lnTo>
                  <a:pt x="11196" y="4513"/>
                </a:lnTo>
                <a:lnTo>
                  <a:pt x="9726" y="4084"/>
                </a:lnTo>
                <a:lnTo>
                  <a:pt x="9613" y="2901"/>
                </a:lnTo>
                <a:lnTo>
                  <a:pt x="7916" y="1934"/>
                </a:lnTo>
                <a:lnTo>
                  <a:pt x="6559" y="1504"/>
                </a:lnTo>
                <a:lnTo>
                  <a:pt x="5654" y="645"/>
                </a:lnTo>
                <a:lnTo>
                  <a:pt x="4976" y="0"/>
                </a:lnTo>
                <a:lnTo>
                  <a:pt x="3619" y="0"/>
                </a:lnTo>
                <a:lnTo>
                  <a:pt x="2601" y="537"/>
                </a:lnTo>
                <a:close/>
                <a:moveTo>
                  <a:pt x="2601" y="53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4" name="AutoShape 24"/>
          <p:cNvSpPr/>
          <p:nvPr/>
        </p:nvSpPr>
        <p:spPr>
          <a:xfrm>
            <a:off x="11690280" y="2130480"/>
            <a:ext cx="181080" cy="212760"/>
          </a:xfrm>
          <a:custGeom>
            <a:avLst/>
            <a:gdLst>
              <a:gd name="textAreaLeft" fmla="*/ 0 w 181080"/>
              <a:gd name="textAreaRight" fmla="*/ 181440 w 1810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3224"/>
                </a:moveTo>
                <a:lnTo>
                  <a:pt x="9474" y="0"/>
                </a:lnTo>
                <a:lnTo>
                  <a:pt x="21600" y="12573"/>
                </a:lnTo>
                <a:lnTo>
                  <a:pt x="12505" y="9349"/>
                </a:lnTo>
                <a:lnTo>
                  <a:pt x="12126" y="15797"/>
                </a:lnTo>
                <a:lnTo>
                  <a:pt x="3411" y="21600"/>
                </a:lnTo>
                <a:lnTo>
                  <a:pt x="0" y="3224"/>
                </a:lnTo>
                <a:close/>
                <a:moveTo>
                  <a:pt x="0" y="322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AutoShape 25"/>
          <p:cNvSpPr/>
          <p:nvPr/>
        </p:nvSpPr>
        <p:spPr>
          <a:xfrm>
            <a:off x="11201400" y="1371600"/>
            <a:ext cx="301680" cy="650880"/>
          </a:xfrm>
          <a:custGeom>
            <a:avLst/>
            <a:gdLst>
              <a:gd name="textAreaLeft" fmla="*/ 0 w 301680"/>
              <a:gd name="textAreaRight" fmla="*/ 302040 w 3016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13869" y="21600"/>
                </a:moveTo>
                <a:lnTo>
                  <a:pt x="21145" y="20230"/>
                </a:lnTo>
                <a:lnTo>
                  <a:pt x="20236" y="17280"/>
                </a:lnTo>
                <a:lnTo>
                  <a:pt x="18872" y="15489"/>
                </a:lnTo>
                <a:lnTo>
                  <a:pt x="18417" y="14224"/>
                </a:lnTo>
                <a:lnTo>
                  <a:pt x="18417" y="8745"/>
                </a:lnTo>
                <a:lnTo>
                  <a:pt x="17507" y="7586"/>
                </a:lnTo>
                <a:lnTo>
                  <a:pt x="17735" y="6322"/>
                </a:lnTo>
                <a:lnTo>
                  <a:pt x="20236" y="5479"/>
                </a:lnTo>
                <a:lnTo>
                  <a:pt x="21600" y="4004"/>
                </a:lnTo>
                <a:lnTo>
                  <a:pt x="19326" y="3056"/>
                </a:lnTo>
                <a:lnTo>
                  <a:pt x="17962" y="2107"/>
                </a:lnTo>
                <a:lnTo>
                  <a:pt x="18417" y="0"/>
                </a:lnTo>
                <a:lnTo>
                  <a:pt x="455" y="2634"/>
                </a:lnTo>
                <a:lnTo>
                  <a:pt x="0" y="4425"/>
                </a:lnTo>
                <a:lnTo>
                  <a:pt x="0" y="7902"/>
                </a:lnTo>
                <a:lnTo>
                  <a:pt x="1137" y="8219"/>
                </a:lnTo>
                <a:lnTo>
                  <a:pt x="2046" y="8851"/>
                </a:lnTo>
                <a:lnTo>
                  <a:pt x="3183" y="9694"/>
                </a:lnTo>
                <a:lnTo>
                  <a:pt x="3865" y="10747"/>
                </a:lnTo>
                <a:lnTo>
                  <a:pt x="3865" y="11380"/>
                </a:lnTo>
                <a:lnTo>
                  <a:pt x="5229" y="11906"/>
                </a:lnTo>
                <a:lnTo>
                  <a:pt x="5229" y="12433"/>
                </a:lnTo>
                <a:lnTo>
                  <a:pt x="6366" y="13487"/>
                </a:lnTo>
                <a:lnTo>
                  <a:pt x="8185" y="14119"/>
                </a:lnTo>
                <a:lnTo>
                  <a:pt x="7731" y="14857"/>
                </a:lnTo>
                <a:lnTo>
                  <a:pt x="8185" y="16016"/>
                </a:lnTo>
                <a:lnTo>
                  <a:pt x="10459" y="16016"/>
                </a:lnTo>
                <a:lnTo>
                  <a:pt x="11823" y="16437"/>
                </a:lnTo>
                <a:lnTo>
                  <a:pt x="11823" y="17596"/>
                </a:lnTo>
                <a:lnTo>
                  <a:pt x="12505" y="19598"/>
                </a:lnTo>
                <a:lnTo>
                  <a:pt x="12733" y="21600"/>
                </a:lnTo>
                <a:lnTo>
                  <a:pt x="13869" y="21600"/>
                </a:lnTo>
                <a:close/>
                <a:moveTo>
                  <a:pt x="13869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6" name="AutoShape 26"/>
          <p:cNvSpPr/>
          <p:nvPr/>
        </p:nvSpPr>
        <p:spPr>
          <a:xfrm>
            <a:off x="11410920" y="2168640"/>
            <a:ext cx="304920" cy="330120"/>
          </a:xfrm>
          <a:custGeom>
            <a:avLst/>
            <a:gdLst>
              <a:gd name="textAreaLeft" fmla="*/ 0 w 304920"/>
              <a:gd name="textAreaRight" fmla="*/ 305280 w 3049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19575" y="0"/>
                </a:moveTo>
                <a:lnTo>
                  <a:pt x="675" y="5400"/>
                </a:lnTo>
                <a:lnTo>
                  <a:pt x="0" y="11008"/>
                </a:lnTo>
                <a:lnTo>
                  <a:pt x="1350" y="11631"/>
                </a:lnTo>
                <a:lnTo>
                  <a:pt x="2475" y="12669"/>
                </a:lnTo>
                <a:lnTo>
                  <a:pt x="2700" y="14954"/>
                </a:lnTo>
                <a:lnTo>
                  <a:pt x="3825" y="15785"/>
                </a:lnTo>
                <a:lnTo>
                  <a:pt x="4500" y="19108"/>
                </a:lnTo>
                <a:lnTo>
                  <a:pt x="3150" y="20562"/>
                </a:lnTo>
                <a:lnTo>
                  <a:pt x="4950" y="21600"/>
                </a:lnTo>
                <a:lnTo>
                  <a:pt x="8550" y="18277"/>
                </a:lnTo>
                <a:lnTo>
                  <a:pt x="10800" y="15785"/>
                </a:lnTo>
                <a:lnTo>
                  <a:pt x="13725" y="15369"/>
                </a:lnTo>
                <a:lnTo>
                  <a:pt x="17550" y="13292"/>
                </a:lnTo>
                <a:lnTo>
                  <a:pt x="21600" y="11631"/>
                </a:lnTo>
                <a:lnTo>
                  <a:pt x="19575" y="0"/>
                </a:lnTo>
                <a:close/>
                <a:moveTo>
                  <a:pt x="19575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7" name="AutoShape 27"/>
          <p:cNvSpPr/>
          <p:nvPr/>
        </p:nvSpPr>
        <p:spPr>
          <a:xfrm>
            <a:off x="8499600" y="4092480"/>
            <a:ext cx="1730160" cy="6987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40" y="21600"/>
                </a:moveTo>
                <a:lnTo>
                  <a:pt x="5707" y="20913"/>
                </a:lnTo>
                <a:lnTo>
                  <a:pt x="12405" y="18458"/>
                </a:lnTo>
                <a:lnTo>
                  <a:pt x="15140" y="16887"/>
                </a:lnTo>
                <a:lnTo>
                  <a:pt x="15457" y="15316"/>
                </a:lnTo>
                <a:lnTo>
                  <a:pt x="15814" y="14727"/>
                </a:lnTo>
                <a:lnTo>
                  <a:pt x="15853" y="13255"/>
                </a:lnTo>
                <a:lnTo>
                  <a:pt x="16091" y="11782"/>
                </a:lnTo>
                <a:lnTo>
                  <a:pt x="16765" y="11782"/>
                </a:lnTo>
                <a:lnTo>
                  <a:pt x="17280" y="11782"/>
                </a:lnTo>
                <a:lnTo>
                  <a:pt x="17637" y="10996"/>
                </a:lnTo>
                <a:lnTo>
                  <a:pt x="18271" y="9524"/>
                </a:lnTo>
                <a:lnTo>
                  <a:pt x="18310" y="8640"/>
                </a:lnTo>
                <a:lnTo>
                  <a:pt x="18707" y="8444"/>
                </a:lnTo>
                <a:lnTo>
                  <a:pt x="18945" y="7069"/>
                </a:lnTo>
                <a:lnTo>
                  <a:pt x="18945" y="5891"/>
                </a:lnTo>
                <a:lnTo>
                  <a:pt x="19143" y="4320"/>
                </a:lnTo>
                <a:lnTo>
                  <a:pt x="19737" y="3338"/>
                </a:lnTo>
                <a:lnTo>
                  <a:pt x="20252" y="3436"/>
                </a:lnTo>
                <a:lnTo>
                  <a:pt x="20688" y="3927"/>
                </a:lnTo>
                <a:lnTo>
                  <a:pt x="20728" y="2651"/>
                </a:lnTo>
                <a:lnTo>
                  <a:pt x="20966" y="1964"/>
                </a:lnTo>
                <a:lnTo>
                  <a:pt x="21441" y="1571"/>
                </a:lnTo>
                <a:lnTo>
                  <a:pt x="21600" y="0"/>
                </a:lnTo>
                <a:lnTo>
                  <a:pt x="5390" y="5793"/>
                </a:lnTo>
                <a:lnTo>
                  <a:pt x="5271" y="6971"/>
                </a:lnTo>
                <a:lnTo>
                  <a:pt x="5232" y="7560"/>
                </a:lnTo>
                <a:lnTo>
                  <a:pt x="4914" y="7560"/>
                </a:lnTo>
                <a:lnTo>
                  <a:pt x="4399" y="7560"/>
                </a:lnTo>
                <a:lnTo>
                  <a:pt x="4043" y="7756"/>
                </a:lnTo>
                <a:lnTo>
                  <a:pt x="3805" y="8051"/>
                </a:lnTo>
                <a:lnTo>
                  <a:pt x="2695" y="8051"/>
                </a:lnTo>
                <a:lnTo>
                  <a:pt x="2735" y="8640"/>
                </a:lnTo>
                <a:lnTo>
                  <a:pt x="1823" y="8640"/>
                </a:lnTo>
                <a:lnTo>
                  <a:pt x="1427" y="9033"/>
                </a:lnTo>
                <a:lnTo>
                  <a:pt x="1189" y="10211"/>
                </a:lnTo>
                <a:lnTo>
                  <a:pt x="872" y="10898"/>
                </a:lnTo>
                <a:lnTo>
                  <a:pt x="793" y="12175"/>
                </a:lnTo>
                <a:lnTo>
                  <a:pt x="793" y="13353"/>
                </a:lnTo>
                <a:lnTo>
                  <a:pt x="594" y="15415"/>
                </a:lnTo>
                <a:lnTo>
                  <a:pt x="555" y="16789"/>
                </a:lnTo>
                <a:lnTo>
                  <a:pt x="317" y="17967"/>
                </a:lnTo>
                <a:lnTo>
                  <a:pt x="79" y="19244"/>
                </a:lnTo>
                <a:lnTo>
                  <a:pt x="0" y="20520"/>
                </a:lnTo>
                <a:lnTo>
                  <a:pt x="40" y="21600"/>
                </a:lnTo>
                <a:close/>
                <a:moveTo>
                  <a:pt x="4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8" name="AutoShape 28"/>
          <p:cNvSpPr/>
          <p:nvPr/>
        </p:nvSpPr>
        <p:spPr>
          <a:xfrm>
            <a:off x="8940960" y="4699080"/>
            <a:ext cx="819000" cy="12952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670" y="1112"/>
                </a:moveTo>
                <a:lnTo>
                  <a:pt x="14735" y="0"/>
                </a:lnTo>
                <a:lnTo>
                  <a:pt x="18921" y="9529"/>
                </a:lnTo>
                <a:lnTo>
                  <a:pt x="19758" y="10006"/>
                </a:lnTo>
                <a:lnTo>
                  <a:pt x="20595" y="10641"/>
                </a:lnTo>
                <a:lnTo>
                  <a:pt x="21014" y="11382"/>
                </a:lnTo>
                <a:lnTo>
                  <a:pt x="20177" y="11859"/>
                </a:lnTo>
                <a:lnTo>
                  <a:pt x="20177" y="13871"/>
                </a:lnTo>
                <a:lnTo>
                  <a:pt x="21181" y="14559"/>
                </a:lnTo>
                <a:lnTo>
                  <a:pt x="21600" y="15724"/>
                </a:lnTo>
                <a:lnTo>
                  <a:pt x="21600" y="17682"/>
                </a:lnTo>
                <a:lnTo>
                  <a:pt x="8205" y="18688"/>
                </a:lnTo>
                <a:lnTo>
                  <a:pt x="7451" y="18900"/>
                </a:lnTo>
                <a:lnTo>
                  <a:pt x="7953" y="19482"/>
                </a:lnTo>
                <a:lnTo>
                  <a:pt x="8874" y="20224"/>
                </a:lnTo>
                <a:lnTo>
                  <a:pt x="9963" y="20965"/>
                </a:lnTo>
                <a:lnTo>
                  <a:pt x="9126" y="21547"/>
                </a:lnTo>
                <a:lnTo>
                  <a:pt x="7870" y="21600"/>
                </a:lnTo>
                <a:cubicBezTo>
                  <a:pt x="7870" y="21600"/>
                  <a:pt x="7116" y="21176"/>
                  <a:pt x="7116" y="21071"/>
                </a:cubicBezTo>
                <a:cubicBezTo>
                  <a:pt x="7116" y="20965"/>
                  <a:pt x="6447" y="20382"/>
                  <a:pt x="6447" y="20382"/>
                </a:cubicBezTo>
                <a:lnTo>
                  <a:pt x="5274" y="19694"/>
                </a:lnTo>
                <a:lnTo>
                  <a:pt x="4856" y="20118"/>
                </a:lnTo>
                <a:lnTo>
                  <a:pt x="4856" y="20753"/>
                </a:lnTo>
                <a:lnTo>
                  <a:pt x="4437" y="21441"/>
                </a:lnTo>
                <a:lnTo>
                  <a:pt x="3014" y="21600"/>
                </a:lnTo>
                <a:lnTo>
                  <a:pt x="2763" y="20488"/>
                </a:lnTo>
                <a:lnTo>
                  <a:pt x="2512" y="19429"/>
                </a:lnTo>
                <a:lnTo>
                  <a:pt x="1758" y="18476"/>
                </a:lnTo>
                <a:lnTo>
                  <a:pt x="1758" y="17259"/>
                </a:lnTo>
                <a:lnTo>
                  <a:pt x="1340" y="16571"/>
                </a:lnTo>
                <a:lnTo>
                  <a:pt x="921" y="15724"/>
                </a:lnTo>
                <a:lnTo>
                  <a:pt x="502" y="14824"/>
                </a:lnTo>
                <a:lnTo>
                  <a:pt x="0" y="1218"/>
                </a:lnTo>
                <a:lnTo>
                  <a:pt x="670" y="1112"/>
                </a:lnTo>
                <a:close/>
                <a:moveTo>
                  <a:pt x="670" y="111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AutoShape 29"/>
          <p:cNvSpPr/>
          <p:nvPr/>
        </p:nvSpPr>
        <p:spPr>
          <a:xfrm>
            <a:off x="7607160" y="4425840"/>
            <a:ext cx="949320" cy="971640"/>
          </a:xfrm>
          <a:custGeom>
            <a:avLst/>
            <a:gdLst>
              <a:gd name="textAreaLeft" fmla="*/ 0 w 949320"/>
              <a:gd name="textAreaRight" fmla="*/ 949680 w 94932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72" y="706"/>
                </a:moveTo>
                <a:lnTo>
                  <a:pt x="0" y="5082"/>
                </a:lnTo>
                <a:lnTo>
                  <a:pt x="578" y="5224"/>
                </a:lnTo>
                <a:lnTo>
                  <a:pt x="650" y="16729"/>
                </a:lnTo>
                <a:lnTo>
                  <a:pt x="1373" y="17012"/>
                </a:lnTo>
                <a:lnTo>
                  <a:pt x="1806" y="17506"/>
                </a:lnTo>
                <a:lnTo>
                  <a:pt x="2167" y="18071"/>
                </a:lnTo>
                <a:lnTo>
                  <a:pt x="2456" y="18776"/>
                </a:lnTo>
                <a:lnTo>
                  <a:pt x="3034" y="19271"/>
                </a:lnTo>
                <a:lnTo>
                  <a:pt x="3323" y="20118"/>
                </a:lnTo>
                <a:lnTo>
                  <a:pt x="3323" y="21035"/>
                </a:lnTo>
                <a:lnTo>
                  <a:pt x="3395" y="21600"/>
                </a:lnTo>
                <a:lnTo>
                  <a:pt x="18060" y="21529"/>
                </a:lnTo>
                <a:lnTo>
                  <a:pt x="18132" y="17929"/>
                </a:lnTo>
                <a:lnTo>
                  <a:pt x="18132" y="16518"/>
                </a:lnTo>
                <a:lnTo>
                  <a:pt x="17699" y="15600"/>
                </a:lnTo>
                <a:lnTo>
                  <a:pt x="17699" y="14965"/>
                </a:lnTo>
                <a:lnTo>
                  <a:pt x="18132" y="14400"/>
                </a:lnTo>
                <a:lnTo>
                  <a:pt x="18783" y="13765"/>
                </a:lnTo>
                <a:lnTo>
                  <a:pt x="18855" y="12918"/>
                </a:lnTo>
                <a:lnTo>
                  <a:pt x="18927" y="12071"/>
                </a:lnTo>
                <a:lnTo>
                  <a:pt x="18999" y="11224"/>
                </a:lnTo>
                <a:lnTo>
                  <a:pt x="19650" y="10588"/>
                </a:lnTo>
                <a:lnTo>
                  <a:pt x="19938" y="9812"/>
                </a:lnTo>
                <a:lnTo>
                  <a:pt x="20083" y="8965"/>
                </a:lnTo>
                <a:lnTo>
                  <a:pt x="20227" y="8188"/>
                </a:lnTo>
                <a:lnTo>
                  <a:pt x="20300" y="7482"/>
                </a:lnTo>
                <a:lnTo>
                  <a:pt x="20661" y="6141"/>
                </a:lnTo>
                <a:lnTo>
                  <a:pt x="21311" y="4871"/>
                </a:lnTo>
                <a:lnTo>
                  <a:pt x="21528" y="3812"/>
                </a:lnTo>
                <a:lnTo>
                  <a:pt x="21528" y="2824"/>
                </a:lnTo>
                <a:lnTo>
                  <a:pt x="21600" y="1835"/>
                </a:lnTo>
                <a:lnTo>
                  <a:pt x="21383" y="1412"/>
                </a:lnTo>
                <a:lnTo>
                  <a:pt x="20444" y="1129"/>
                </a:lnTo>
                <a:lnTo>
                  <a:pt x="20300" y="0"/>
                </a:lnTo>
                <a:lnTo>
                  <a:pt x="72" y="706"/>
                </a:lnTo>
                <a:close/>
                <a:moveTo>
                  <a:pt x="72" y="70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0" name="AutoShape 30"/>
          <p:cNvSpPr/>
          <p:nvPr/>
        </p:nvSpPr>
        <p:spPr>
          <a:xfrm>
            <a:off x="8334360" y="4778280"/>
            <a:ext cx="720720" cy="131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1600" h="21600">
                <a:moveTo>
                  <a:pt x="18174" y="0"/>
                </a:moveTo>
                <a:lnTo>
                  <a:pt x="5043" y="209"/>
                </a:lnTo>
                <a:lnTo>
                  <a:pt x="4567" y="1096"/>
                </a:lnTo>
                <a:lnTo>
                  <a:pt x="3901" y="2139"/>
                </a:lnTo>
                <a:lnTo>
                  <a:pt x="3045" y="2557"/>
                </a:lnTo>
                <a:lnTo>
                  <a:pt x="3140" y="3287"/>
                </a:lnTo>
                <a:lnTo>
                  <a:pt x="2759" y="4278"/>
                </a:lnTo>
                <a:lnTo>
                  <a:pt x="1903" y="4904"/>
                </a:lnTo>
                <a:lnTo>
                  <a:pt x="1427" y="5583"/>
                </a:lnTo>
                <a:lnTo>
                  <a:pt x="1998" y="6470"/>
                </a:lnTo>
                <a:lnTo>
                  <a:pt x="1903" y="7617"/>
                </a:lnTo>
                <a:lnTo>
                  <a:pt x="1903" y="9757"/>
                </a:lnTo>
                <a:lnTo>
                  <a:pt x="1903" y="10539"/>
                </a:lnTo>
                <a:lnTo>
                  <a:pt x="2189" y="11270"/>
                </a:lnTo>
                <a:lnTo>
                  <a:pt x="2950" y="11739"/>
                </a:lnTo>
                <a:lnTo>
                  <a:pt x="2855" y="12104"/>
                </a:lnTo>
                <a:lnTo>
                  <a:pt x="2759" y="12574"/>
                </a:lnTo>
                <a:lnTo>
                  <a:pt x="2569" y="13409"/>
                </a:lnTo>
                <a:lnTo>
                  <a:pt x="2093" y="14296"/>
                </a:lnTo>
                <a:lnTo>
                  <a:pt x="1618" y="15130"/>
                </a:lnTo>
                <a:lnTo>
                  <a:pt x="1332" y="16330"/>
                </a:lnTo>
                <a:lnTo>
                  <a:pt x="476" y="16748"/>
                </a:lnTo>
                <a:lnTo>
                  <a:pt x="0" y="17322"/>
                </a:lnTo>
                <a:lnTo>
                  <a:pt x="0" y="18000"/>
                </a:lnTo>
                <a:lnTo>
                  <a:pt x="11989" y="17843"/>
                </a:lnTo>
                <a:lnTo>
                  <a:pt x="11989" y="18887"/>
                </a:lnTo>
                <a:lnTo>
                  <a:pt x="11989" y="19565"/>
                </a:lnTo>
                <a:lnTo>
                  <a:pt x="12656" y="20191"/>
                </a:lnTo>
                <a:lnTo>
                  <a:pt x="13512" y="20713"/>
                </a:lnTo>
                <a:lnTo>
                  <a:pt x="14273" y="20974"/>
                </a:lnTo>
                <a:lnTo>
                  <a:pt x="15130" y="21600"/>
                </a:lnTo>
                <a:lnTo>
                  <a:pt x="16271" y="21130"/>
                </a:lnTo>
                <a:lnTo>
                  <a:pt x="17413" y="20504"/>
                </a:lnTo>
                <a:lnTo>
                  <a:pt x="18650" y="20035"/>
                </a:lnTo>
                <a:lnTo>
                  <a:pt x="19697" y="19878"/>
                </a:lnTo>
                <a:lnTo>
                  <a:pt x="20458" y="19930"/>
                </a:lnTo>
                <a:lnTo>
                  <a:pt x="21600" y="19930"/>
                </a:lnTo>
                <a:lnTo>
                  <a:pt x="21600" y="19148"/>
                </a:lnTo>
                <a:lnTo>
                  <a:pt x="21219" y="18313"/>
                </a:lnTo>
                <a:lnTo>
                  <a:pt x="20839" y="17687"/>
                </a:lnTo>
                <a:lnTo>
                  <a:pt x="20173" y="17270"/>
                </a:lnTo>
                <a:lnTo>
                  <a:pt x="20363" y="16904"/>
                </a:lnTo>
                <a:lnTo>
                  <a:pt x="20363" y="16226"/>
                </a:lnTo>
                <a:lnTo>
                  <a:pt x="19792" y="15704"/>
                </a:lnTo>
                <a:lnTo>
                  <a:pt x="19507" y="15026"/>
                </a:lnTo>
                <a:lnTo>
                  <a:pt x="19411" y="14452"/>
                </a:lnTo>
                <a:lnTo>
                  <a:pt x="19126" y="13878"/>
                </a:lnTo>
                <a:lnTo>
                  <a:pt x="18555" y="13357"/>
                </a:lnTo>
                <a:lnTo>
                  <a:pt x="18174" y="0"/>
                </a:lnTo>
                <a:close/>
                <a:moveTo>
                  <a:pt x="1817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1" name="AutoShape 31"/>
          <p:cNvSpPr/>
          <p:nvPr/>
        </p:nvSpPr>
        <p:spPr>
          <a:xfrm>
            <a:off x="7759800" y="5397480"/>
            <a:ext cx="1268280" cy="112716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21540" h="21600">
                <a:moveTo>
                  <a:pt x="16160" y="18254"/>
                </a:moveTo>
                <a:lnTo>
                  <a:pt x="16860" y="18740"/>
                </a:lnTo>
                <a:lnTo>
                  <a:pt x="17345" y="19410"/>
                </a:lnTo>
                <a:lnTo>
                  <a:pt x="18099" y="20079"/>
                </a:lnTo>
                <a:lnTo>
                  <a:pt x="18961" y="20383"/>
                </a:lnTo>
                <a:lnTo>
                  <a:pt x="19930" y="20322"/>
                </a:lnTo>
                <a:lnTo>
                  <a:pt x="20738" y="20505"/>
                </a:lnTo>
                <a:lnTo>
                  <a:pt x="21223" y="21296"/>
                </a:lnTo>
                <a:lnTo>
                  <a:pt x="21492" y="20687"/>
                </a:lnTo>
                <a:cubicBezTo>
                  <a:pt x="21492" y="20687"/>
                  <a:pt x="21600" y="20079"/>
                  <a:pt x="21492" y="20079"/>
                </a:cubicBezTo>
                <a:cubicBezTo>
                  <a:pt x="21385" y="20079"/>
                  <a:pt x="20738" y="19410"/>
                  <a:pt x="20738" y="19410"/>
                </a:cubicBezTo>
                <a:lnTo>
                  <a:pt x="19822" y="19349"/>
                </a:lnTo>
                <a:lnTo>
                  <a:pt x="18961" y="19045"/>
                </a:lnTo>
                <a:lnTo>
                  <a:pt x="18314" y="18497"/>
                </a:lnTo>
                <a:lnTo>
                  <a:pt x="17883" y="18132"/>
                </a:lnTo>
                <a:cubicBezTo>
                  <a:pt x="17883" y="18132"/>
                  <a:pt x="17776" y="17463"/>
                  <a:pt x="17883" y="17402"/>
                </a:cubicBezTo>
                <a:cubicBezTo>
                  <a:pt x="17991" y="17341"/>
                  <a:pt x="18530" y="16672"/>
                  <a:pt x="18530" y="16672"/>
                </a:cubicBezTo>
                <a:lnTo>
                  <a:pt x="19176" y="15881"/>
                </a:lnTo>
                <a:lnTo>
                  <a:pt x="19715" y="15272"/>
                </a:lnTo>
                <a:lnTo>
                  <a:pt x="19176" y="14603"/>
                </a:lnTo>
                <a:lnTo>
                  <a:pt x="18314" y="14603"/>
                </a:lnTo>
                <a:cubicBezTo>
                  <a:pt x="18314" y="14603"/>
                  <a:pt x="17614" y="14907"/>
                  <a:pt x="17668" y="15029"/>
                </a:cubicBezTo>
                <a:cubicBezTo>
                  <a:pt x="17722" y="15150"/>
                  <a:pt x="17614" y="15576"/>
                  <a:pt x="17614" y="15576"/>
                </a:cubicBezTo>
                <a:lnTo>
                  <a:pt x="17021" y="15576"/>
                </a:lnTo>
                <a:lnTo>
                  <a:pt x="16429" y="15029"/>
                </a:lnTo>
                <a:lnTo>
                  <a:pt x="15783" y="14968"/>
                </a:lnTo>
                <a:lnTo>
                  <a:pt x="14975" y="14785"/>
                </a:lnTo>
                <a:lnTo>
                  <a:pt x="14598" y="14055"/>
                </a:lnTo>
                <a:lnTo>
                  <a:pt x="15028" y="13325"/>
                </a:lnTo>
                <a:lnTo>
                  <a:pt x="15783" y="13264"/>
                </a:lnTo>
                <a:lnTo>
                  <a:pt x="16483" y="13629"/>
                </a:lnTo>
                <a:lnTo>
                  <a:pt x="17452" y="13568"/>
                </a:lnTo>
                <a:lnTo>
                  <a:pt x="18099" y="13264"/>
                </a:lnTo>
                <a:lnTo>
                  <a:pt x="17452" y="12352"/>
                </a:lnTo>
                <a:lnTo>
                  <a:pt x="16914" y="11621"/>
                </a:lnTo>
                <a:lnTo>
                  <a:pt x="16429" y="10891"/>
                </a:lnTo>
                <a:lnTo>
                  <a:pt x="16591" y="9066"/>
                </a:lnTo>
                <a:lnTo>
                  <a:pt x="9750" y="9127"/>
                </a:lnTo>
                <a:lnTo>
                  <a:pt x="10073" y="7910"/>
                </a:lnTo>
                <a:lnTo>
                  <a:pt x="10611" y="7119"/>
                </a:lnTo>
                <a:lnTo>
                  <a:pt x="10611" y="5963"/>
                </a:lnTo>
                <a:lnTo>
                  <a:pt x="10827" y="4685"/>
                </a:lnTo>
                <a:lnTo>
                  <a:pt x="11258" y="3225"/>
                </a:lnTo>
                <a:lnTo>
                  <a:pt x="11366" y="2190"/>
                </a:lnTo>
                <a:lnTo>
                  <a:pt x="11366" y="1704"/>
                </a:lnTo>
                <a:cubicBezTo>
                  <a:pt x="11366" y="1704"/>
                  <a:pt x="10827" y="1034"/>
                  <a:pt x="10935" y="974"/>
                </a:cubicBezTo>
                <a:cubicBezTo>
                  <a:pt x="11042" y="913"/>
                  <a:pt x="10719" y="0"/>
                  <a:pt x="10719" y="0"/>
                </a:cubicBezTo>
                <a:lnTo>
                  <a:pt x="0" y="122"/>
                </a:lnTo>
                <a:lnTo>
                  <a:pt x="162" y="4807"/>
                </a:lnTo>
                <a:lnTo>
                  <a:pt x="808" y="5476"/>
                </a:lnTo>
                <a:lnTo>
                  <a:pt x="1077" y="5963"/>
                </a:lnTo>
                <a:lnTo>
                  <a:pt x="1293" y="6510"/>
                </a:lnTo>
                <a:lnTo>
                  <a:pt x="1885" y="7362"/>
                </a:lnTo>
                <a:lnTo>
                  <a:pt x="2208" y="8153"/>
                </a:lnTo>
                <a:lnTo>
                  <a:pt x="2801" y="9066"/>
                </a:lnTo>
                <a:lnTo>
                  <a:pt x="3016" y="9674"/>
                </a:lnTo>
                <a:lnTo>
                  <a:pt x="3070" y="10587"/>
                </a:lnTo>
                <a:lnTo>
                  <a:pt x="2586" y="11439"/>
                </a:lnTo>
                <a:lnTo>
                  <a:pt x="2208" y="12352"/>
                </a:lnTo>
                <a:lnTo>
                  <a:pt x="1939" y="12899"/>
                </a:lnTo>
                <a:lnTo>
                  <a:pt x="1939" y="16002"/>
                </a:lnTo>
                <a:lnTo>
                  <a:pt x="2855" y="15820"/>
                </a:lnTo>
                <a:lnTo>
                  <a:pt x="3717" y="15637"/>
                </a:lnTo>
                <a:lnTo>
                  <a:pt x="4417" y="15698"/>
                </a:lnTo>
                <a:lnTo>
                  <a:pt x="5117" y="16063"/>
                </a:lnTo>
                <a:lnTo>
                  <a:pt x="5602" y="16185"/>
                </a:lnTo>
                <a:lnTo>
                  <a:pt x="6572" y="16732"/>
                </a:lnTo>
                <a:lnTo>
                  <a:pt x="7380" y="17097"/>
                </a:lnTo>
                <a:lnTo>
                  <a:pt x="8241" y="17341"/>
                </a:lnTo>
                <a:lnTo>
                  <a:pt x="8888" y="17706"/>
                </a:lnTo>
                <a:lnTo>
                  <a:pt x="9588" y="18193"/>
                </a:lnTo>
                <a:lnTo>
                  <a:pt x="10396" y="18619"/>
                </a:lnTo>
                <a:lnTo>
                  <a:pt x="10881" y="19227"/>
                </a:lnTo>
                <a:lnTo>
                  <a:pt x="11096" y="18801"/>
                </a:lnTo>
                <a:lnTo>
                  <a:pt x="11096" y="18254"/>
                </a:lnTo>
                <a:lnTo>
                  <a:pt x="10611" y="17828"/>
                </a:lnTo>
                <a:lnTo>
                  <a:pt x="10396" y="17341"/>
                </a:lnTo>
                <a:lnTo>
                  <a:pt x="10288" y="16672"/>
                </a:lnTo>
                <a:lnTo>
                  <a:pt x="10450" y="16124"/>
                </a:lnTo>
                <a:lnTo>
                  <a:pt x="10989" y="16185"/>
                </a:lnTo>
                <a:lnTo>
                  <a:pt x="11635" y="15941"/>
                </a:lnTo>
                <a:lnTo>
                  <a:pt x="12012" y="16367"/>
                </a:lnTo>
                <a:lnTo>
                  <a:pt x="12066" y="16915"/>
                </a:lnTo>
                <a:lnTo>
                  <a:pt x="12120" y="17706"/>
                </a:lnTo>
                <a:lnTo>
                  <a:pt x="12335" y="18558"/>
                </a:lnTo>
                <a:lnTo>
                  <a:pt x="12335" y="19410"/>
                </a:lnTo>
                <a:lnTo>
                  <a:pt x="11689" y="20566"/>
                </a:lnTo>
                <a:lnTo>
                  <a:pt x="12389" y="20809"/>
                </a:lnTo>
                <a:lnTo>
                  <a:pt x="13089" y="20261"/>
                </a:lnTo>
                <a:lnTo>
                  <a:pt x="13682" y="19470"/>
                </a:lnTo>
                <a:lnTo>
                  <a:pt x="14328" y="19227"/>
                </a:lnTo>
                <a:lnTo>
                  <a:pt x="14975" y="19288"/>
                </a:lnTo>
                <a:lnTo>
                  <a:pt x="15459" y="20018"/>
                </a:lnTo>
                <a:lnTo>
                  <a:pt x="15729" y="20566"/>
                </a:lnTo>
                <a:lnTo>
                  <a:pt x="15944" y="20992"/>
                </a:lnTo>
                <a:lnTo>
                  <a:pt x="16160" y="21600"/>
                </a:lnTo>
                <a:lnTo>
                  <a:pt x="16860" y="21478"/>
                </a:lnTo>
                <a:lnTo>
                  <a:pt x="17075" y="20931"/>
                </a:lnTo>
                <a:cubicBezTo>
                  <a:pt x="17075" y="20931"/>
                  <a:pt x="17183" y="20322"/>
                  <a:pt x="17075" y="20322"/>
                </a:cubicBezTo>
                <a:cubicBezTo>
                  <a:pt x="16968" y="20322"/>
                  <a:pt x="16968" y="20018"/>
                  <a:pt x="16806" y="20018"/>
                </a:cubicBezTo>
                <a:cubicBezTo>
                  <a:pt x="16644" y="20018"/>
                  <a:pt x="16052" y="19957"/>
                  <a:pt x="16052" y="19957"/>
                </a:cubicBezTo>
                <a:lnTo>
                  <a:pt x="15944" y="19349"/>
                </a:lnTo>
                <a:lnTo>
                  <a:pt x="15944" y="18740"/>
                </a:lnTo>
                <a:lnTo>
                  <a:pt x="16160" y="18254"/>
                </a:lnTo>
                <a:close/>
                <a:moveTo>
                  <a:pt x="16160" y="182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AutoShape 32"/>
          <p:cNvSpPr/>
          <p:nvPr/>
        </p:nvSpPr>
        <p:spPr>
          <a:xfrm>
            <a:off x="5113440" y="4529160"/>
            <a:ext cx="2824200" cy="274320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15900" y="21600"/>
                </a:moveTo>
                <a:lnTo>
                  <a:pt x="15900" y="21033"/>
                </a:lnTo>
                <a:cubicBezTo>
                  <a:pt x="15900" y="21033"/>
                  <a:pt x="15674" y="20567"/>
                  <a:pt x="15674" y="20500"/>
                </a:cubicBezTo>
                <a:cubicBezTo>
                  <a:pt x="15674" y="20433"/>
                  <a:pt x="15544" y="19767"/>
                  <a:pt x="15544" y="19767"/>
                </a:cubicBezTo>
                <a:lnTo>
                  <a:pt x="15318" y="18967"/>
                </a:lnTo>
                <a:lnTo>
                  <a:pt x="15091" y="18700"/>
                </a:lnTo>
                <a:lnTo>
                  <a:pt x="15285" y="18467"/>
                </a:lnTo>
                <a:lnTo>
                  <a:pt x="15479" y="17700"/>
                </a:lnTo>
                <a:lnTo>
                  <a:pt x="15836" y="17300"/>
                </a:lnTo>
                <a:lnTo>
                  <a:pt x="15965" y="16700"/>
                </a:lnTo>
                <a:lnTo>
                  <a:pt x="16483" y="16333"/>
                </a:lnTo>
                <a:lnTo>
                  <a:pt x="17034" y="16100"/>
                </a:lnTo>
                <a:lnTo>
                  <a:pt x="17552" y="16033"/>
                </a:lnTo>
                <a:lnTo>
                  <a:pt x="17908" y="15733"/>
                </a:lnTo>
                <a:lnTo>
                  <a:pt x="18297" y="15433"/>
                </a:lnTo>
                <a:lnTo>
                  <a:pt x="18718" y="15000"/>
                </a:lnTo>
                <a:lnTo>
                  <a:pt x="19074" y="14467"/>
                </a:lnTo>
                <a:lnTo>
                  <a:pt x="19106" y="14000"/>
                </a:lnTo>
                <a:lnTo>
                  <a:pt x="19398" y="13667"/>
                </a:lnTo>
                <a:lnTo>
                  <a:pt x="19689" y="13733"/>
                </a:lnTo>
                <a:lnTo>
                  <a:pt x="19625" y="14067"/>
                </a:lnTo>
                <a:lnTo>
                  <a:pt x="19948" y="14033"/>
                </a:lnTo>
                <a:lnTo>
                  <a:pt x="20272" y="13767"/>
                </a:lnTo>
                <a:lnTo>
                  <a:pt x="20596" y="13567"/>
                </a:lnTo>
                <a:lnTo>
                  <a:pt x="21049" y="13400"/>
                </a:lnTo>
                <a:lnTo>
                  <a:pt x="21082" y="12133"/>
                </a:lnTo>
                <a:lnTo>
                  <a:pt x="21373" y="11700"/>
                </a:lnTo>
                <a:lnTo>
                  <a:pt x="21535" y="11200"/>
                </a:lnTo>
                <a:lnTo>
                  <a:pt x="21600" y="10867"/>
                </a:lnTo>
                <a:lnTo>
                  <a:pt x="21341" y="10400"/>
                </a:lnTo>
                <a:lnTo>
                  <a:pt x="21082" y="10000"/>
                </a:lnTo>
                <a:lnTo>
                  <a:pt x="20823" y="9600"/>
                </a:lnTo>
                <a:lnTo>
                  <a:pt x="20531" y="9200"/>
                </a:lnTo>
                <a:lnTo>
                  <a:pt x="20337" y="8900"/>
                </a:lnTo>
                <a:lnTo>
                  <a:pt x="20272" y="8467"/>
                </a:lnTo>
                <a:lnTo>
                  <a:pt x="20272" y="8167"/>
                </a:lnTo>
                <a:lnTo>
                  <a:pt x="20272" y="7600"/>
                </a:lnTo>
                <a:lnTo>
                  <a:pt x="20240" y="7100"/>
                </a:lnTo>
                <a:lnTo>
                  <a:pt x="20175" y="6633"/>
                </a:lnTo>
                <a:lnTo>
                  <a:pt x="20078" y="6067"/>
                </a:lnTo>
                <a:lnTo>
                  <a:pt x="19819" y="5633"/>
                </a:lnTo>
                <a:lnTo>
                  <a:pt x="19398" y="5267"/>
                </a:lnTo>
                <a:lnTo>
                  <a:pt x="18945" y="5033"/>
                </a:lnTo>
                <a:lnTo>
                  <a:pt x="18621" y="4833"/>
                </a:lnTo>
                <a:lnTo>
                  <a:pt x="18394" y="4700"/>
                </a:lnTo>
                <a:lnTo>
                  <a:pt x="17973" y="4933"/>
                </a:lnTo>
                <a:lnTo>
                  <a:pt x="17228" y="5133"/>
                </a:lnTo>
                <a:lnTo>
                  <a:pt x="16742" y="5400"/>
                </a:lnTo>
                <a:lnTo>
                  <a:pt x="16289" y="5167"/>
                </a:lnTo>
                <a:lnTo>
                  <a:pt x="15933" y="5133"/>
                </a:lnTo>
                <a:lnTo>
                  <a:pt x="15512" y="5167"/>
                </a:lnTo>
                <a:lnTo>
                  <a:pt x="15026" y="5133"/>
                </a:lnTo>
                <a:lnTo>
                  <a:pt x="14573" y="5133"/>
                </a:lnTo>
                <a:lnTo>
                  <a:pt x="14216" y="4867"/>
                </a:lnTo>
                <a:lnTo>
                  <a:pt x="13828" y="4767"/>
                </a:lnTo>
                <a:lnTo>
                  <a:pt x="13439" y="4800"/>
                </a:lnTo>
                <a:lnTo>
                  <a:pt x="13083" y="4800"/>
                </a:lnTo>
                <a:lnTo>
                  <a:pt x="12824" y="4700"/>
                </a:lnTo>
                <a:lnTo>
                  <a:pt x="12500" y="4533"/>
                </a:lnTo>
                <a:lnTo>
                  <a:pt x="12144" y="4467"/>
                </a:lnTo>
                <a:lnTo>
                  <a:pt x="11852" y="4200"/>
                </a:lnTo>
                <a:lnTo>
                  <a:pt x="11496" y="4133"/>
                </a:lnTo>
                <a:lnTo>
                  <a:pt x="11237" y="4267"/>
                </a:lnTo>
                <a:lnTo>
                  <a:pt x="10913" y="4300"/>
                </a:lnTo>
                <a:lnTo>
                  <a:pt x="10590" y="4067"/>
                </a:lnTo>
                <a:lnTo>
                  <a:pt x="10622" y="33"/>
                </a:lnTo>
                <a:lnTo>
                  <a:pt x="5959" y="0"/>
                </a:lnTo>
                <a:lnTo>
                  <a:pt x="5894" y="9267"/>
                </a:lnTo>
                <a:lnTo>
                  <a:pt x="0" y="9267"/>
                </a:lnTo>
                <a:lnTo>
                  <a:pt x="227" y="9667"/>
                </a:lnTo>
                <a:lnTo>
                  <a:pt x="356" y="9967"/>
                </a:lnTo>
                <a:lnTo>
                  <a:pt x="648" y="10367"/>
                </a:lnTo>
                <a:lnTo>
                  <a:pt x="972" y="10733"/>
                </a:lnTo>
                <a:lnTo>
                  <a:pt x="1231" y="11133"/>
                </a:lnTo>
                <a:lnTo>
                  <a:pt x="1522" y="11700"/>
                </a:lnTo>
                <a:lnTo>
                  <a:pt x="1846" y="12000"/>
                </a:lnTo>
                <a:lnTo>
                  <a:pt x="2137" y="12267"/>
                </a:lnTo>
                <a:lnTo>
                  <a:pt x="2494" y="12533"/>
                </a:lnTo>
                <a:lnTo>
                  <a:pt x="2720" y="12900"/>
                </a:lnTo>
                <a:lnTo>
                  <a:pt x="2882" y="13167"/>
                </a:lnTo>
                <a:lnTo>
                  <a:pt x="3141" y="13633"/>
                </a:lnTo>
                <a:lnTo>
                  <a:pt x="3400" y="14000"/>
                </a:lnTo>
                <a:lnTo>
                  <a:pt x="3757" y="14400"/>
                </a:lnTo>
                <a:lnTo>
                  <a:pt x="4242" y="14867"/>
                </a:lnTo>
                <a:lnTo>
                  <a:pt x="4663" y="15233"/>
                </a:lnTo>
                <a:lnTo>
                  <a:pt x="4890" y="15433"/>
                </a:lnTo>
                <a:lnTo>
                  <a:pt x="4987" y="15033"/>
                </a:lnTo>
                <a:lnTo>
                  <a:pt x="5084" y="14633"/>
                </a:lnTo>
                <a:lnTo>
                  <a:pt x="5408" y="14467"/>
                </a:lnTo>
                <a:lnTo>
                  <a:pt x="5667" y="14467"/>
                </a:lnTo>
                <a:lnTo>
                  <a:pt x="5926" y="14467"/>
                </a:lnTo>
                <a:lnTo>
                  <a:pt x="6282" y="14167"/>
                </a:lnTo>
                <a:lnTo>
                  <a:pt x="6477" y="13867"/>
                </a:lnTo>
                <a:lnTo>
                  <a:pt x="6671" y="13700"/>
                </a:lnTo>
                <a:lnTo>
                  <a:pt x="7027" y="13667"/>
                </a:lnTo>
                <a:lnTo>
                  <a:pt x="7384" y="13733"/>
                </a:lnTo>
                <a:lnTo>
                  <a:pt x="7740" y="13733"/>
                </a:lnTo>
                <a:lnTo>
                  <a:pt x="8031" y="13667"/>
                </a:lnTo>
                <a:lnTo>
                  <a:pt x="8323" y="13800"/>
                </a:lnTo>
                <a:lnTo>
                  <a:pt x="8646" y="13933"/>
                </a:lnTo>
                <a:lnTo>
                  <a:pt x="8906" y="14300"/>
                </a:lnTo>
                <a:lnTo>
                  <a:pt x="8970" y="14900"/>
                </a:lnTo>
                <a:lnTo>
                  <a:pt x="9359" y="15500"/>
                </a:lnTo>
                <a:lnTo>
                  <a:pt x="9650" y="15867"/>
                </a:lnTo>
                <a:lnTo>
                  <a:pt x="9812" y="16300"/>
                </a:lnTo>
                <a:lnTo>
                  <a:pt x="9974" y="16733"/>
                </a:lnTo>
                <a:lnTo>
                  <a:pt x="10330" y="16967"/>
                </a:lnTo>
                <a:lnTo>
                  <a:pt x="10622" y="17300"/>
                </a:lnTo>
                <a:lnTo>
                  <a:pt x="11043" y="17633"/>
                </a:lnTo>
                <a:lnTo>
                  <a:pt x="11270" y="17933"/>
                </a:lnTo>
                <a:lnTo>
                  <a:pt x="11529" y="18467"/>
                </a:lnTo>
                <a:lnTo>
                  <a:pt x="11852" y="18967"/>
                </a:lnTo>
                <a:lnTo>
                  <a:pt x="12209" y="19367"/>
                </a:lnTo>
                <a:lnTo>
                  <a:pt x="12371" y="19633"/>
                </a:lnTo>
                <a:lnTo>
                  <a:pt x="12662" y="19933"/>
                </a:lnTo>
                <a:lnTo>
                  <a:pt x="13115" y="20167"/>
                </a:lnTo>
                <a:lnTo>
                  <a:pt x="13407" y="20500"/>
                </a:lnTo>
                <a:lnTo>
                  <a:pt x="13634" y="20733"/>
                </a:lnTo>
                <a:lnTo>
                  <a:pt x="13828" y="20933"/>
                </a:lnTo>
                <a:lnTo>
                  <a:pt x="14216" y="21033"/>
                </a:lnTo>
                <a:lnTo>
                  <a:pt x="14443" y="21100"/>
                </a:lnTo>
                <a:lnTo>
                  <a:pt x="14799" y="21233"/>
                </a:lnTo>
                <a:lnTo>
                  <a:pt x="15058" y="21400"/>
                </a:lnTo>
                <a:lnTo>
                  <a:pt x="15447" y="21567"/>
                </a:lnTo>
                <a:lnTo>
                  <a:pt x="15900" y="21600"/>
                </a:lnTo>
                <a:close/>
                <a:moveTo>
                  <a:pt x="159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3" name="AutoShape 33"/>
          <p:cNvSpPr/>
          <p:nvPr/>
        </p:nvSpPr>
        <p:spPr>
          <a:xfrm>
            <a:off x="7318440" y="3454560"/>
            <a:ext cx="1336680" cy="101592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1600" h="21600">
                <a:moveTo>
                  <a:pt x="11133" y="0"/>
                </a:moveTo>
                <a:lnTo>
                  <a:pt x="11595" y="405"/>
                </a:lnTo>
                <a:lnTo>
                  <a:pt x="12108" y="675"/>
                </a:lnTo>
                <a:lnTo>
                  <a:pt x="12621" y="1418"/>
                </a:lnTo>
                <a:lnTo>
                  <a:pt x="12775" y="1958"/>
                </a:lnTo>
                <a:lnTo>
                  <a:pt x="12878" y="2903"/>
                </a:lnTo>
                <a:lnTo>
                  <a:pt x="13083" y="3578"/>
                </a:lnTo>
                <a:lnTo>
                  <a:pt x="13750" y="4320"/>
                </a:lnTo>
                <a:lnTo>
                  <a:pt x="14263" y="5333"/>
                </a:lnTo>
                <a:lnTo>
                  <a:pt x="14981" y="6210"/>
                </a:lnTo>
                <a:lnTo>
                  <a:pt x="15648" y="7020"/>
                </a:lnTo>
                <a:lnTo>
                  <a:pt x="16264" y="7493"/>
                </a:lnTo>
                <a:lnTo>
                  <a:pt x="16931" y="8033"/>
                </a:lnTo>
                <a:lnTo>
                  <a:pt x="17239" y="8775"/>
                </a:lnTo>
                <a:lnTo>
                  <a:pt x="17393" y="9383"/>
                </a:lnTo>
                <a:lnTo>
                  <a:pt x="18265" y="9518"/>
                </a:lnTo>
                <a:lnTo>
                  <a:pt x="18368" y="9990"/>
                </a:lnTo>
                <a:lnTo>
                  <a:pt x="18060" y="10598"/>
                </a:lnTo>
                <a:lnTo>
                  <a:pt x="17957" y="11408"/>
                </a:lnTo>
                <a:lnTo>
                  <a:pt x="18009" y="12218"/>
                </a:lnTo>
                <a:lnTo>
                  <a:pt x="18676" y="13095"/>
                </a:lnTo>
                <a:lnTo>
                  <a:pt x="19496" y="14445"/>
                </a:lnTo>
                <a:lnTo>
                  <a:pt x="20369" y="15255"/>
                </a:lnTo>
                <a:lnTo>
                  <a:pt x="20984" y="16335"/>
                </a:lnTo>
                <a:lnTo>
                  <a:pt x="21190" y="17145"/>
                </a:lnTo>
                <a:lnTo>
                  <a:pt x="21600" y="17955"/>
                </a:lnTo>
                <a:lnTo>
                  <a:pt x="21600" y="18900"/>
                </a:lnTo>
                <a:lnTo>
                  <a:pt x="21549" y="19440"/>
                </a:lnTo>
                <a:lnTo>
                  <a:pt x="20984" y="19710"/>
                </a:lnTo>
                <a:lnTo>
                  <a:pt x="20728" y="20048"/>
                </a:lnTo>
                <a:lnTo>
                  <a:pt x="20471" y="20588"/>
                </a:lnTo>
                <a:lnTo>
                  <a:pt x="20215" y="21398"/>
                </a:lnTo>
                <a:lnTo>
                  <a:pt x="19599" y="21533"/>
                </a:lnTo>
                <a:lnTo>
                  <a:pt x="19240" y="21600"/>
                </a:lnTo>
                <a:lnTo>
                  <a:pt x="19086" y="20520"/>
                </a:lnTo>
                <a:lnTo>
                  <a:pt x="4515" y="21128"/>
                </a:lnTo>
                <a:lnTo>
                  <a:pt x="4464" y="7830"/>
                </a:lnTo>
                <a:lnTo>
                  <a:pt x="3848" y="7358"/>
                </a:lnTo>
                <a:lnTo>
                  <a:pt x="3130" y="6885"/>
                </a:lnTo>
                <a:lnTo>
                  <a:pt x="2822" y="6480"/>
                </a:lnTo>
                <a:lnTo>
                  <a:pt x="2463" y="6143"/>
                </a:lnTo>
                <a:lnTo>
                  <a:pt x="2463" y="5265"/>
                </a:lnTo>
                <a:lnTo>
                  <a:pt x="2617" y="4590"/>
                </a:lnTo>
                <a:lnTo>
                  <a:pt x="2822" y="3915"/>
                </a:lnTo>
                <a:lnTo>
                  <a:pt x="2976" y="3443"/>
                </a:lnTo>
                <a:lnTo>
                  <a:pt x="2309" y="3443"/>
                </a:lnTo>
                <a:lnTo>
                  <a:pt x="1693" y="3443"/>
                </a:lnTo>
                <a:lnTo>
                  <a:pt x="1026" y="3038"/>
                </a:lnTo>
                <a:lnTo>
                  <a:pt x="0" y="0"/>
                </a:lnTo>
                <a:lnTo>
                  <a:pt x="11133" y="0"/>
                </a:lnTo>
                <a:close/>
                <a:moveTo>
                  <a:pt x="1113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4" name="AutoShape 34"/>
          <p:cNvSpPr/>
          <p:nvPr/>
        </p:nvSpPr>
        <p:spPr>
          <a:xfrm>
            <a:off x="11204640" y="2505240"/>
            <a:ext cx="260280" cy="568080"/>
          </a:xfrm>
          <a:custGeom>
            <a:avLst/>
            <a:gdLst>
              <a:gd name="textAreaLeft" fmla="*/ 0 w 260280"/>
              <a:gd name="textAreaRight" fmla="*/ 260640 w 2602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1600" h="21600">
                <a:moveTo>
                  <a:pt x="2107" y="0"/>
                </a:moveTo>
                <a:lnTo>
                  <a:pt x="1580" y="2051"/>
                </a:lnTo>
                <a:lnTo>
                  <a:pt x="263" y="3258"/>
                </a:lnTo>
                <a:lnTo>
                  <a:pt x="0" y="4706"/>
                </a:lnTo>
                <a:lnTo>
                  <a:pt x="0" y="6034"/>
                </a:lnTo>
                <a:lnTo>
                  <a:pt x="2371" y="7361"/>
                </a:lnTo>
                <a:lnTo>
                  <a:pt x="5532" y="8447"/>
                </a:lnTo>
                <a:lnTo>
                  <a:pt x="7112" y="9292"/>
                </a:lnTo>
                <a:lnTo>
                  <a:pt x="8956" y="10378"/>
                </a:lnTo>
                <a:lnTo>
                  <a:pt x="7376" y="11222"/>
                </a:lnTo>
                <a:lnTo>
                  <a:pt x="6322" y="12067"/>
                </a:lnTo>
                <a:lnTo>
                  <a:pt x="4215" y="13636"/>
                </a:lnTo>
                <a:lnTo>
                  <a:pt x="3688" y="15084"/>
                </a:lnTo>
                <a:lnTo>
                  <a:pt x="3951" y="16894"/>
                </a:lnTo>
                <a:lnTo>
                  <a:pt x="5795" y="17980"/>
                </a:lnTo>
                <a:lnTo>
                  <a:pt x="10010" y="18342"/>
                </a:lnTo>
                <a:lnTo>
                  <a:pt x="14488" y="18583"/>
                </a:lnTo>
                <a:lnTo>
                  <a:pt x="16068" y="19549"/>
                </a:lnTo>
                <a:lnTo>
                  <a:pt x="16595" y="21600"/>
                </a:lnTo>
                <a:lnTo>
                  <a:pt x="18702" y="20152"/>
                </a:lnTo>
                <a:lnTo>
                  <a:pt x="18702" y="18825"/>
                </a:lnTo>
                <a:lnTo>
                  <a:pt x="19493" y="16170"/>
                </a:lnTo>
                <a:lnTo>
                  <a:pt x="21073" y="15084"/>
                </a:lnTo>
                <a:lnTo>
                  <a:pt x="21600" y="7844"/>
                </a:lnTo>
                <a:lnTo>
                  <a:pt x="17385" y="7844"/>
                </a:lnTo>
                <a:lnTo>
                  <a:pt x="17649" y="6637"/>
                </a:lnTo>
                <a:lnTo>
                  <a:pt x="20020" y="5068"/>
                </a:lnTo>
                <a:lnTo>
                  <a:pt x="20283" y="3741"/>
                </a:lnTo>
                <a:lnTo>
                  <a:pt x="20020" y="2051"/>
                </a:lnTo>
                <a:lnTo>
                  <a:pt x="2107" y="0"/>
                </a:lnTo>
                <a:close/>
                <a:moveTo>
                  <a:pt x="210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5" name="AutoShape 35"/>
          <p:cNvSpPr/>
          <p:nvPr/>
        </p:nvSpPr>
        <p:spPr>
          <a:xfrm>
            <a:off x="11179080" y="2895480"/>
            <a:ext cx="327240" cy="400320"/>
          </a:xfrm>
          <a:custGeom>
            <a:avLst/>
            <a:gdLst>
              <a:gd name="textAreaLeft" fmla="*/ 0 w 327240"/>
              <a:gd name="textAreaRight" fmla="*/ 327600 w 32724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21420" h="21600">
                <a:moveTo>
                  <a:pt x="4362" y="0"/>
                </a:moveTo>
                <a:lnTo>
                  <a:pt x="0" y="343"/>
                </a:lnTo>
                <a:lnTo>
                  <a:pt x="1454" y="4286"/>
                </a:lnTo>
                <a:lnTo>
                  <a:pt x="4362" y="7371"/>
                </a:lnTo>
                <a:lnTo>
                  <a:pt x="13500" y="21600"/>
                </a:lnTo>
                <a:lnTo>
                  <a:pt x="20562" y="20229"/>
                </a:lnTo>
                <a:cubicBezTo>
                  <a:pt x="20562" y="20229"/>
                  <a:pt x="21600" y="19029"/>
                  <a:pt x="21392" y="18686"/>
                </a:cubicBezTo>
                <a:cubicBezTo>
                  <a:pt x="21185" y="18343"/>
                  <a:pt x="18069" y="16286"/>
                  <a:pt x="18069" y="16286"/>
                </a:cubicBezTo>
                <a:lnTo>
                  <a:pt x="15162" y="14914"/>
                </a:lnTo>
                <a:lnTo>
                  <a:pt x="12462" y="13543"/>
                </a:lnTo>
                <a:lnTo>
                  <a:pt x="11008" y="11486"/>
                </a:lnTo>
                <a:lnTo>
                  <a:pt x="10177" y="8400"/>
                </a:lnTo>
                <a:lnTo>
                  <a:pt x="8931" y="7543"/>
                </a:lnTo>
                <a:lnTo>
                  <a:pt x="6646" y="6171"/>
                </a:lnTo>
                <a:lnTo>
                  <a:pt x="6023" y="4800"/>
                </a:lnTo>
                <a:lnTo>
                  <a:pt x="4985" y="3429"/>
                </a:lnTo>
                <a:lnTo>
                  <a:pt x="4777" y="1543"/>
                </a:lnTo>
                <a:lnTo>
                  <a:pt x="4362" y="0"/>
                </a:lnTo>
                <a:close/>
                <a:moveTo>
                  <a:pt x="436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6" name="AutoShape 36"/>
          <p:cNvSpPr/>
          <p:nvPr/>
        </p:nvSpPr>
        <p:spPr>
          <a:xfrm>
            <a:off x="10522080" y="2911320"/>
            <a:ext cx="981000" cy="549360"/>
          </a:xfrm>
          <a:custGeom>
            <a:avLst/>
            <a:gdLst>
              <a:gd name="textAreaLeft" fmla="*/ 0 w 981000"/>
              <a:gd name="textAreaRight" fmla="*/ 981360 w 981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489" y="11362"/>
                </a:moveTo>
                <a:lnTo>
                  <a:pt x="3216" y="7491"/>
                </a:lnTo>
                <a:lnTo>
                  <a:pt x="4614" y="7991"/>
                </a:lnTo>
                <a:lnTo>
                  <a:pt x="5383" y="6368"/>
                </a:lnTo>
                <a:lnTo>
                  <a:pt x="6151" y="5993"/>
                </a:lnTo>
                <a:lnTo>
                  <a:pt x="7130" y="7242"/>
                </a:lnTo>
                <a:lnTo>
                  <a:pt x="7899" y="7741"/>
                </a:lnTo>
                <a:lnTo>
                  <a:pt x="8668" y="8365"/>
                </a:lnTo>
                <a:lnTo>
                  <a:pt x="9856" y="8740"/>
                </a:lnTo>
                <a:lnTo>
                  <a:pt x="10276" y="9864"/>
                </a:lnTo>
                <a:lnTo>
                  <a:pt x="10625" y="11861"/>
                </a:lnTo>
                <a:lnTo>
                  <a:pt x="11534" y="12486"/>
                </a:lnTo>
                <a:lnTo>
                  <a:pt x="12163" y="13360"/>
                </a:lnTo>
                <a:lnTo>
                  <a:pt x="12652" y="15232"/>
                </a:lnTo>
                <a:lnTo>
                  <a:pt x="12652" y="17105"/>
                </a:lnTo>
                <a:lnTo>
                  <a:pt x="12652" y="19977"/>
                </a:lnTo>
                <a:lnTo>
                  <a:pt x="13561" y="20851"/>
                </a:lnTo>
                <a:lnTo>
                  <a:pt x="14819" y="20976"/>
                </a:lnTo>
                <a:lnTo>
                  <a:pt x="15029" y="19353"/>
                </a:lnTo>
                <a:lnTo>
                  <a:pt x="15029" y="17105"/>
                </a:lnTo>
                <a:lnTo>
                  <a:pt x="14610" y="15732"/>
                </a:lnTo>
                <a:lnTo>
                  <a:pt x="13771" y="13984"/>
                </a:lnTo>
                <a:lnTo>
                  <a:pt x="13771" y="11986"/>
                </a:lnTo>
                <a:lnTo>
                  <a:pt x="13072" y="10113"/>
                </a:lnTo>
                <a:lnTo>
                  <a:pt x="12373" y="8615"/>
                </a:lnTo>
                <a:lnTo>
                  <a:pt x="12722" y="6492"/>
                </a:lnTo>
                <a:lnTo>
                  <a:pt x="13212" y="4620"/>
                </a:lnTo>
                <a:lnTo>
                  <a:pt x="13841" y="3246"/>
                </a:lnTo>
                <a:lnTo>
                  <a:pt x="14190" y="3746"/>
                </a:lnTo>
                <a:lnTo>
                  <a:pt x="14330" y="5119"/>
                </a:lnTo>
                <a:lnTo>
                  <a:pt x="14540" y="6617"/>
                </a:lnTo>
                <a:lnTo>
                  <a:pt x="14610" y="8490"/>
                </a:lnTo>
                <a:lnTo>
                  <a:pt x="15099" y="9864"/>
                </a:lnTo>
                <a:lnTo>
                  <a:pt x="15518" y="11112"/>
                </a:lnTo>
                <a:lnTo>
                  <a:pt x="16217" y="11612"/>
                </a:lnTo>
                <a:lnTo>
                  <a:pt x="16847" y="12860"/>
                </a:lnTo>
                <a:lnTo>
                  <a:pt x="16497" y="14234"/>
                </a:lnTo>
                <a:lnTo>
                  <a:pt x="16287" y="15607"/>
                </a:lnTo>
                <a:lnTo>
                  <a:pt x="16567" y="16980"/>
                </a:lnTo>
                <a:lnTo>
                  <a:pt x="17546" y="17480"/>
                </a:lnTo>
                <a:lnTo>
                  <a:pt x="18524" y="17605"/>
                </a:lnTo>
                <a:lnTo>
                  <a:pt x="18874" y="18728"/>
                </a:lnTo>
                <a:lnTo>
                  <a:pt x="19293" y="20476"/>
                </a:lnTo>
                <a:lnTo>
                  <a:pt x="20062" y="21600"/>
                </a:lnTo>
                <a:lnTo>
                  <a:pt x="20971" y="20726"/>
                </a:lnTo>
                <a:lnTo>
                  <a:pt x="21530" y="20227"/>
                </a:lnTo>
                <a:lnTo>
                  <a:pt x="21460" y="17979"/>
                </a:lnTo>
                <a:lnTo>
                  <a:pt x="21530" y="15108"/>
                </a:lnTo>
                <a:lnTo>
                  <a:pt x="21600" y="13609"/>
                </a:lnTo>
                <a:lnTo>
                  <a:pt x="20901" y="14109"/>
                </a:lnTo>
                <a:lnTo>
                  <a:pt x="19153" y="14858"/>
                </a:lnTo>
                <a:lnTo>
                  <a:pt x="14330" y="0"/>
                </a:lnTo>
                <a:lnTo>
                  <a:pt x="0" y="7366"/>
                </a:lnTo>
                <a:lnTo>
                  <a:pt x="489" y="11362"/>
                </a:lnTo>
                <a:close/>
                <a:moveTo>
                  <a:pt x="489" y="1136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AutoShape 37"/>
          <p:cNvSpPr/>
          <p:nvPr/>
        </p:nvSpPr>
        <p:spPr>
          <a:xfrm>
            <a:off x="9213840" y="5664240"/>
            <a:ext cx="1847880" cy="139068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390680"/>
              <a:gd name="textAreaBottom" fmla="*/ 1390680 h 1390680"/>
            </a:gdLst>
            <a:ahLst/>
            <a:rect l="textAreaLeft" t="textAreaTop" r="textAreaRight" b="textAreaBottom"/>
            <a:pathLst>
              <a:path w="21600" h="21600">
                <a:moveTo>
                  <a:pt x="186" y="2466"/>
                </a:moveTo>
                <a:lnTo>
                  <a:pt x="6458" y="1479"/>
                </a:lnTo>
                <a:lnTo>
                  <a:pt x="6643" y="1627"/>
                </a:lnTo>
                <a:lnTo>
                  <a:pt x="13732" y="937"/>
                </a:lnTo>
                <a:lnTo>
                  <a:pt x="13843" y="1381"/>
                </a:lnTo>
                <a:lnTo>
                  <a:pt x="14214" y="1332"/>
                </a:lnTo>
                <a:lnTo>
                  <a:pt x="14437" y="986"/>
                </a:lnTo>
                <a:lnTo>
                  <a:pt x="14029" y="493"/>
                </a:lnTo>
                <a:lnTo>
                  <a:pt x="14177" y="49"/>
                </a:lnTo>
                <a:lnTo>
                  <a:pt x="15402" y="0"/>
                </a:lnTo>
                <a:lnTo>
                  <a:pt x="15476" y="740"/>
                </a:lnTo>
                <a:lnTo>
                  <a:pt x="15699" y="1529"/>
                </a:lnTo>
                <a:lnTo>
                  <a:pt x="15847" y="2416"/>
                </a:lnTo>
                <a:lnTo>
                  <a:pt x="16330" y="3156"/>
                </a:lnTo>
                <a:lnTo>
                  <a:pt x="16775" y="3748"/>
                </a:lnTo>
                <a:lnTo>
                  <a:pt x="17035" y="4389"/>
                </a:lnTo>
                <a:lnTo>
                  <a:pt x="17295" y="4882"/>
                </a:lnTo>
                <a:lnTo>
                  <a:pt x="17518" y="5474"/>
                </a:lnTo>
                <a:lnTo>
                  <a:pt x="17963" y="6066"/>
                </a:lnTo>
                <a:lnTo>
                  <a:pt x="18223" y="6608"/>
                </a:lnTo>
                <a:lnTo>
                  <a:pt x="18705" y="6756"/>
                </a:lnTo>
                <a:lnTo>
                  <a:pt x="18779" y="7151"/>
                </a:lnTo>
                <a:cubicBezTo>
                  <a:pt x="18779" y="7151"/>
                  <a:pt x="19113" y="8137"/>
                  <a:pt x="19076" y="8236"/>
                </a:cubicBezTo>
                <a:cubicBezTo>
                  <a:pt x="19039" y="8334"/>
                  <a:pt x="19039" y="9025"/>
                  <a:pt x="19039" y="9025"/>
                </a:cubicBezTo>
                <a:lnTo>
                  <a:pt x="19410" y="9715"/>
                </a:lnTo>
                <a:lnTo>
                  <a:pt x="20487" y="12033"/>
                </a:lnTo>
                <a:lnTo>
                  <a:pt x="20524" y="12723"/>
                </a:lnTo>
                <a:lnTo>
                  <a:pt x="20858" y="13759"/>
                </a:lnTo>
                <a:lnTo>
                  <a:pt x="21192" y="14893"/>
                </a:lnTo>
                <a:lnTo>
                  <a:pt x="21229" y="16126"/>
                </a:lnTo>
                <a:lnTo>
                  <a:pt x="21452" y="16718"/>
                </a:lnTo>
                <a:lnTo>
                  <a:pt x="21563" y="17359"/>
                </a:lnTo>
                <a:lnTo>
                  <a:pt x="21600" y="18296"/>
                </a:lnTo>
                <a:lnTo>
                  <a:pt x="21340" y="18789"/>
                </a:lnTo>
                <a:lnTo>
                  <a:pt x="20932" y="19627"/>
                </a:lnTo>
                <a:lnTo>
                  <a:pt x="20932" y="20219"/>
                </a:lnTo>
                <a:lnTo>
                  <a:pt x="20895" y="20811"/>
                </a:lnTo>
                <a:lnTo>
                  <a:pt x="20487" y="21156"/>
                </a:lnTo>
                <a:lnTo>
                  <a:pt x="20153" y="21353"/>
                </a:lnTo>
                <a:lnTo>
                  <a:pt x="19670" y="21452"/>
                </a:lnTo>
                <a:lnTo>
                  <a:pt x="19299" y="21600"/>
                </a:lnTo>
                <a:lnTo>
                  <a:pt x="19188" y="21255"/>
                </a:lnTo>
                <a:lnTo>
                  <a:pt x="19002" y="20614"/>
                </a:lnTo>
                <a:lnTo>
                  <a:pt x="18594" y="20219"/>
                </a:lnTo>
                <a:lnTo>
                  <a:pt x="18223" y="19825"/>
                </a:lnTo>
                <a:lnTo>
                  <a:pt x="17518" y="19282"/>
                </a:lnTo>
                <a:lnTo>
                  <a:pt x="17072" y="19233"/>
                </a:lnTo>
                <a:lnTo>
                  <a:pt x="16664" y="18690"/>
                </a:lnTo>
                <a:lnTo>
                  <a:pt x="16256" y="18099"/>
                </a:lnTo>
                <a:lnTo>
                  <a:pt x="16256" y="17605"/>
                </a:lnTo>
                <a:lnTo>
                  <a:pt x="16219" y="17063"/>
                </a:lnTo>
                <a:lnTo>
                  <a:pt x="15922" y="16373"/>
                </a:lnTo>
                <a:lnTo>
                  <a:pt x="15551" y="15978"/>
                </a:lnTo>
                <a:lnTo>
                  <a:pt x="15179" y="15830"/>
                </a:lnTo>
                <a:lnTo>
                  <a:pt x="15031" y="15337"/>
                </a:lnTo>
                <a:lnTo>
                  <a:pt x="15031" y="14844"/>
                </a:lnTo>
                <a:lnTo>
                  <a:pt x="14808" y="14499"/>
                </a:lnTo>
                <a:lnTo>
                  <a:pt x="14437" y="14153"/>
                </a:lnTo>
                <a:lnTo>
                  <a:pt x="14177" y="13907"/>
                </a:lnTo>
                <a:lnTo>
                  <a:pt x="14029" y="13364"/>
                </a:lnTo>
                <a:lnTo>
                  <a:pt x="14029" y="12871"/>
                </a:lnTo>
                <a:lnTo>
                  <a:pt x="13992" y="12477"/>
                </a:lnTo>
                <a:lnTo>
                  <a:pt x="13695" y="12033"/>
                </a:lnTo>
                <a:lnTo>
                  <a:pt x="13361" y="11688"/>
                </a:lnTo>
                <a:lnTo>
                  <a:pt x="13287" y="11195"/>
                </a:lnTo>
                <a:lnTo>
                  <a:pt x="13101" y="10652"/>
                </a:lnTo>
                <a:lnTo>
                  <a:pt x="12767" y="10307"/>
                </a:lnTo>
                <a:lnTo>
                  <a:pt x="12767" y="9715"/>
                </a:lnTo>
                <a:lnTo>
                  <a:pt x="12841" y="9173"/>
                </a:lnTo>
                <a:lnTo>
                  <a:pt x="12841" y="8433"/>
                </a:lnTo>
                <a:cubicBezTo>
                  <a:pt x="12841" y="8433"/>
                  <a:pt x="13212" y="7841"/>
                  <a:pt x="13138" y="7841"/>
                </a:cubicBezTo>
                <a:cubicBezTo>
                  <a:pt x="13064" y="7841"/>
                  <a:pt x="12953" y="7249"/>
                  <a:pt x="12953" y="7249"/>
                </a:cubicBezTo>
                <a:lnTo>
                  <a:pt x="12730" y="6658"/>
                </a:lnTo>
                <a:lnTo>
                  <a:pt x="12544" y="6312"/>
                </a:lnTo>
                <a:lnTo>
                  <a:pt x="12396" y="5770"/>
                </a:lnTo>
                <a:lnTo>
                  <a:pt x="12210" y="5375"/>
                </a:lnTo>
                <a:lnTo>
                  <a:pt x="11876" y="5375"/>
                </a:lnTo>
                <a:lnTo>
                  <a:pt x="11394" y="5375"/>
                </a:lnTo>
                <a:lnTo>
                  <a:pt x="10948" y="5425"/>
                </a:lnTo>
                <a:cubicBezTo>
                  <a:pt x="10948" y="5425"/>
                  <a:pt x="10614" y="5129"/>
                  <a:pt x="10652" y="5030"/>
                </a:cubicBezTo>
                <a:cubicBezTo>
                  <a:pt x="10689" y="4932"/>
                  <a:pt x="10503" y="4389"/>
                  <a:pt x="10503" y="4389"/>
                </a:cubicBezTo>
                <a:lnTo>
                  <a:pt x="10355" y="4142"/>
                </a:lnTo>
                <a:lnTo>
                  <a:pt x="10058" y="3600"/>
                </a:lnTo>
                <a:lnTo>
                  <a:pt x="9761" y="3699"/>
                </a:lnTo>
                <a:lnTo>
                  <a:pt x="9278" y="3847"/>
                </a:lnTo>
                <a:lnTo>
                  <a:pt x="8759" y="4044"/>
                </a:lnTo>
                <a:lnTo>
                  <a:pt x="8239" y="4192"/>
                </a:lnTo>
                <a:lnTo>
                  <a:pt x="7979" y="4784"/>
                </a:lnTo>
                <a:lnTo>
                  <a:pt x="7645" y="5375"/>
                </a:lnTo>
                <a:lnTo>
                  <a:pt x="6903" y="5523"/>
                </a:lnTo>
                <a:lnTo>
                  <a:pt x="6346" y="5721"/>
                </a:lnTo>
                <a:lnTo>
                  <a:pt x="5715" y="5326"/>
                </a:lnTo>
                <a:lnTo>
                  <a:pt x="5381" y="4685"/>
                </a:lnTo>
                <a:lnTo>
                  <a:pt x="5010" y="4340"/>
                </a:lnTo>
                <a:lnTo>
                  <a:pt x="4491" y="3995"/>
                </a:lnTo>
                <a:lnTo>
                  <a:pt x="4082" y="3995"/>
                </a:lnTo>
                <a:lnTo>
                  <a:pt x="3786" y="3600"/>
                </a:lnTo>
                <a:lnTo>
                  <a:pt x="3489" y="3304"/>
                </a:lnTo>
                <a:lnTo>
                  <a:pt x="3006" y="3304"/>
                </a:lnTo>
                <a:lnTo>
                  <a:pt x="2635" y="3748"/>
                </a:lnTo>
                <a:lnTo>
                  <a:pt x="2190" y="3896"/>
                </a:lnTo>
                <a:cubicBezTo>
                  <a:pt x="2190" y="3896"/>
                  <a:pt x="1002" y="4290"/>
                  <a:pt x="1076" y="4290"/>
                </a:cubicBezTo>
                <a:cubicBezTo>
                  <a:pt x="1151" y="4290"/>
                  <a:pt x="0" y="2416"/>
                  <a:pt x="0" y="2416"/>
                </a:cubicBezTo>
                <a:lnTo>
                  <a:pt x="186" y="2466"/>
                </a:lnTo>
                <a:close/>
                <a:moveTo>
                  <a:pt x="186" y="246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8" name="AutoShape 38"/>
          <p:cNvSpPr/>
          <p:nvPr/>
        </p:nvSpPr>
        <p:spPr>
          <a:xfrm>
            <a:off x="9505800" y="4600440"/>
            <a:ext cx="1086120" cy="1162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1770"/>
                </a:moveTo>
                <a:lnTo>
                  <a:pt x="9032" y="0"/>
                </a:lnTo>
                <a:lnTo>
                  <a:pt x="9032" y="1121"/>
                </a:lnTo>
                <a:lnTo>
                  <a:pt x="9347" y="1711"/>
                </a:lnTo>
                <a:lnTo>
                  <a:pt x="10295" y="1948"/>
                </a:lnTo>
                <a:lnTo>
                  <a:pt x="11116" y="2243"/>
                </a:lnTo>
                <a:lnTo>
                  <a:pt x="11684" y="2538"/>
                </a:lnTo>
                <a:lnTo>
                  <a:pt x="12253" y="3187"/>
                </a:lnTo>
                <a:lnTo>
                  <a:pt x="12758" y="3659"/>
                </a:lnTo>
                <a:lnTo>
                  <a:pt x="13768" y="4485"/>
                </a:lnTo>
                <a:lnTo>
                  <a:pt x="14589" y="5016"/>
                </a:lnTo>
                <a:lnTo>
                  <a:pt x="15032" y="5548"/>
                </a:lnTo>
                <a:lnTo>
                  <a:pt x="15853" y="6138"/>
                </a:lnTo>
                <a:lnTo>
                  <a:pt x="16926" y="6905"/>
                </a:lnTo>
                <a:lnTo>
                  <a:pt x="17937" y="7613"/>
                </a:lnTo>
                <a:lnTo>
                  <a:pt x="18253" y="8321"/>
                </a:lnTo>
                <a:lnTo>
                  <a:pt x="18316" y="8911"/>
                </a:lnTo>
                <a:lnTo>
                  <a:pt x="19011" y="9561"/>
                </a:lnTo>
                <a:lnTo>
                  <a:pt x="19705" y="9856"/>
                </a:lnTo>
                <a:lnTo>
                  <a:pt x="20526" y="10564"/>
                </a:lnTo>
                <a:lnTo>
                  <a:pt x="21221" y="11449"/>
                </a:lnTo>
                <a:lnTo>
                  <a:pt x="21600" y="12098"/>
                </a:lnTo>
                <a:lnTo>
                  <a:pt x="21347" y="12925"/>
                </a:lnTo>
                <a:lnTo>
                  <a:pt x="20716" y="13574"/>
                </a:lnTo>
                <a:lnTo>
                  <a:pt x="20589" y="14341"/>
                </a:lnTo>
                <a:lnTo>
                  <a:pt x="20589" y="14990"/>
                </a:lnTo>
                <a:lnTo>
                  <a:pt x="20526" y="16052"/>
                </a:lnTo>
                <a:lnTo>
                  <a:pt x="20400" y="16820"/>
                </a:lnTo>
                <a:lnTo>
                  <a:pt x="20463" y="17705"/>
                </a:lnTo>
                <a:lnTo>
                  <a:pt x="20526" y="18590"/>
                </a:lnTo>
                <a:lnTo>
                  <a:pt x="20526" y="19239"/>
                </a:lnTo>
                <a:lnTo>
                  <a:pt x="20526" y="19770"/>
                </a:lnTo>
                <a:lnTo>
                  <a:pt x="18505" y="19830"/>
                </a:lnTo>
                <a:lnTo>
                  <a:pt x="18189" y="20066"/>
                </a:lnTo>
                <a:lnTo>
                  <a:pt x="18316" y="20479"/>
                </a:lnTo>
                <a:lnTo>
                  <a:pt x="18568" y="20774"/>
                </a:lnTo>
                <a:lnTo>
                  <a:pt x="18505" y="21364"/>
                </a:lnTo>
                <a:lnTo>
                  <a:pt x="17747" y="21364"/>
                </a:lnTo>
                <a:lnTo>
                  <a:pt x="17558" y="20833"/>
                </a:lnTo>
                <a:lnTo>
                  <a:pt x="5179" y="21600"/>
                </a:lnTo>
                <a:lnTo>
                  <a:pt x="4989" y="20479"/>
                </a:lnTo>
                <a:lnTo>
                  <a:pt x="5116" y="19830"/>
                </a:lnTo>
                <a:lnTo>
                  <a:pt x="5116" y="19298"/>
                </a:lnTo>
                <a:lnTo>
                  <a:pt x="4863" y="18767"/>
                </a:lnTo>
                <a:lnTo>
                  <a:pt x="4547" y="18118"/>
                </a:lnTo>
                <a:lnTo>
                  <a:pt x="4232" y="17587"/>
                </a:lnTo>
                <a:lnTo>
                  <a:pt x="3916" y="17292"/>
                </a:lnTo>
                <a:lnTo>
                  <a:pt x="4105" y="16525"/>
                </a:lnTo>
                <a:lnTo>
                  <a:pt x="4105" y="15757"/>
                </a:lnTo>
                <a:lnTo>
                  <a:pt x="4105" y="15049"/>
                </a:lnTo>
                <a:lnTo>
                  <a:pt x="4295" y="14518"/>
                </a:lnTo>
                <a:lnTo>
                  <a:pt x="4484" y="14223"/>
                </a:lnTo>
                <a:lnTo>
                  <a:pt x="4232" y="13692"/>
                </a:lnTo>
                <a:lnTo>
                  <a:pt x="3789" y="13220"/>
                </a:lnTo>
                <a:lnTo>
                  <a:pt x="3221" y="12570"/>
                </a:lnTo>
                <a:lnTo>
                  <a:pt x="0" y="1770"/>
                </a:lnTo>
                <a:close/>
                <a:moveTo>
                  <a:pt x="0" y="177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9966240" y="4467240"/>
            <a:ext cx="1069920" cy="76824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21600" y="4641"/>
                </a:moveTo>
                <a:lnTo>
                  <a:pt x="20767" y="5891"/>
                </a:lnTo>
                <a:lnTo>
                  <a:pt x="20446" y="7051"/>
                </a:lnTo>
                <a:cubicBezTo>
                  <a:pt x="20446" y="7051"/>
                  <a:pt x="20318" y="8390"/>
                  <a:pt x="20190" y="8390"/>
                </a:cubicBezTo>
                <a:cubicBezTo>
                  <a:pt x="20062" y="8390"/>
                  <a:pt x="19869" y="9729"/>
                  <a:pt x="19741" y="9729"/>
                </a:cubicBezTo>
                <a:cubicBezTo>
                  <a:pt x="19613" y="9729"/>
                  <a:pt x="19549" y="11068"/>
                  <a:pt x="19549" y="11068"/>
                </a:cubicBezTo>
                <a:lnTo>
                  <a:pt x="18716" y="11157"/>
                </a:lnTo>
                <a:lnTo>
                  <a:pt x="18588" y="12407"/>
                </a:lnTo>
                <a:lnTo>
                  <a:pt x="18588" y="13299"/>
                </a:lnTo>
                <a:lnTo>
                  <a:pt x="17818" y="13835"/>
                </a:lnTo>
                <a:lnTo>
                  <a:pt x="17242" y="14460"/>
                </a:lnTo>
                <a:lnTo>
                  <a:pt x="16537" y="15263"/>
                </a:lnTo>
                <a:lnTo>
                  <a:pt x="15703" y="15174"/>
                </a:lnTo>
                <a:lnTo>
                  <a:pt x="15896" y="15888"/>
                </a:lnTo>
                <a:lnTo>
                  <a:pt x="15703" y="16780"/>
                </a:lnTo>
                <a:lnTo>
                  <a:pt x="14934" y="17494"/>
                </a:lnTo>
                <a:cubicBezTo>
                  <a:pt x="14934" y="17494"/>
                  <a:pt x="14550" y="17583"/>
                  <a:pt x="14421" y="17762"/>
                </a:cubicBezTo>
                <a:cubicBezTo>
                  <a:pt x="14293" y="17940"/>
                  <a:pt x="14614" y="19101"/>
                  <a:pt x="14614" y="19101"/>
                </a:cubicBezTo>
                <a:lnTo>
                  <a:pt x="13845" y="19547"/>
                </a:lnTo>
                <a:lnTo>
                  <a:pt x="13011" y="18922"/>
                </a:lnTo>
                <a:lnTo>
                  <a:pt x="13524" y="19815"/>
                </a:lnTo>
                <a:lnTo>
                  <a:pt x="13588" y="20440"/>
                </a:lnTo>
                <a:lnTo>
                  <a:pt x="13075" y="21332"/>
                </a:lnTo>
                <a:lnTo>
                  <a:pt x="12499" y="21600"/>
                </a:lnTo>
                <a:lnTo>
                  <a:pt x="11473" y="19993"/>
                </a:lnTo>
                <a:lnTo>
                  <a:pt x="10832" y="19012"/>
                </a:lnTo>
                <a:lnTo>
                  <a:pt x="9935" y="18208"/>
                </a:lnTo>
                <a:lnTo>
                  <a:pt x="9294" y="17494"/>
                </a:lnTo>
                <a:lnTo>
                  <a:pt x="9101" y="16066"/>
                </a:lnTo>
                <a:lnTo>
                  <a:pt x="8268" y="14638"/>
                </a:lnTo>
                <a:lnTo>
                  <a:pt x="6794" y="13031"/>
                </a:lnTo>
                <a:lnTo>
                  <a:pt x="5384" y="11157"/>
                </a:lnTo>
                <a:lnTo>
                  <a:pt x="4230" y="10086"/>
                </a:lnTo>
                <a:lnTo>
                  <a:pt x="3141" y="8479"/>
                </a:lnTo>
                <a:lnTo>
                  <a:pt x="2115" y="7319"/>
                </a:lnTo>
                <a:lnTo>
                  <a:pt x="1218" y="6694"/>
                </a:lnTo>
                <a:lnTo>
                  <a:pt x="513" y="6337"/>
                </a:lnTo>
                <a:lnTo>
                  <a:pt x="0" y="5445"/>
                </a:lnTo>
                <a:lnTo>
                  <a:pt x="0" y="4374"/>
                </a:lnTo>
                <a:lnTo>
                  <a:pt x="128" y="3838"/>
                </a:lnTo>
                <a:lnTo>
                  <a:pt x="833" y="3035"/>
                </a:lnTo>
                <a:lnTo>
                  <a:pt x="1666" y="2231"/>
                </a:lnTo>
                <a:lnTo>
                  <a:pt x="2372" y="1874"/>
                </a:lnTo>
                <a:lnTo>
                  <a:pt x="3782" y="1160"/>
                </a:lnTo>
                <a:lnTo>
                  <a:pt x="4743" y="803"/>
                </a:lnTo>
                <a:lnTo>
                  <a:pt x="5769" y="536"/>
                </a:lnTo>
                <a:lnTo>
                  <a:pt x="6474" y="446"/>
                </a:lnTo>
                <a:lnTo>
                  <a:pt x="7179" y="357"/>
                </a:lnTo>
                <a:lnTo>
                  <a:pt x="7820" y="714"/>
                </a:lnTo>
                <a:lnTo>
                  <a:pt x="7820" y="1250"/>
                </a:lnTo>
                <a:lnTo>
                  <a:pt x="8525" y="1250"/>
                </a:lnTo>
                <a:lnTo>
                  <a:pt x="8653" y="268"/>
                </a:lnTo>
                <a:lnTo>
                  <a:pt x="9294" y="0"/>
                </a:lnTo>
                <a:lnTo>
                  <a:pt x="9807" y="893"/>
                </a:lnTo>
                <a:lnTo>
                  <a:pt x="10319" y="1696"/>
                </a:lnTo>
                <a:lnTo>
                  <a:pt x="11153" y="1607"/>
                </a:lnTo>
                <a:lnTo>
                  <a:pt x="11858" y="1428"/>
                </a:lnTo>
                <a:lnTo>
                  <a:pt x="12819" y="1071"/>
                </a:lnTo>
                <a:lnTo>
                  <a:pt x="13909" y="893"/>
                </a:lnTo>
                <a:lnTo>
                  <a:pt x="15062" y="446"/>
                </a:lnTo>
                <a:lnTo>
                  <a:pt x="16216" y="268"/>
                </a:lnTo>
                <a:lnTo>
                  <a:pt x="16665" y="357"/>
                </a:lnTo>
                <a:lnTo>
                  <a:pt x="21600" y="4641"/>
                </a:lnTo>
                <a:close/>
                <a:moveTo>
                  <a:pt x="21600" y="464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9387000" y="2593800"/>
            <a:ext cx="830160" cy="1076400"/>
          </a:xfrm>
          <a:custGeom>
            <a:avLst/>
            <a:gdLst>
              <a:gd name="textAreaLeft" fmla="*/ 0 w 830160"/>
              <a:gd name="textAreaRight" fmla="*/ 830520 w 83016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21518" h="21600">
                <a:moveTo>
                  <a:pt x="0" y="6053"/>
                </a:moveTo>
                <a:lnTo>
                  <a:pt x="2226" y="20135"/>
                </a:lnTo>
                <a:lnTo>
                  <a:pt x="3628" y="20835"/>
                </a:lnTo>
                <a:lnTo>
                  <a:pt x="4617" y="21218"/>
                </a:lnTo>
                <a:lnTo>
                  <a:pt x="5689" y="21536"/>
                </a:lnTo>
                <a:lnTo>
                  <a:pt x="6678" y="21600"/>
                </a:lnTo>
                <a:lnTo>
                  <a:pt x="7997" y="21409"/>
                </a:lnTo>
                <a:lnTo>
                  <a:pt x="9069" y="20899"/>
                </a:lnTo>
                <a:lnTo>
                  <a:pt x="10223" y="20517"/>
                </a:lnTo>
                <a:lnTo>
                  <a:pt x="10883" y="20007"/>
                </a:lnTo>
                <a:lnTo>
                  <a:pt x="11872" y="19816"/>
                </a:lnTo>
                <a:lnTo>
                  <a:pt x="12779" y="19816"/>
                </a:lnTo>
                <a:lnTo>
                  <a:pt x="13768" y="19816"/>
                </a:lnTo>
                <a:lnTo>
                  <a:pt x="14510" y="19816"/>
                </a:lnTo>
                <a:lnTo>
                  <a:pt x="15170" y="19306"/>
                </a:lnTo>
                <a:lnTo>
                  <a:pt x="15665" y="18542"/>
                </a:lnTo>
                <a:lnTo>
                  <a:pt x="16242" y="17841"/>
                </a:lnTo>
                <a:lnTo>
                  <a:pt x="16242" y="16949"/>
                </a:lnTo>
                <a:lnTo>
                  <a:pt x="16819" y="16375"/>
                </a:lnTo>
                <a:lnTo>
                  <a:pt x="17726" y="16758"/>
                </a:lnTo>
                <a:lnTo>
                  <a:pt x="18220" y="17012"/>
                </a:lnTo>
                <a:lnTo>
                  <a:pt x="18797" y="16312"/>
                </a:lnTo>
                <a:cubicBezTo>
                  <a:pt x="18797" y="16312"/>
                  <a:pt x="19045" y="15292"/>
                  <a:pt x="18880" y="15356"/>
                </a:cubicBezTo>
                <a:cubicBezTo>
                  <a:pt x="18715" y="15419"/>
                  <a:pt x="18385" y="14910"/>
                  <a:pt x="18385" y="14910"/>
                </a:cubicBezTo>
                <a:lnTo>
                  <a:pt x="18797" y="14336"/>
                </a:lnTo>
                <a:lnTo>
                  <a:pt x="19457" y="13954"/>
                </a:lnTo>
                <a:lnTo>
                  <a:pt x="20611" y="13890"/>
                </a:lnTo>
                <a:lnTo>
                  <a:pt x="21271" y="12743"/>
                </a:lnTo>
                <a:lnTo>
                  <a:pt x="21271" y="11915"/>
                </a:lnTo>
                <a:lnTo>
                  <a:pt x="21023" y="11214"/>
                </a:lnTo>
                <a:lnTo>
                  <a:pt x="21188" y="8602"/>
                </a:lnTo>
                <a:lnTo>
                  <a:pt x="21518" y="7519"/>
                </a:lnTo>
                <a:lnTo>
                  <a:pt x="20116" y="0"/>
                </a:lnTo>
                <a:lnTo>
                  <a:pt x="18220" y="1019"/>
                </a:lnTo>
                <a:lnTo>
                  <a:pt x="17313" y="1529"/>
                </a:lnTo>
                <a:lnTo>
                  <a:pt x="16736" y="2166"/>
                </a:lnTo>
                <a:lnTo>
                  <a:pt x="15912" y="3313"/>
                </a:lnTo>
                <a:lnTo>
                  <a:pt x="15170" y="3696"/>
                </a:lnTo>
                <a:lnTo>
                  <a:pt x="14345" y="4524"/>
                </a:lnTo>
                <a:lnTo>
                  <a:pt x="13603" y="5097"/>
                </a:lnTo>
                <a:lnTo>
                  <a:pt x="12779" y="4970"/>
                </a:lnTo>
                <a:lnTo>
                  <a:pt x="11625" y="5097"/>
                </a:lnTo>
                <a:lnTo>
                  <a:pt x="10141" y="5225"/>
                </a:lnTo>
                <a:lnTo>
                  <a:pt x="8245" y="5225"/>
                </a:lnTo>
                <a:lnTo>
                  <a:pt x="6761" y="5097"/>
                </a:lnTo>
                <a:lnTo>
                  <a:pt x="6266" y="5034"/>
                </a:lnTo>
                <a:cubicBezTo>
                  <a:pt x="6266" y="5034"/>
                  <a:pt x="-82" y="5989"/>
                  <a:pt x="0" y="6053"/>
                </a:cubicBezTo>
                <a:close/>
                <a:moveTo>
                  <a:pt x="0" y="605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8238960" y="1521000"/>
            <a:ext cx="1517760" cy="142524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1425240"/>
              <a:gd name="textAreaBottom" fmla="*/ 1425240 h 1425240"/>
            </a:gdLst>
            <a:ahLst/>
            <a:rect l="textAreaLeft" t="textAreaTop" r="textAreaRight" b="textAreaBottom"/>
            <a:pathLst>
              <a:path w="21600" h="21600">
                <a:moveTo>
                  <a:pt x="4564" y="0"/>
                </a:moveTo>
                <a:lnTo>
                  <a:pt x="3931" y="48"/>
                </a:lnTo>
                <a:lnTo>
                  <a:pt x="3434" y="625"/>
                </a:lnTo>
                <a:lnTo>
                  <a:pt x="3073" y="1203"/>
                </a:lnTo>
                <a:lnTo>
                  <a:pt x="2531" y="1732"/>
                </a:lnTo>
                <a:lnTo>
                  <a:pt x="1808" y="2117"/>
                </a:lnTo>
                <a:lnTo>
                  <a:pt x="949" y="2646"/>
                </a:lnTo>
                <a:lnTo>
                  <a:pt x="678" y="3079"/>
                </a:lnTo>
                <a:lnTo>
                  <a:pt x="136" y="3464"/>
                </a:lnTo>
                <a:lnTo>
                  <a:pt x="0" y="3897"/>
                </a:lnTo>
                <a:lnTo>
                  <a:pt x="226" y="4378"/>
                </a:lnTo>
                <a:lnTo>
                  <a:pt x="813" y="4570"/>
                </a:lnTo>
                <a:lnTo>
                  <a:pt x="1401" y="4714"/>
                </a:lnTo>
                <a:lnTo>
                  <a:pt x="2124" y="5099"/>
                </a:lnTo>
                <a:lnTo>
                  <a:pt x="2576" y="5196"/>
                </a:lnTo>
                <a:lnTo>
                  <a:pt x="3208" y="5436"/>
                </a:lnTo>
                <a:lnTo>
                  <a:pt x="3796" y="5580"/>
                </a:lnTo>
                <a:lnTo>
                  <a:pt x="4383" y="5677"/>
                </a:lnTo>
                <a:lnTo>
                  <a:pt x="4971" y="6013"/>
                </a:lnTo>
                <a:lnTo>
                  <a:pt x="5377" y="6350"/>
                </a:lnTo>
                <a:lnTo>
                  <a:pt x="5784" y="6639"/>
                </a:lnTo>
                <a:lnTo>
                  <a:pt x="6100" y="7024"/>
                </a:lnTo>
                <a:lnTo>
                  <a:pt x="6236" y="7601"/>
                </a:lnTo>
                <a:lnTo>
                  <a:pt x="6326" y="7986"/>
                </a:lnTo>
                <a:lnTo>
                  <a:pt x="6326" y="8515"/>
                </a:lnTo>
                <a:lnTo>
                  <a:pt x="6869" y="8419"/>
                </a:lnTo>
                <a:lnTo>
                  <a:pt x="7185" y="7649"/>
                </a:lnTo>
                <a:lnTo>
                  <a:pt x="7727" y="6879"/>
                </a:lnTo>
                <a:cubicBezTo>
                  <a:pt x="7727" y="6879"/>
                  <a:pt x="8089" y="6591"/>
                  <a:pt x="8089" y="6494"/>
                </a:cubicBezTo>
                <a:cubicBezTo>
                  <a:pt x="8089" y="6398"/>
                  <a:pt x="8676" y="5965"/>
                  <a:pt x="8676" y="5965"/>
                </a:cubicBezTo>
                <a:lnTo>
                  <a:pt x="9083" y="5629"/>
                </a:lnTo>
                <a:lnTo>
                  <a:pt x="9625" y="5484"/>
                </a:lnTo>
                <a:lnTo>
                  <a:pt x="10032" y="5196"/>
                </a:lnTo>
                <a:lnTo>
                  <a:pt x="10664" y="4666"/>
                </a:lnTo>
                <a:lnTo>
                  <a:pt x="11162" y="4666"/>
                </a:lnTo>
                <a:lnTo>
                  <a:pt x="11839" y="4763"/>
                </a:lnTo>
                <a:lnTo>
                  <a:pt x="12156" y="4811"/>
                </a:lnTo>
                <a:lnTo>
                  <a:pt x="12562" y="4955"/>
                </a:lnTo>
                <a:lnTo>
                  <a:pt x="12924" y="5099"/>
                </a:lnTo>
                <a:lnTo>
                  <a:pt x="12562" y="5532"/>
                </a:lnTo>
                <a:lnTo>
                  <a:pt x="12562" y="5917"/>
                </a:lnTo>
                <a:lnTo>
                  <a:pt x="13014" y="6206"/>
                </a:lnTo>
                <a:lnTo>
                  <a:pt x="13105" y="6591"/>
                </a:lnTo>
                <a:lnTo>
                  <a:pt x="13014" y="6976"/>
                </a:lnTo>
                <a:lnTo>
                  <a:pt x="12562" y="7024"/>
                </a:lnTo>
                <a:lnTo>
                  <a:pt x="12291" y="7408"/>
                </a:lnTo>
                <a:lnTo>
                  <a:pt x="12201" y="8034"/>
                </a:lnTo>
                <a:lnTo>
                  <a:pt x="12156" y="8804"/>
                </a:lnTo>
                <a:lnTo>
                  <a:pt x="11613" y="9044"/>
                </a:lnTo>
                <a:lnTo>
                  <a:pt x="11613" y="8563"/>
                </a:lnTo>
                <a:lnTo>
                  <a:pt x="11659" y="7793"/>
                </a:lnTo>
                <a:lnTo>
                  <a:pt x="11523" y="7360"/>
                </a:lnTo>
                <a:lnTo>
                  <a:pt x="11297" y="7457"/>
                </a:lnTo>
                <a:lnTo>
                  <a:pt x="10981" y="7938"/>
                </a:lnTo>
                <a:lnTo>
                  <a:pt x="10664" y="8371"/>
                </a:lnTo>
                <a:lnTo>
                  <a:pt x="10484" y="8563"/>
                </a:lnTo>
                <a:lnTo>
                  <a:pt x="10258" y="9237"/>
                </a:lnTo>
                <a:lnTo>
                  <a:pt x="10303" y="9718"/>
                </a:lnTo>
                <a:lnTo>
                  <a:pt x="10348" y="10247"/>
                </a:lnTo>
                <a:lnTo>
                  <a:pt x="10348" y="10968"/>
                </a:lnTo>
                <a:lnTo>
                  <a:pt x="10213" y="11546"/>
                </a:lnTo>
                <a:lnTo>
                  <a:pt x="9987" y="12556"/>
                </a:lnTo>
                <a:lnTo>
                  <a:pt x="9987" y="13181"/>
                </a:lnTo>
                <a:lnTo>
                  <a:pt x="9987" y="13855"/>
                </a:lnTo>
                <a:lnTo>
                  <a:pt x="10032" y="14480"/>
                </a:lnTo>
                <a:lnTo>
                  <a:pt x="10393" y="15057"/>
                </a:lnTo>
                <a:lnTo>
                  <a:pt x="10664" y="15779"/>
                </a:lnTo>
                <a:lnTo>
                  <a:pt x="11207" y="16356"/>
                </a:lnTo>
                <a:lnTo>
                  <a:pt x="11207" y="16934"/>
                </a:lnTo>
                <a:lnTo>
                  <a:pt x="11387" y="17415"/>
                </a:lnTo>
                <a:lnTo>
                  <a:pt x="11523" y="17848"/>
                </a:lnTo>
                <a:lnTo>
                  <a:pt x="11523" y="18521"/>
                </a:lnTo>
                <a:lnTo>
                  <a:pt x="11523" y="19339"/>
                </a:lnTo>
                <a:lnTo>
                  <a:pt x="11433" y="19820"/>
                </a:lnTo>
                <a:lnTo>
                  <a:pt x="11116" y="20445"/>
                </a:lnTo>
                <a:lnTo>
                  <a:pt x="10936" y="21023"/>
                </a:lnTo>
                <a:lnTo>
                  <a:pt x="10800" y="21600"/>
                </a:lnTo>
                <a:lnTo>
                  <a:pt x="19883" y="19916"/>
                </a:lnTo>
                <a:lnTo>
                  <a:pt x="19928" y="19243"/>
                </a:lnTo>
                <a:lnTo>
                  <a:pt x="19928" y="18473"/>
                </a:lnTo>
                <a:lnTo>
                  <a:pt x="19973" y="17848"/>
                </a:lnTo>
                <a:lnTo>
                  <a:pt x="20290" y="17463"/>
                </a:lnTo>
                <a:lnTo>
                  <a:pt x="20380" y="16741"/>
                </a:lnTo>
                <a:cubicBezTo>
                  <a:pt x="20380" y="16741"/>
                  <a:pt x="20696" y="16645"/>
                  <a:pt x="20787" y="16645"/>
                </a:cubicBezTo>
                <a:cubicBezTo>
                  <a:pt x="20877" y="16645"/>
                  <a:pt x="21284" y="16597"/>
                  <a:pt x="21284" y="16597"/>
                </a:cubicBezTo>
                <a:lnTo>
                  <a:pt x="21600" y="15875"/>
                </a:lnTo>
                <a:lnTo>
                  <a:pt x="21555" y="15009"/>
                </a:lnTo>
                <a:lnTo>
                  <a:pt x="21464" y="14528"/>
                </a:lnTo>
                <a:lnTo>
                  <a:pt x="21284" y="14095"/>
                </a:lnTo>
                <a:lnTo>
                  <a:pt x="20832" y="13374"/>
                </a:lnTo>
                <a:lnTo>
                  <a:pt x="20606" y="12748"/>
                </a:lnTo>
                <a:lnTo>
                  <a:pt x="20425" y="12219"/>
                </a:lnTo>
                <a:lnTo>
                  <a:pt x="20380" y="11786"/>
                </a:lnTo>
                <a:lnTo>
                  <a:pt x="20199" y="11401"/>
                </a:lnTo>
                <a:lnTo>
                  <a:pt x="19747" y="11016"/>
                </a:lnTo>
                <a:lnTo>
                  <a:pt x="19295" y="11016"/>
                </a:lnTo>
                <a:lnTo>
                  <a:pt x="18934" y="11016"/>
                </a:lnTo>
                <a:lnTo>
                  <a:pt x="18572" y="11305"/>
                </a:lnTo>
                <a:lnTo>
                  <a:pt x="18166" y="11690"/>
                </a:lnTo>
                <a:lnTo>
                  <a:pt x="18075" y="12267"/>
                </a:lnTo>
                <a:lnTo>
                  <a:pt x="17985" y="12604"/>
                </a:lnTo>
                <a:lnTo>
                  <a:pt x="17940" y="12941"/>
                </a:lnTo>
                <a:lnTo>
                  <a:pt x="17533" y="12989"/>
                </a:lnTo>
                <a:lnTo>
                  <a:pt x="17217" y="13037"/>
                </a:lnTo>
                <a:lnTo>
                  <a:pt x="16946" y="13085"/>
                </a:lnTo>
                <a:lnTo>
                  <a:pt x="16629" y="12748"/>
                </a:lnTo>
                <a:lnTo>
                  <a:pt x="16403" y="12460"/>
                </a:lnTo>
                <a:lnTo>
                  <a:pt x="16449" y="12027"/>
                </a:lnTo>
                <a:cubicBezTo>
                  <a:pt x="16449" y="12027"/>
                  <a:pt x="16358" y="11690"/>
                  <a:pt x="16449" y="11642"/>
                </a:cubicBezTo>
                <a:cubicBezTo>
                  <a:pt x="16539" y="11594"/>
                  <a:pt x="16584" y="11113"/>
                  <a:pt x="16584" y="11113"/>
                </a:cubicBezTo>
                <a:lnTo>
                  <a:pt x="16900" y="10776"/>
                </a:lnTo>
                <a:lnTo>
                  <a:pt x="17081" y="10343"/>
                </a:lnTo>
                <a:lnTo>
                  <a:pt x="17262" y="9958"/>
                </a:lnTo>
                <a:lnTo>
                  <a:pt x="17669" y="9718"/>
                </a:lnTo>
                <a:lnTo>
                  <a:pt x="17759" y="9429"/>
                </a:lnTo>
                <a:lnTo>
                  <a:pt x="17759" y="8900"/>
                </a:lnTo>
                <a:lnTo>
                  <a:pt x="17759" y="8274"/>
                </a:lnTo>
                <a:lnTo>
                  <a:pt x="17578" y="7697"/>
                </a:lnTo>
                <a:lnTo>
                  <a:pt x="17533" y="7312"/>
                </a:lnTo>
                <a:lnTo>
                  <a:pt x="17443" y="6735"/>
                </a:lnTo>
                <a:lnTo>
                  <a:pt x="16946" y="6446"/>
                </a:lnTo>
                <a:lnTo>
                  <a:pt x="16494" y="6061"/>
                </a:lnTo>
                <a:lnTo>
                  <a:pt x="16268" y="5917"/>
                </a:lnTo>
                <a:lnTo>
                  <a:pt x="15906" y="5869"/>
                </a:lnTo>
                <a:lnTo>
                  <a:pt x="15364" y="5821"/>
                </a:lnTo>
                <a:lnTo>
                  <a:pt x="14822" y="5917"/>
                </a:lnTo>
                <a:lnTo>
                  <a:pt x="14370" y="5821"/>
                </a:lnTo>
                <a:lnTo>
                  <a:pt x="13963" y="5725"/>
                </a:lnTo>
                <a:lnTo>
                  <a:pt x="13737" y="5532"/>
                </a:lnTo>
                <a:lnTo>
                  <a:pt x="13240" y="5388"/>
                </a:lnTo>
                <a:lnTo>
                  <a:pt x="13014" y="5051"/>
                </a:lnTo>
                <a:lnTo>
                  <a:pt x="13105" y="4522"/>
                </a:lnTo>
                <a:lnTo>
                  <a:pt x="13240" y="4185"/>
                </a:lnTo>
                <a:lnTo>
                  <a:pt x="13647" y="4089"/>
                </a:lnTo>
                <a:lnTo>
                  <a:pt x="13963" y="4089"/>
                </a:lnTo>
                <a:lnTo>
                  <a:pt x="14415" y="4137"/>
                </a:lnTo>
                <a:lnTo>
                  <a:pt x="14777" y="4089"/>
                </a:lnTo>
                <a:lnTo>
                  <a:pt x="15048" y="3897"/>
                </a:lnTo>
                <a:lnTo>
                  <a:pt x="15138" y="3416"/>
                </a:lnTo>
                <a:lnTo>
                  <a:pt x="14867" y="2886"/>
                </a:lnTo>
                <a:lnTo>
                  <a:pt x="14370" y="2453"/>
                </a:lnTo>
                <a:lnTo>
                  <a:pt x="13963" y="1924"/>
                </a:lnTo>
                <a:lnTo>
                  <a:pt x="13511" y="1684"/>
                </a:lnTo>
                <a:lnTo>
                  <a:pt x="13105" y="1780"/>
                </a:lnTo>
                <a:lnTo>
                  <a:pt x="12833" y="1924"/>
                </a:lnTo>
                <a:lnTo>
                  <a:pt x="12562" y="1924"/>
                </a:lnTo>
                <a:lnTo>
                  <a:pt x="12653" y="1491"/>
                </a:lnTo>
                <a:lnTo>
                  <a:pt x="12653" y="1155"/>
                </a:lnTo>
                <a:lnTo>
                  <a:pt x="12110" y="1155"/>
                </a:lnTo>
                <a:lnTo>
                  <a:pt x="11704" y="1347"/>
                </a:lnTo>
                <a:lnTo>
                  <a:pt x="11478" y="1684"/>
                </a:lnTo>
                <a:lnTo>
                  <a:pt x="11116" y="1828"/>
                </a:lnTo>
                <a:lnTo>
                  <a:pt x="10800" y="2213"/>
                </a:lnTo>
                <a:lnTo>
                  <a:pt x="10303" y="2213"/>
                </a:lnTo>
                <a:lnTo>
                  <a:pt x="9715" y="2213"/>
                </a:lnTo>
                <a:lnTo>
                  <a:pt x="8992" y="2117"/>
                </a:lnTo>
                <a:lnTo>
                  <a:pt x="8541" y="2069"/>
                </a:lnTo>
                <a:lnTo>
                  <a:pt x="8224" y="2117"/>
                </a:lnTo>
                <a:lnTo>
                  <a:pt x="7953" y="2165"/>
                </a:lnTo>
                <a:lnTo>
                  <a:pt x="7772" y="2502"/>
                </a:lnTo>
                <a:lnTo>
                  <a:pt x="7546" y="2886"/>
                </a:lnTo>
                <a:lnTo>
                  <a:pt x="7049" y="2598"/>
                </a:lnTo>
                <a:lnTo>
                  <a:pt x="6552" y="2453"/>
                </a:lnTo>
                <a:lnTo>
                  <a:pt x="6236" y="2357"/>
                </a:lnTo>
                <a:lnTo>
                  <a:pt x="5829" y="2117"/>
                </a:lnTo>
                <a:lnTo>
                  <a:pt x="5739" y="1732"/>
                </a:lnTo>
                <a:lnTo>
                  <a:pt x="5287" y="1443"/>
                </a:lnTo>
                <a:lnTo>
                  <a:pt x="4971" y="1299"/>
                </a:lnTo>
                <a:lnTo>
                  <a:pt x="4700" y="1203"/>
                </a:lnTo>
                <a:lnTo>
                  <a:pt x="4428" y="1106"/>
                </a:lnTo>
                <a:lnTo>
                  <a:pt x="3977" y="1106"/>
                </a:lnTo>
                <a:lnTo>
                  <a:pt x="3931" y="625"/>
                </a:lnTo>
                <a:lnTo>
                  <a:pt x="4293" y="481"/>
                </a:lnTo>
                <a:lnTo>
                  <a:pt x="4564" y="0"/>
                </a:lnTo>
                <a:close/>
                <a:moveTo>
                  <a:pt x="456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2" name="AutoShape 42"/>
          <p:cNvSpPr/>
          <p:nvPr/>
        </p:nvSpPr>
        <p:spPr>
          <a:xfrm>
            <a:off x="6981840" y="990720"/>
            <a:ext cx="1317600" cy="165708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4552"/>
                </a:moveTo>
                <a:lnTo>
                  <a:pt x="20611" y="5297"/>
                </a:lnTo>
                <a:lnTo>
                  <a:pt x="19726" y="5793"/>
                </a:lnTo>
                <a:lnTo>
                  <a:pt x="18789" y="6372"/>
                </a:lnTo>
                <a:lnTo>
                  <a:pt x="17696" y="6703"/>
                </a:lnTo>
                <a:lnTo>
                  <a:pt x="16916" y="6910"/>
                </a:lnTo>
                <a:lnTo>
                  <a:pt x="16031" y="7655"/>
                </a:lnTo>
                <a:lnTo>
                  <a:pt x="15771" y="8648"/>
                </a:lnTo>
                <a:lnTo>
                  <a:pt x="15667" y="9228"/>
                </a:lnTo>
                <a:lnTo>
                  <a:pt x="15146" y="9600"/>
                </a:lnTo>
                <a:lnTo>
                  <a:pt x="14990" y="10386"/>
                </a:lnTo>
                <a:lnTo>
                  <a:pt x="14730" y="11379"/>
                </a:lnTo>
                <a:lnTo>
                  <a:pt x="14105" y="11793"/>
                </a:lnTo>
                <a:lnTo>
                  <a:pt x="13428" y="12207"/>
                </a:lnTo>
                <a:lnTo>
                  <a:pt x="12544" y="12455"/>
                </a:lnTo>
                <a:cubicBezTo>
                  <a:pt x="12544" y="12455"/>
                  <a:pt x="13116" y="12869"/>
                  <a:pt x="13220" y="12869"/>
                </a:cubicBezTo>
                <a:cubicBezTo>
                  <a:pt x="13324" y="12869"/>
                  <a:pt x="13637" y="13324"/>
                  <a:pt x="13480" y="13241"/>
                </a:cubicBezTo>
                <a:cubicBezTo>
                  <a:pt x="13324" y="13159"/>
                  <a:pt x="13272" y="14276"/>
                  <a:pt x="13272" y="14276"/>
                </a:cubicBezTo>
                <a:lnTo>
                  <a:pt x="13272" y="15476"/>
                </a:lnTo>
                <a:lnTo>
                  <a:pt x="13637" y="15972"/>
                </a:lnTo>
                <a:lnTo>
                  <a:pt x="13637" y="16386"/>
                </a:lnTo>
                <a:lnTo>
                  <a:pt x="12908" y="16634"/>
                </a:lnTo>
                <a:lnTo>
                  <a:pt x="13012" y="17131"/>
                </a:lnTo>
                <a:lnTo>
                  <a:pt x="13689" y="17297"/>
                </a:lnTo>
                <a:lnTo>
                  <a:pt x="14678" y="17338"/>
                </a:lnTo>
                <a:cubicBezTo>
                  <a:pt x="14678" y="17338"/>
                  <a:pt x="15198" y="17462"/>
                  <a:pt x="15250" y="17545"/>
                </a:cubicBezTo>
                <a:cubicBezTo>
                  <a:pt x="15302" y="17628"/>
                  <a:pt x="15667" y="18041"/>
                  <a:pt x="15667" y="18041"/>
                </a:cubicBezTo>
                <a:lnTo>
                  <a:pt x="16291" y="18372"/>
                </a:lnTo>
                <a:lnTo>
                  <a:pt x="16968" y="18910"/>
                </a:lnTo>
                <a:lnTo>
                  <a:pt x="17592" y="19241"/>
                </a:lnTo>
                <a:lnTo>
                  <a:pt x="17957" y="19490"/>
                </a:lnTo>
                <a:lnTo>
                  <a:pt x="17905" y="21600"/>
                </a:lnTo>
                <a:lnTo>
                  <a:pt x="1613" y="21434"/>
                </a:lnTo>
                <a:lnTo>
                  <a:pt x="2030" y="15228"/>
                </a:lnTo>
                <a:lnTo>
                  <a:pt x="1041" y="14234"/>
                </a:lnTo>
                <a:lnTo>
                  <a:pt x="1405" y="13490"/>
                </a:lnTo>
                <a:lnTo>
                  <a:pt x="1613" y="8317"/>
                </a:lnTo>
                <a:lnTo>
                  <a:pt x="1249" y="7738"/>
                </a:lnTo>
                <a:lnTo>
                  <a:pt x="781" y="7200"/>
                </a:lnTo>
                <a:lnTo>
                  <a:pt x="729" y="6703"/>
                </a:lnTo>
                <a:lnTo>
                  <a:pt x="156" y="6579"/>
                </a:lnTo>
                <a:lnTo>
                  <a:pt x="468" y="4883"/>
                </a:lnTo>
                <a:lnTo>
                  <a:pt x="104" y="4510"/>
                </a:lnTo>
                <a:lnTo>
                  <a:pt x="0" y="2359"/>
                </a:lnTo>
                <a:cubicBezTo>
                  <a:pt x="0" y="2359"/>
                  <a:pt x="625" y="2317"/>
                  <a:pt x="677" y="2234"/>
                </a:cubicBezTo>
                <a:cubicBezTo>
                  <a:pt x="729" y="2152"/>
                  <a:pt x="1561" y="2069"/>
                  <a:pt x="1561" y="2069"/>
                </a:cubicBezTo>
                <a:lnTo>
                  <a:pt x="3019" y="2069"/>
                </a:lnTo>
                <a:cubicBezTo>
                  <a:pt x="3019" y="2069"/>
                  <a:pt x="3852" y="2028"/>
                  <a:pt x="3852" y="1945"/>
                </a:cubicBezTo>
                <a:cubicBezTo>
                  <a:pt x="3852" y="1862"/>
                  <a:pt x="4788" y="1697"/>
                  <a:pt x="4788" y="1697"/>
                </a:cubicBezTo>
                <a:lnTo>
                  <a:pt x="5413" y="1283"/>
                </a:lnTo>
                <a:lnTo>
                  <a:pt x="6194" y="662"/>
                </a:lnTo>
                <a:lnTo>
                  <a:pt x="6506" y="166"/>
                </a:lnTo>
                <a:lnTo>
                  <a:pt x="7079" y="0"/>
                </a:lnTo>
                <a:lnTo>
                  <a:pt x="7599" y="290"/>
                </a:lnTo>
                <a:lnTo>
                  <a:pt x="7755" y="497"/>
                </a:lnTo>
                <a:lnTo>
                  <a:pt x="7807" y="869"/>
                </a:lnTo>
                <a:lnTo>
                  <a:pt x="7859" y="1407"/>
                </a:lnTo>
                <a:lnTo>
                  <a:pt x="8432" y="1862"/>
                </a:lnTo>
                <a:lnTo>
                  <a:pt x="8224" y="2400"/>
                </a:lnTo>
                <a:lnTo>
                  <a:pt x="8067" y="3062"/>
                </a:lnTo>
                <a:lnTo>
                  <a:pt x="8484" y="3269"/>
                </a:lnTo>
                <a:lnTo>
                  <a:pt x="8900" y="3683"/>
                </a:lnTo>
                <a:lnTo>
                  <a:pt x="9160" y="3724"/>
                </a:lnTo>
                <a:lnTo>
                  <a:pt x="9733" y="3683"/>
                </a:lnTo>
                <a:lnTo>
                  <a:pt x="10045" y="3310"/>
                </a:lnTo>
                <a:lnTo>
                  <a:pt x="10774" y="2979"/>
                </a:lnTo>
                <a:lnTo>
                  <a:pt x="11347" y="2979"/>
                </a:lnTo>
                <a:lnTo>
                  <a:pt x="11607" y="2979"/>
                </a:lnTo>
                <a:lnTo>
                  <a:pt x="12231" y="3310"/>
                </a:lnTo>
                <a:lnTo>
                  <a:pt x="12908" y="3476"/>
                </a:lnTo>
                <a:lnTo>
                  <a:pt x="13168" y="3641"/>
                </a:lnTo>
                <a:lnTo>
                  <a:pt x="13637" y="3890"/>
                </a:lnTo>
                <a:lnTo>
                  <a:pt x="14261" y="4097"/>
                </a:lnTo>
                <a:lnTo>
                  <a:pt x="15094" y="4428"/>
                </a:lnTo>
                <a:lnTo>
                  <a:pt x="15614" y="4552"/>
                </a:lnTo>
                <a:lnTo>
                  <a:pt x="16395" y="4676"/>
                </a:lnTo>
                <a:lnTo>
                  <a:pt x="17124" y="4759"/>
                </a:lnTo>
                <a:lnTo>
                  <a:pt x="17644" y="4800"/>
                </a:lnTo>
                <a:lnTo>
                  <a:pt x="18477" y="4800"/>
                </a:lnTo>
                <a:lnTo>
                  <a:pt x="19154" y="4676"/>
                </a:lnTo>
                <a:lnTo>
                  <a:pt x="20039" y="4593"/>
                </a:lnTo>
                <a:lnTo>
                  <a:pt x="20611" y="4593"/>
                </a:lnTo>
                <a:lnTo>
                  <a:pt x="21600" y="4552"/>
                </a:lnTo>
                <a:close/>
                <a:moveTo>
                  <a:pt x="21600" y="455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3" name="AutoShape 43"/>
          <p:cNvSpPr/>
          <p:nvPr/>
        </p:nvSpPr>
        <p:spPr>
          <a:xfrm>
            <a:off x="11445840" y="1285920"/>
            <a:ext cx="371520" cy="695160"/>
          </a:xfrm>
          <a:custGeom>
            <a:avLst/>
            <a:gdLst>
              <a:gd name="textAreaLeft" fmla="*/ 0 w 371520"/>
              <a:gd name="textAreaRight" fmla="*/ 371880 w 371520"/>
              <a:gd name="textAreaTop" fmla="*/ 0 h 695160"/>
              <a:gd name="textAreaBottom" fmla="*/ 695160 h 695160"/>
            </a:gdLst>
            <a:ahLst/>
            <a:rect l="textAreaLeft" t="textAreaTop" r="textAreaRight" b="textAreaBottom"/>
            <a:pathLst>
              <a:path w="21600" h="21600">
                <a:moveTo>
                  <a:pt x="7569" y="0"/>
                </a:moveTo>
                <a:lnTo>
                  <a:pt x="4246" y="0"/>
                </a:lnTo>
                <a:lnTo>
                  <a:pt x="2585" y="592"/>
                </a:lnTo>
                <a:lnTo>
                  <a:pt x="1662" y="1973"/>
                </a:lnTo>
                <a:lnTo>
                  <a:pt x="923" y="2959"/>
                </a:lnTo>
                <a:lnTo>
                  <a:pt x="554" y="4636"/>
                </a:lnTo>
                <a:lnTo>
                  <a:pt x="1477" y="5622"/>
                </a:lnTo>
                <a:lnTo>
                  <a:pt x="2769" y="6016"/>
                </a:lnTo>
                <a:lnTo>
                  <a:pt x="2954" y="7003"/>
                </a:lnTo>
                <a:lnTo>
                  <a:pt x="1292" y="7792"/>
                </a:lnTo>
                <a:lnTo>
                  <a:pt x="0" y="9074"/>
                </a:lnTo>
                <a:lnTo>
                  <a:pt x="554" y="10455"/>
                </a:lnTo>
                <a:lnTo>
                  <a:pt x="554" y="12427"/>
                </a:lnTo>
                <a:lnTo>
                  <a:pt x="554" y="14696"/>
                </a:lnTo>
                <a:lnTo>
                  <a:pt x="554" y="16373"/>
                </a:lnTo>
                <a:lnTo>
                  <a:pt x="1292" y="17655"/>
                </a:lnTo>
                <a:lnTo>
                  <a:pt x="2031" y="19134"/>
                </a:lnTo>
                <a:lnTo>
                  <a:pt x="2585" y="20712"/>
                </a:lnTo>
                <a:lnTo>
                  <a:pt x="2954" y="21600"/>
                </a:lnTo>
                <a:lnTo>
                  <a:pt x="19385" y="18641"/>
                </a:lnTo>
                <a:lnTo>
                  <a:pt x="21231" y="18148"/>
                </a:lnTo>
                <a:lnTo>
                  <a:pt x="21600" y="17063"/>
                </a:lnTo>
                <a:lnTo>
                  <a:pt x="21231" y="16175"/>
                </a:lnTo>
                <a:lnTo>
                  <a:pt x="19200" y="15978"/>
                </a:lnTo>
                <a:lnTo>
                  <a:pt x="19015" y="15288"/>
                </a:lnTo>
                <a:lnTo>
                  <a:pt x="19015" y="14301"/>
                </a:lnTo>
                <a:lnTo>
                  <a:pt x="18092" y="13710"/>
                </a:lnTo>
                <a:lnTo>
                  <a:pt x="16985" y="12723"/>
                </a:lnTo>
                <a:lnTo>
                  <a:pt x="7569" y="0"/>
                </a:lnTo>
                <a:close/>
                <a:moveTo>
                  <a:pt x="7569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4" name="AutoShape 44"/>
          <p:cNvSpPr/>
          <p:nvPr/>
        </p:nvSpPr>
        <p:spPr>
          <a:xfrm>
            <a:off x="8102520" y="2838600"/>
            <a:ext cx="822240" cy="1387440"/>
          </a:xfrm>
          <a:custGeom>
            <a:avLst/>
            <a:gdLst>
              <a:gd name="textAreaLeft" fmla="*/ 0 w 822240"/>
              <a:gd name="textAreaRight" fmla="*/ 822600 w 82224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1600" h="21600">
                <a:moveTo>
                  <a:pt x="13510" y="21600"/>
                </a:moveTo>
                <a:lnTo>
                  <a:pt x="12510" y="20710"/>
                </a:lnTo>
                <a:lnTo>
                  <a:pt x="11259" y="20216"/>
                </a:lnTo>
                <a:lnTo>
                  <a:pt x="10341" y="19573"/>
                </a:lnTo>
                <a:lnTo>
                  <a:pt x="9591" y="19030"/>
                </a:lnTo>
                <a:lnTo>
                  <a:pt x="8840" y="18535"/>
                </a:lnTo>
                <a:lnTo>
                  <a:pt x="8673" y="17992"/>
                </a:lnTo>
                <a:lnTo>
                  <a:pt x="8673" y="17399"/>
                </a:lnTo>
                <a:lnTo>
                  <a:pt x="9341" y="17003"/>
                </a:lnTo>
                <a:cubicBezTo>
                  <a:pt x="9341" y="17003"/>
                  <a:pt x="9007" y="16855"/>
                  <a:pt x="9007" y="16756"/>
                </a:cubicBezTo>
                <a:cubicBezTo>
                  <a:pt x="9007" y="16657"/>
                  <a:pt x="7756" y="16657"/>
                  <a:pt x="7756" y="16657"/>
                </a:cubicBezTo>
                <a:lnTo>
                  <a:pt x="7172" y="16015"/>
                </a:lnTo>
                <a:lnTo>
                  <a:pt x="6171" y="15224"/>
                </a:lnTo>
                <a:lnTo>
                  <a:pt x="4337" y="14532"/>
                </a:lnTo>
                <a:lnTo>
                  <a:pt x="3086" y="13939"/>
                </a:lnTo>
                <a:lnTo>
                  <a:pt x="2252" y="13247"/>
                </a:lnTo>
                <a:lnTo>
                  <a:pt x="1251" y="12555"/>
                </a:lnTo>
                <a:lnTo>
                  <a:pt x="500" y="12159"/>
                </a:lnTo>
                <a:lnTo>
                  <a:pt x="334" y="11368"/>
                </a:lnTo>
                <a:lnTo>
                  <a:pt x="417" y="10676"/>
                </a:lnTo>
                <a:lnTo>
                  <a:pt x="417" y="10133"/>
                </a:lnTo>
                <a:lnTo>
                  <a:pt x="0" y="9787"/>
                </a:lnTo>
                <a:lnTo>
                  <a:pt x="0" y="9144"/>
                </a:lnTo>
                <a:lnTo>
                  <a:pt x="917" y="8946"/>
                </a:lnTo>
                <a:lnTo>
                  <a:pt x="1418" y="8600"/>
                </a:lnTo>
                <a:lnTo>
                  <a:pt x="1501" y="8057"/>
                </a:lnTo>
                <a:lnTo>
                  <a:pt x="1918" y="7859"/>
                </a:lnTo>
                <a:lnTo>
                  <a:pt x="2419" y="7464"/>
                </a:lnTo>
                <a:lnTo>
                  <a:pt x="2002" y="7068"/>
                </a:lnTo>
                <a:lnTo>
                  <a:pt x="1918" y="6524"/>
                </a:lnTo>
                <a:lnTo>
                  <a:pt x="1418" y="6080"/>
                </a:lnTo>
                <a:lnTo>
                  <a:pt x="751" y="5783"/>
                </a:lnTo>
                <a:lnTo>
                  <a:pt x="751" y="5338"/>
                </a:lnTo>
                <a:lnTo>
                  <a:pt x="751" y="4597"/>
                </a:lnTo>
                <a:lnTo>
                  <a:pt x="1168" y="4201"/>
                </a:lnTo>
                <a:cubicBezTo>
                  <a:pt x="1168" y="4201"/>
                  <a:pt x="1585" y="4350"/>
                  <a:pt x="2002" y="4251"/>
                </a:cubicBezTo>
                <a:cubicBezTo>
                  <a:pt x="2419" y="4152"/>
                  <a:pt x="2752" y="3658"/>
                  <a:pt x="2752" y="3658"/>
                </a:cubicBezTo>
                <a:lnTo>
                  <a:pt x="3503" y="3312"/>
                </a:lnTo>
                <a:lnTo>
                  <a:pt x="4253" y="3065"/>
                </a:lnTo>
                <a:lnTo>
                  <a:pt x="4337" y="2175"/>
                </a:lnTo>
                <a:lnTo>
                  <a:pt x="4170" y="1433"/>
                </a:lnTo>
                <a:lnTo>
                  <a:pt x="3336" y="890"/>
                </a:lnTo>
                <a:lnTo>
                  <a:pt x="1751" y="346"/>
                </a:lnTo>
                <a:lnTo>
                  <a:pt x="18181" y="0"/>
                </a:lnTo>
                <a:lnTo>
                  <a:pt x="18347" y="741"/>
                </a:lnTo>
                <a:lnTo>
                  <a:pt x="18598" y="1236"/>
                </a:lnTo>
                <a:lnTo>
                  <a:pt x="18931" y="1631"/>
                </a:lnTo>
                <a:lnTo>
                  <a:pt x="19682" y="2076"/>
                </a:lnTo>
                <a:lnTo>
                  <a:pt x="19765" y="2669"/>
                </a:lnTo>
                <a:lnTo>
                  <a:pt x="21600" y="15125"/>
                </a:lnTo>
                <a:lnTo>
                  <a:pt x="21433" y="15768"/>
                </a:lnTo>
                <a:lnTo>
                  <a:pt x="20933" y="16311"/>
                </a:lnTo>
                <a:lnTo>
                  <a:pt x="20516" y="16904"/>
                </a:lnTo>
                <a:lnTo>
                  <a:pt x="20683" y="17497"/>
                </a:lnTo>
                <a:lnTo>
                  <a:pt x="19932" y="18041"/>
                </a:lnTo>
                <a:lnTo>
                  <a:pt x="19265" y="18486"/>
                </a:lnTo>
                <a:lnTo>
                  <a:pt x="19181" y="18980"/>
                </a:lnTo>
                <a:lnTo>
                  <a:pt x="19265" y="19425"/>
                </a:lnTo>
                <a:lnTo>
                  <a:pt x="19181" y="19919"/>
                </a:lnTo>
                <a:lnTo>
                  <a:pt x="18514" y="20364"/>
                </a:lnTo>
                <a:lnTo>
                  <a:pt x="17931" y="20414"/>
                </a:lnTo>
                <a:lnTo>
                  <a:pt x="17263" y="20513"/>
                </a:lnTo>
                <a:lnTo>
                  <a:pt x="16930" y="21155"/>
                </a:lnTo>
                <a:lnTo>
                  <a:pt x="16179" y="21155"/>
                </a:lnTo>
                <a:lnTo>
                  <a:pt x="15512" y="21007"/>
                </a:lnTo>
                <a:lnTo>
                  <a:pt x="15178" y="20760"/>
                </a:lnTo>
                <a:lnTo>
                  <a:pt x="14845" y="21056"/>
                </a:lnTo>
                <a:lnTo>
                  <a:pt x="14428" y="21205"/>
                </a:lnTo>
                <a:lnTo>
                  <a:pt x="14011" y="21551"/>
                </a:lnTo>
                <a:lnTo>
                  <a:pt x="13510" y="21600"/>
                </a:lnTo>
                <a:close/>
                <a:moveTo>
                  <a:pt x="1351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5" name="AutoShape 45"/>
          <p:cNvSpPr/>
          <p:nvPr/>
        </p:nvSpPr>
        <p:spPr>
          <a:xfrm>
            <a:off x="8854920" y="2889360"/>
            <a:ext cx="615960" cy="1082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1336" y="21600"/>
                </a:moveTo>
                <a:lnTo>
                  <a:pt x="2672" y="21220"/>
                </a:lnTo>
                <a:lnTo>
                  <a:pt x="4120" y="20777"/>
                </a:lnTo>
                <a:lnTo>
                  <a:pt x="6235" y="20777"/>
                </a:lnTo>
                <a:lnTo>
                  <a:pt x="7905" y="20903"/>
                </a:lnTo>
                <a:lnTo>
                  <a:pt x="9909" y="20967"/>
                </a:lnTo>
                <a:lnTo>
                  <a:pt x="11245" y="20587"/>
                </a:lnTo>
                <a:lnTo>
                  <a:pt x="11357" y="19890"/>
                </a:lnTo>
                <a:lnTo>
                  <a:pt x="11691" y="19066"/>
                </a:lnTo>
                <a:lnTo>
                  <a:pt x="12915" y="18876"/>
                </a:lnTo>
                <a:lnTo>
                  <a:pt x="14363" y="19066"/>
                </a:lnTo>
                <a:lnTo>
                  <a:pt x="15142" y="19383"/>
                </a:lnTo>
                <a:lnTo>
                  <a:pt x="16478" y="19446"/>
                </a:lnTo>
                <a:lnTo>
                  <a:pt x="17258" y="19003"/>
                </a:lnTo>
                <a:lnTo>
                  <a:pt x="17258" y="18243"/>
                </a:lnTo>
                <a:lnTo>
                  <a:pt x="18148" y="17799"/>
                </a:lnTo>
                <a:lnTo>
                  <a:pt x="18594" y="17166"/>
                </a:lnTo>
                <a:lnTo>
                  <a:pt x="18928" y="16152"/>
                </a:lnTo>
                <a:lnTo>
                  <a:pt x="19039" y="15076"/>
                </a:lnTo>
                <a:lnTo>
                  <a:pt x="20153" y="14632"/>
                </a:lnTo>
                <a:lnTo>
                  <a:pt x="21600" y="14316"/>
                </a:lnTo>
                <a:lnTo>
                  <a:pt x="18371" y="0"/>
                </a:lnTo>
                <a:lnTo>
                  <a:pt x="5010" y="1204"/>
                </a:lnTo>
                <a:lnTo>
                  <a:pt x="4788" y="1710"/>
                </a:lnTo>
                <a:lnTo>
                  <a:pt x="3452" y="1900"/>
                </a:lnTo>
                <a:lnTo>
                  <a:pt x="0" y="1900"/>
                </a:lnTo>
                <a:lnTo>
                  <a:pt x="2672" y="18306"/>
                </a:lnTo>
                <a:lnTo>
                  <a:pt x="1781" y="19510"/>
                </a:lnTo>
                <a:lnTo>
                  <a:pt x="1113" y="20270"/>
                </a:lnTo>
                <a:lnTo>
                  <a:pt x="1113" y="21030"/>
                </a:lnTo>
                <a:lnTo>
                  <a:pt x="1336" y="21600"/>
                </a:lnTo>
                <a:close/>
                <a:moveTo>
                  <a:pt x="1336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AutoShape 46"/>
          <p:cNvSpPr/>
          <p:nvPr/>
        </p:nvSpPr>
        <p:spPr>
          <a:xfrm>
            <a:off x="11004480" y="3181320"/>
            <a:ext cx="79560" cy="82440"/>
          </a:xfrm>
          <a:custGeom>
            <a:avLst/>
            <a:gdLst>
              <a:gd name="textAreaLeft" fmla="*/ 0 w 79560"/>
              <a:gd name="textAreaRight" fmla="*/ 79920 w 795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1600" h="20199">
                <a:moveTo>
                  <a:pt x="0" y="8486"/>
                </a:moveTo>
                <a:lnTo>
                  <a:pt x="8640" y="0"/>
                </a:lnTo>
                <a:lnTo>
                  <a:pt x="21600" y="10029"/>
                </a:lnTo>
                <a:cubicBezTo>
                  <a:pt x="21600" y="10029"/>
                  <a:pt x="16416" y="21600"/>
                  <a:pt x="16416" y="20057"/>
                </a:cubicBezTo>
                <a:cubicBezTo>
                  <a:pt x="16416" y="18514"/>
                  <a:pt x="12096" y="13114"/>
                  <a:pt x="12096" y="13114"/>
                </a:cubicBezTo>
                <a:lnTo>
                  <a:pt x="3456" y="11571"/>
                </a:lnTo>
                <a:lnTo>
                  <a:pt x="0" y="8486"/>
                </a:lnTo>
                <a:close/>
                <a:moveTo>
                  <a:pt x="0" y="848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7" name="AutoShape 47"/>
          <p:cNvSpPr/>
          <p:nvPr/>
        </p:nvSpPr>
        <p:spPr>
          <a:xfrm>
            <a:off x="9921960" y="3000240"/>
            <a:ext cx="1574640" cy="114624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1600" h="21600">
                <a:moveTo>
                  <a:pt x="87" y="21600"/>
                </a:moveTo>
                <a:lnTo>
                  <a:pt x="5269" y="20044"/>
                </a:lnTo>
                <a:lnTo>
                  <a:pt x="6402" y="19625"/>
                </a:lnTo>
                <a:lnTo>
                  <a:pt x="7403" y="19266"/>
                </a:lnTo>
                <a:lnTo>
                  <a:pt x="8927" y="18788"/>
                </a:lnTo>
                <a:lnTo>
                  <a:pt x="9885" y="18489"/>
                </a:lnTo>
                <a:lnTo>
                  <a:pt x="10756" y="18130"/>
                </a:lnTo>
                <a:lnTo>
                  <a:pt x="12237" y="17711"/>
                </a:lnTo>
                <a:lnTo>
                  <a:pt x="13413" y="17172"/>
                </a:lnTo>
                <a:lnTo>
                  <a:pt x="16635" y="16275"/>
                </a:lnTo>
                <a:lnTo>
                  <a:pt x="17724" y="15796"/>
                </a:lnTo>
                <a:lnTo>
                  <a:pt x="18900" y="15557"/>
                </a:lnTo>
                <a:lnTo>
                  <a:pt x="19553" y="15317"/>
                </a:lnTo>
                <a:lnTo>
                  <a:pt x="19858" y="15138"/>
                </a:lnTo>
                <a:lnTo>
                  <a:pt x="19205" y="15138"/>
                </a:lnTo>
                <a:lnTo>
                  <a:pt x="19815" y="14719"/>
                </a:lnTo>
                <a:lnTo>
                  <a:pt x="19771" y="14061"/>
                </a:lnTo>
                <a:lnTo>
                  <a:pt x="19640" y="13283"/>
                </a:lnTo>
                <a:lnTo>
                  <a:pt x="18769" y="13163"/>
                </a:lnTo>
                <a:lnTo>
                  <a:pt x="18073" y="13163"/>
                </a:lnTo>
                <a:lnTo>
                  <a:pt x="17768" y="12804"/>
                </a:lnTo>
                <a:lnTo>
                  <a:pt x="17985" y="12625"/>
                </a:lnTo>
                <a:lnTo>
                  <a:pt x="18465" y="12206"/>
                </a:lnTo>
                <a:lnTo>
                  <a:pt x="18813" y="11608"/>
                </a:lnTo>
                <a:lnTo>
                  <a:pt x="18595" y="11488"/>
                </a:lnTo>
                <a:lnTo>
                  <a:pt x="17724" y="10830"/>
                </a:lnTo>
                <a:lnTo>
                  <a:pt x="17376" y="10471"/>
                </a:lnTo>
                <a:lnTo>
                  <a:pt x="17506" y="9992"/>
                </a:lnTo>
                <a:lnTo>
                  <a:pt x="18247" y="10351"/>
                </a:lnTo>
                <a:lnTo>
                  <a:pt x="18508" y="9813"/>
                </a:lnTo>
                <a:lnTo>
                  <a:pt x="18203" y="9454"/>
                </a:lnTo>
                <a:cubicBezTo>
                  <a:pt x="18203" y="9454"/>
                  <a:pt x="17811" y="9035"/>
                  <a:pt x="17724" y="8975"/>
                </a:cubicBezTo>
                <a:cubicBezTo>
                  <a:pt x="17637" y="8915"/>
                  <a:pt x="17289" y="8377"/>
                  <a:pt x="17289" y="8377"/>
                </a:cubicBezTo>
                <a:lnTo>
                  <a:pt x="17594" y="7778"/>
                </a:lnTo>
                <a:lnTo>
                  <a:pt x="17419" y="6462"/>
                </a:lnTo>
                <a:lnTo>
                  <a:pt x="16766" y="5086"/>
                </a:lnTo>
                <a:lnTo>
                  <a:pt x="16200" y="3111"/>
                </a:lnTo>
                <a:lnTo>
                  <a:pt x="15939" y="2393"/>
                </a:lnTo>
                <a:lnTo>
                  <a:pt x="16723" y="0"/>
                </a:lnTo>
                <a:lnTo>
                  <a:pt x="17115" y="838"/>
                </a:lnTo>
                <a:lnTo>
                  <a:pt x="17550" y="2872"/>
                </a:lnTo>
                <a:lnTo>
                  <a:pt x="18247" y="3949"/>
                </a:lnTo>
                <a:lnTo>
                  <a:pt x="18595" y="4547"/>
                </a:lnTo>
                <a:lnTo>
                  <a:pt x="18465" y="5565"/>
                </a:lnTo>
                <a:lnTo>
                  <a:pt x="18639" y="6402"/>
                </a:lnTo>
                <a:lnTo>
                  <a:pt x="19510" y="6941"/>
                </a:lnTo>
                <a:lnTo>
                  <a:pt x="20076" y="7659"/>
                </a:lnTo>
                <a:lnTo>
                  <a:pt x="20555" y="8616"/>
                </a:lnTo>
                <a:lnTo>
                  <a:pt x="20903" y="8736"/>
                </a:lnTo>
                <a:lnTo>
                  <a:pt x="21077" y="10710"/>
                </a:lnTo>
                <a:lnTo>
                  <a:pt x="20990" y="11787"/>
                </a:lnTo>
                <a:lnTo>
                  <a:pt x="20816" y="12445"/>
                </a:lnTo>
                <a:lnTo>
                  <a:pt x="21165" y="11727"/>
                </a:lnTo>
                <a:lnTo>
                  <a:pt x="21252" y="11129"/>
                </a:lnTo>
                <a:lnTo>
                  <a:pt x="21513" y="10531"/>
                </a:lnTo>
                <a:lnTo>
                  <a:pt x="21600" y="9873"/>
                </a:lnTo>
                <a:lnTo>
                  <a:pt x="21600" y="8915"/>
                </a:lnTo>
                <a:lnTo>
                  <a:pt x="21600" y="8078"/>
                </a:lnTo>
                <a:lnTo>
                  <a:pt x="20816" y="8796"/>
                </a:lnTo>
                <a:lnTo>
                  <a:pt x="20468" y="8676"/>
                </a:lnTo>
                <a:lnTo>
                  <a:pt x="19989" y="7719"/>
                </a:lnTo>
                <a:lnTo>
                  <a:pt x="19553" y="7001"/>
                </a:lnTo>
                <a:lnTo>
                  <a:pt x="18639" y="6522"/>
                </a:lnTo>
                <a:lnTo>
                  <a:pt x="18465" y="5804"/>
                </a:lnTo>
                <a:lnTo>
                  <a:pt x="18595" y="4607"/>
                </a:lnTo>
                <a:lnTo>
                  <a:pt x="18247" y="4129"/>
                </a:lnTo>
                <a:lnTo>
                  <a:pt x="17506" y="2992"/>
                </a:lnTo>
                <a:lnTo>
                  <a:pt x="17115" y="1017"/>
                </a:lnTo>
                <a:lnTo>
                  <a:pt x="16679" y="180"/>
                </a:lnTo>
                <a:lnTo>
                  <a:pt x="15895" y="2453"/>
                </a:lnTo>
                <a:lnTo>
                  <a:pt x="16200" y="3231"/>
                </a:lnTo>
                <a:lnTo>
                  <a:pt x="16810" y="5206"/>
                </a:lnTo>
                <a:lnTo>
                  <a:pt x="17419" y="6522"/>
                </a:lnTo>
                <a:lnTo>
                  <a:pt x="17550" y="7958"/>
                </a:lnTo>
                <a:lnTo>
                  <a:pt x="17289" y="8437"/>
                </a:lnTo>
                <a:lnTo>
                  <a:pt x="16853" y="8437"/>
                </a:lnTo>
                <a:lnTo>
                  <a:pt x="16244" y="7958"/>
                </a:lnTo>
                <a:lnTo>
                  <a:pt x="16026" y="7360"/>
                </a:lnTo>
                <a:lnTo>
                  <a:pt x="16113" y="6163"/>
                </a:lnTo>
                <a:lnTo>
                  <a:pt x="15721" y="4787"/>
                </a:lnTo>
                <a:lnTo>
                  <a:pt x="15329" y="4428"/>
                </a:lnTo>
                <a:lnTo>
                  <a:pt x="15024" y="4428"/>
                </a:lnTo>
                <a:lnTo>
                  <a:pt x="14763" y="3949"/>
                </a:lnTo>
                <a:lnTo>
                  <a:pt x="14632" y="3052"/>
                </a:lnTo>
                <a:lnTo>
                  <a:pt x="14153" y="2453"/>
                </a:lnTo>
                <a:lnTo>
                  <a:pt x="13544" y="2453"/>
                </a:lnTo>
                <a:lnTo>
                  <a:pt x="13195" y="2932"/>
                </a:lnTo>
                <a:lnTo>
                  <a:pt x="13152" y="3470"/>
                </a:lnTo>
                <a:lnTo>
                  <a:pt x="12455" y="3171"/>
                </a:lnTo>
                <a:lnTo>
                  <a:pt x="12019" y="2633"/>
                </a:lnTo>
                <a:lnTo>
                  <a:pt x="11715" y="2633"/>
                </a:lnTo>
                <a:lnTo>
                  <a:pt x="11802" y="3770"/>
                </a:lnTo>
                <a:lnTo>
                  <a:pt x="11715" y="4248"/>
                </a:lnTo>
                <a:lnTo>
                  <a:pt x="11715" y="4667"/>
                </a:lnTo>
                <a:lnTo>
                  <a:pt x="11627" y="5206"/>
                </a:lnTo>
                <a:lnTo>
                  <a:pt x="11584" y="5744"/>
                </a:lnTo>
                <a:lnTo>
                  <a:pt x="11192" y="5804"/>
                </a:lnTo>
                <a:lnTo>
                  <a:pt x="10931" y="5924"/>
                </a:lnTo>
                <a:lnTo>
                  <a:pt x="10931" y="6223"/>
                </a:lnTo>
                <a:lnTo>
                  <a:pt x="10931" y="6701"/>
                </a:lnTo>
                <a:lnTo>
                  <a:pt x="10844" y="7360"/>
                </a:lnTo>
                <a:lnTo>
                  <a:pt x="10887" y="7958"/>
                </a:lnTo>
                <a:lnTo>
                  <a:pt x="10713" y="8257"/>
                </a:lnTo>
                <a:lnTo>
                  <a:pt x="10103" y="8437"/>
                </a:lnTo>
                <a:lnTo>
                  <a:pt x="9798" y="8437"/>
                </a:lnTo>
                <a:lnTo>
                  <a:pt x="9363" y="8078"/>
                </a:lnTo>
                <a:lnTo>
                  <a:pt x="9189" y="8257"/>
                </a:lnTo>
                <a:lnTo>
                  <a:pt x="9145" y="8616"/>
                </a:lnTo>
                <a:lnTo>
                  <a:pt x="9363" y="9155"/>
                </a:lnTo>
                <a:lnTo>
                  <a:pt x="9363" y="9693"/>
                </a:lnTo>
                <a:lnTo>
                  <a:pt x="9319" y="10232"/>
                </a:lnTo>
                <a:lnTo>
                  <a:pt x="9145" y="10890"/>
                </a:lnTo>
                <a:lnTo>
                  <a:pt x="8753" y="11548"/>
                </a:lnTo>
                <a:lnTo>
                  <a:pt x="8535" y="12086"/>
                </a:lnTo>
                <a:lnTo>
                  <a:pt x="8405" y="12505"/>
                </a:lnTo>
                <a:lnTo>
                  <a:pt x="8448" y="12864"/>
                </a:lnTo>
                <a:lnTo>
                  <a:pt x="8318" y="13582"/>
                </a:lnTo>
                <a:lnTo>
                  <a:pt x="8056" y="13702"/>
                </a:lnTo>
                <a:lnTo>
                  <a:pt x="7534" y="13762"/>
                </a:lnTo>
                <a:lnTo>
                  <a:pt x="7011" y="14001"/>
                </a:lnTo>
                <a:lnTo>
                  <a:pt x="6663" y="14300"/>
                </a:lnTo>
                <a:lnTo>
                  <a:pt x="6794" y="14899"/>
                </a:lnTo>
                <a:lnTo>
                  <a:pt x="6402" y="15557"/>
                </a:lnTo>
                <a:lnTo>
                  <a:pt x="5966" y="16155"/>
                </a:lnTo>
                <a:lnTo>
                  <a:pt x="5618" y="16335"/>
                </a:lnTo>
                <a:lnTo>
                  <a:pt x="5226" y="16335"/>
                </a:lnTo>
                <a:lnTo>
                  <a:pt x="4834" y="16634"/>
                </a:lnTo>
                <a:lnTo>
                  <a:pt x="4790" y="17172"/>
                </a:lnTo>
                <a:lnTo>
                  <a:pt x="4660" y="17651"/>
                </a:lnTo>
                <a:lnTo>
                  <a:pt x="3963" y="17651"/>
                </a:lnTo>
                <a:lnTo>
                  <a:pt x="3440" y="17711"/>
                </a:lnTo>
                <a:lnTo>
                  <a:pt x="3048" y="17172"/>
                </a:lnTo>
                <a:lnTo>
                  <a:pt x="2700" y="16753"/>
                </a:lnTo>
                <a:lnTo>
                  <a:pt x="2395" y="16394"/>
                </a:lnTo>
                <a:lnTo>
                  <a:pt x="1960" y="17471"/>
                </a:lnTo>
                <a:lnTo>
                  <a:pt x="1568" y="18249"/>
                </a:lnTo>
                <a:lnTo>
                  <a:pt x="1089" y="18907"/>
                </a:lnTo>
                <a:lnTo>
                  <a:pt x="566" y="19865"/>
                </a:lnTo>
                <a:lnTo>
                  <a:pt x="218" y="20583"/>
                </a:lnTo>
                <a:lnTo>
                  <a:pt x="0" y="21181"/>
                </a:lnTo>
                <a:lnTo>
                  <a:pt x="87" y="21600"/>
                </a:lnTo>
                <a:close/>
                <a:moveTo>
                  <a:pt x="87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AutoShape 48"/>
          <p:cNvSpPr/>
          <p:nvPr/>
        </p:nvSpPr>
        <p:spPr>
          <a:xfrm>
            <a:off x="9880560" y="2987640"/>
            <a:ext cx="1006560" cy="9590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1600" h="21600">
                <a:moveTo>
                  <a:pt x="21396" y="4363"/>
                </a:moveTo>
                <a:lnTo>
                  <a:pt x="21600" y="3433"/>
                </a:lnTo>
                <a:lnTo>
                  <a:pt x="21600" y="2718"/>
                </a:lnTo>
                <a:lnTo>
                  <a:pt x="20782" y="2289"/>
                </a:lnTo>
                <a:lnTo>
                  <a:pt x="19897" y="1788"/>
                </a:lnTo>
                <a:lnTo>
                  <a:pt x="19351" y="1860"/>
                </a:lnTo>
                <a:lnTo>
                  <a:pt x="18806" y="2289"/>
                </a:lnTo>
                <a:lnTo>
                  <a:pt x="18329" y="2789"/>
                </a:lnTo>
                <a:lnTo>
                  <a:pt x="17444" y="2646"/>
                </a:lnTo>
                <a:lnTo>
                  <a:pt x="16694" y="2789"/>
                </a:lnTo>
                <a:lnTo>
                  <a:pt x="16013" y="3433"/>
                </a:lnTo>
                <a:lnTo>
                  <a:pt x="15263" y="4005"/>
                </a:lnTo>
                <a:lnTo>
                  <a:pt x="14582" y="4864"/>
                </a:lnTo>
                <a:lnTo>
                  <a:pt x="14037" y="4864"/>
                </a:lnTo>
                <a:lnTo>
                  <a:pt x="13764" y="2718"/>
                </a:lnTo>
                <a:lnTo>
                  <a:pt x="12878" y="3004"/>
                </a:lnTo>
                <a:lnTo>
                  <a:pt x="11856" y="3505"/>
                </a:lnTo>
                <a:lnTo>
                  <a:pt x="10834" y="3505"/>
                </a:lnTo>
                <a:lnTo>
                  <a:pt x="9948" y="3791"/>
                </a:lnTo>
                <a:lnTo>
                  <a:pt x="9062" y="4077"/>
                </a:lnTo>
                <a:lnTo>
                  <a:pt x="8177" y="4077"/>
                </a:lnTo>
                <a:lnTo>
                  <a:pt x="7836" y="2932"/>
                </a:lnTo>
                <a:lnTo>
                  <a:pt x="7427" y="1717"/>
                </a:lnTo>
                <a:lnTo>
                  <a:pt x="7359" y="858"/>
                </a:lnTo>
                <a:lnTo>
                  <a:pt x="7155" y="0"/>
                </a:lnTo>
                <a:lnTo>
                  <a:pt x="6950" y="1359"/>
                </a:lnTo>
                <a:lnTo>
                  <a:pt x="6882" y="2575"/>
                </a:lnTo>
                <a:lnTo>
                  <a:pt x="6882" y="3362"/>
                </a:lnTo>
                <a:lnTo>
                  <a:pt x="6950" y="4291"/>
                </a:lnTo>
                <a:lnTo>
                  <a:pt x="7018" y="5007"/>
                </a:lnTo>
                <a:lnTo>
                  <a:pt x="6609" y="6008"/>
                </a:lnTo>
                <a:lnTo>
                  <a:pt x="5996" y="6652"/>
                </a:lnTo>
                <a:lnTo>
                  <a:pt x="5315" y="7152"/>
                </a:lnTo>
                <a:lnTo>
                  <a:pt x="4770" y="7725"/>
                </a:lnTo>
                <a:lnTo>
                  <a:pt x="5315" y="8511"/>
                </a:lnTo>
                <a:lnTo>
                  <a:pt x="5042" y="9012"/>
                </a:lnTo>
                <a:lnTo>
                  <a:pt x="4497" y="10013"/>
                </a:lnTo>
                <a:lnTo>
                  <a:pt x="3884" y="9942"/>
                </a:lnTo>
                <a:lnTo>
                  <a:pt x="3475" y="9656"/>
                </a:lnTo>
                <a:lnTo>
                  <a:pt x="2930" y="10156"/>
                </a:lnTo>
                <a:lnTo>
                  <a:pt x="2794" y="11158"/>
                </a:lnTo>
                <a:lnTo>
                  <a:pt x="2521" y="12016"/>
                </a:lnTo>
                <a:lnTo>
                  <a:pt x="2112" y="12660"/>
                </a:lnTo>
                <a:lnTo>
                  <a:pt x="1703" y="13232"/>
                </a:lnTo>
                <a:lnTo>
                  <a:pt x="613" y="13232"/>
                </a:lnTo>
                <a:lnTo>
                  <a:pt x="0" y="13303"/>
                </a:lnTo>
                <a:lnTo>
                  <a:pt x="0" y="14662"/>
                </a:lnTo>
                <a:lnTo>
                  <a:pt x="136" y="15735"/>
                </a:lnTo>
                <a:lnTo>
                  <a:pt x="477" y="16665"/>
                </a:lnTo>
                <a:lnTo>
                  <a:pt x="1431" y="17666"/>
                </a:lnTo>
                <a:lnTo>
                  <a:pt x="2180" y="17809"/>
                </a:lnTo>
                <a:lnTo>
                  <a:pt x="2794" y="18453"/>
                </a:lnTo>
                <a:lnTo>
                  <a:pt x="3271" y="18811"/>
                </a:lnTo>
                <a:cubicBezTo>
                  <a:pt x="3271" y="18811"/>
                  <a:pt x="4156" y="19383"/>
                  <a:pt x="4020" y="19383"/>
                </a:cubicBezTo>
                <a:cubicBezTo>
                  <a:pt x="3884" y="19383"/>
                  <a:pt x="4429" y="19740"/>
                  <a:pt x="4429" y="19740"/>
                </a:cubicBezTo>
                <a:lnTo>
                  <a:pt x="4906" y="19883"/>
                </a:lnTo>
                <a:lnTo>
                  <a:pt x="5451" y="20599"/>
                </a:lnTo>
                <a:lnTo>
                  <a:pt x="5928" y="21099"/>
                </a:lnTo>
                <a:lnTo>
                  <a:pt x="6473" y="21600"/>
                </a:lnTo>
                <a:lnTo>
                  <a:pt x="6950" y="21528"/>
                </a:lnTo>
                <a:lnTo>
                  <a:pt x="7768" y="21457"/>
                </a:lnTo>
                <a:lnTo>
                  <a:pt x="8245" y="20885"/>
                </a:lnTo>
                <a:lnTo>
                  <a:pt x="8381" y="20098"/>
                </a:lnTo>
                <a:lnTo>
                  <a:pt x="8858" y="20026"/>
                </a:lnTo>
                <a:lnTo>
                  <a:pt x="9335" y="19740"/>
                </a:lnTo>
                <a:lnTo>
                  <a:pt x="10357" y="19597"/>
                </a:lnTo>
                <a:lnTo>
                  <a:pt x="10970" y="18739"/>
                </a:lnTo>
                <a:lnTo>
                  <a:pt x="11447" y="18238"/>
                </a:lnTo>
                <a:lnTo>
                  <a:pt x="11175" y="17881"/>
                </a:lnTo>
                <a:lnTo>
                  <a:pt x="11311" y="17523"/>
                </a:lnTo>
                <a:lnTo>
                  <a:pt x="11584" y="17094"/>
                </a:lnTo>
                <a:lnTo>
                  <a:pt x="12197" y="16879"/>
                </a:lnTo>
                <a:lnTo>
                  <a:pt x="12878" y="16879"/>
                </a:lnTo>
                <a:lnTo>
                  <a:pt x="13355" y="16736"/>
                </a:lnTo>
                <a:lnTo>
                  <a:pt x="13696" y="16379"/>
                </a:lnTo>
                <a:lnTo>
                  <a:pt x="14037" y="15878"/>
                </a:lnTo>
                <a:lnTo>
                  <a:pt x="13968" y="15306"/>
                </a:lnTo>
                <a:lnTo>
                  <a:pt x="14037" y="14805"/>
                </a:lnTo>
                <a:lnTo>
                  <a:pt x="14309" y="14233"/>
                </a:lnTo>
                <a:cubicBezTo>
                  <a:pt x="14309" y="14233"/>
                  <a:pt x="14582" y="14090"/>
                  <a:pt x="14718" y="13661"/>
                </a:cubicBezTo>
                <a:cubicBezTo>
                  <a:pt x="14854" y="13232"/>
                  <a:pt x="15399" y="13017"/>
                  <a:pt x="15399" y="13017"/>
                </a:cubicBezTo>
                <a:cubicBezTo>
                  <a:pt x="15399" y="13017"/>
                  <a:pt x="15059" y="12660"/>
                  <a:pt x="15195" y="12230"/>
                </a:cubicBezTo>
                <a:cubicBezTo>
                  <a:pt x="15331" y="11801"/>
                  <a:pt x="15127" y="11158"/>
                  <a:pt x="15127" y="11158"/>
                </a:cubicBezTo>
                <a:lnTo>
                  <a:pt x="15127" y="10728"/>
                </a:lnTo>
                <a:lnTo>
                  <a:pt x="15059" y="10156"/>
                </a:lnTo>
                <a:lnTo>
                  <a:pt x="15331" y="9870"/>
                </a:lnTo>
                <a:lnTo>
                  <a:pt x="15740" y="9870"/>
                </a:lnTo>
                <a:lnTo>
                  <a:pt x="15876" y="10299"/>
                </a:lnTo>
                <a:lnTo>
                  <a:pt x="16762" y="10371"/>
                </a:lnTo>
                <a:lnTo>
                  <a:pt x="17171" y="10299"/>
                </a:lnTo>
                <a:cubicBezTo>
                  <a:pt x="17171" y="10299"/>
                  <a:pt x="17784" y="10013"/>
                  <a:pt x="17784" y="9870"/>
                </a:cubicBezTo>
                <a:cubicBezTo>
                  <a:pt x="17784" y="9727"/>
                  <a:pt x="17784" y="8583"/>
                  <a:pt x="17784" y="8583"/>
                </a:cubicBezTo>
                <a:lnTo>
                  <a:pt x="17784" y="7939"/>
                </a:lnTo>
                <a:lnTo>
                  <a:pt x="17716" y="7152"/>
                </a:lnTo>
                <a:lnTo>
                  <a:pt x="18057" y="7081"/>
                </a:lnTo>
                <a:lnTo>
                  <a:pt x="18806" y="7081"/>
                </a:lnTo>
                <a:lnTo>
                  <a:pt x="18943" y="6509"/>
                </a:lnTo>
                <a:lnTo>
                  <a:pt x="18943" y="5793"/>
                </a:lnTo>
                <a:lnTo>
                  <a:pt x="19283" y="5507"/>
                </a:lnTo>
                <a:lnTo>
                  <a:pt x="19828" y="5436"/>
                </a:lnTo>
                <a:lnTo>
                  <a:pt x="19556" y="4649"/>
                </a:lnTo>
                <a:lnTo>
                  <a:pt x="19965" y="4363"/>
                </a:lnTo>
                <a:lnTo>
                  <a:pt x="20305" y="4077"/>
                </a:lnTo>
                <a:lnTo>
                  <a:pt x="20782" y="4077"/>
                </a:lnTo>
                <a:lnTo>
                  <a:pt x="21396" y="4363"/>
                </a:lnTo>
                <a:close/>
                <a:moveTo>
                  <a:pt x="21396" y="436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9" name="AutoShape 49"/>
          <p:cNvSpPr/>
          <p:nvPr/>
        </p:nvSpPr>
        <p:spPr>
          <a:xfrm>
            <a:off x="7750080" y="1698480"/>
            <a:ext cx="1041480" cy="115596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21600" h="21600">
                <a:moveTo>
                  <a:pt x="18900" y="10029"/>
                </a:moveTo>
                <a:lnTo>
                  <a:pt x="19690" y="9079"/>
                </a:lnTo>
                <a:lnTo>
                  <a:pt x="20217" y="8604"/>
                </a:lnTo>
                <a:lnTo>
                  <a:pt x="20480" y="7952"/>
                </a:lnTo>
                <a:lnTo>
                  <a:pt x="20810" y="7358"/>
                </a:lnTo>
                <a:lnTo>
                  <a:pt x="21271" y="6824"/>
                </a:lnTo>
                <a:lnTo>
                  <a:pt x="21271" y="6349"/>
                </a:lnTo>
                <a:lnTo>
                  <a:pt x="21534" y="7002"/>
                </a:lnTo>
                <a:lnTo>
                  <a:pt x="21402" y="7655"/>
                </a:lnTo>
                <a:lnTo>
                  <a:pt x="21271" y="8308"/>
                </a:lnTo>
                <a:lnTo>
                  <a:pt x="21337" y="9079"/>
                </a:lnTo>
                <a:lnTo>
                  <a:pt x="21007" y="9732"/>
                </a:lnTo>
                <a:lnTo>
                  <a:pt x="20876" y="10563"/>
                </a:lnTo>
                <a:lnTo>
                  <a:pt x="20612" y="11156"/>
                </a:lnTo>
                <a:lnTo>
                  <a:pt x="20415" y="14360"/>
                </a:lnTo>
                <a:lnTo>
                  <a:pt x="20546" y="15547"/>
                </a:lnTo>
                <a:lnTo>
                  <a:pt x="20810" y="17268"/>
                </a:lnTo>
                <a:lnTo>
                  <a:pt x="20941" y="18277"/>
                </a:lnTo>
                <a:lnTo>
                  <a:pt x="21402" y="18870"/>
                </a:lnTo>
                <a:lnTo>
                  <a:pt x="21468" y="19404"/>
                </a:lnTo>
                <a:lnTo>
                  <a:pt x="21468" y="20057"/>
                </a:lnTo>
                <a:lnTo>
                  <a:pt x="21402" y="20710"/>
                </a:lnTo>
                <a:lnTo>
                  <a:pt x="21600" y="21244"/>
                </a:lnTo>
                <a:lnTo>
                  <a:pt x="8232" y="21600"/>
                </a:lnTo>
                <a:lnTo>
                  <a:pt x="7705" y="21422"/>
                </a:lnTo>
                <a:lnTo>
                  <a:pt x="7178" y="20829"/>
                </a:lnTo>
                <a:lnTo>
                  <a:pt x="7310" y="19998"/>
                </a:lnTo>
                <a:lnTo>
                  <a:pt x="7376" y="19226"/>
                </a:lnTo>
                <a:lnTo>
                  <a:pt x="7244" y="18633"/>
                </a:lnTo>
                <a:lnTo>
                  <a:pt x="6783" y="18396"/>
                </a:lnTo>
                <a:lnTo>
                  <a:pt x="6520" y="17505"/>
                </a:lnTo>
                <a:lnTo>
                  <a:pt x="6651" y="14895"/>
                </a:lnTo>
                <a:lnTo>
                  <a:pt x="6454" y="14301"/>
                </a:lnTo>
                <a:lnTo>
                  <a:pt x="5334" y="13886"/>
                </a:lnTo>
                <a:lnTo>
                  <a:pt x="4346" y="12996"/>
                </a:lnTo>
                <a:lnTo>
                  <a:pt x="2963" y="11868"/>
                </a:lnTo>
                <a:lnTo>
                  <a:pt x="2041" y="11631"/>
                </a:lnTo>
                <a:lnTo>
                  <a:pt x="988" y="11571"/>
                </a:lnTo>
                <a:lnTo>
                  <a:pt x="593" y="11215"/>
                </a:lnTo>
                <a:lnTo>
                  <a:pt x="329" y="10741"/>
                </a:lnTo>
                <a:lnTo>
                  <a:pt x="724" y="10444"/>
                </a:lnTo>
                <a:lnTo>
                  <a:pt x="1185" y="10266"/>
                </a:lnTo>
                <a:lnTo>
                  <a:pt x="1251" y="9732"/>
                </a:lnTo>
                <a:lnTo>
                  <a:pt x="1054" y="9138"/>
                </a:lnTo>
                <a:lnTo>
                  <a:pt x="856" y="8367"/>
                </a:lnTo>
                <a:lnTo>
                  <a:pt x="856" y="7714"/>
                </a:lnTo>
                <a:lnTo>
                  <a:pt x="922" y="6468"/>
                </a:lnTo>
                <a:lnTo>
                  <a:pt x="1054" y="5578"/>
                </a:lnTo>
                <a:lnTo>
                  <a:pt x="527" y="5341"/>
                </a:lnTo>
                <a:lnTo>
                  <a:pt x="0" y="4925"/>
                </a:lnTo>
                <a:lnTo>
                  <a:pt x="66" y="4569"/>
                </a:lnTo>
                <a:lnTo>
                  <a:pt x="988" y="4154"/>
                </a:lnTo>
                <a:lnTo>
                  <a:pt x="1778" y="3501"/>
                </a:lnTo>
                <a:lnTo>
                  <a:pt x="2568" y="3264"/>
                </a:lnTo>
                <a:lnTo>
                  <a:pt x="2963" y="2730"/>
                </a:lnTo>
                <a:lnTo>
                  <a:pt x="2832" y="1958"/>
                </a:lnTo>
                <a:lnTo>
                  <a:pt x="3161" y="1068"/>
                </a:lnTo>
                <a:lnTo>
                  <a:pt x="3293" y="297"/>
                </a:lnTo>
                <a:lnTo>
                  <a:pt x="3820" y="119"/>
                </a:lnTo>
                <a:lnTo>
                  <a:pt x="4412" y="178"/>
                </a:lnTo>
                <a:lnTo>
                  <a:pt x="5202" y="237"/>
                </a:lnTo>
                <a:lnTo>
                  <a:pt x="5861" y="297"/>
                </a:lnTo>
                <a:lnTo>
                  <a:pt x="6717" y="0"/>
                </a:lnTo>
                <a:lnTo>
                  <a:pt x="7310" y="0"/>
                </a:lnTo>
                <a:lnTo>
                  <a:pt x="6849" y="534"/>
                </a:lnTo>
                <a:lnTo>
                  <a:pt x="6849" y="831"/>
                </a:lnTo>
                <a:lnTo>
                  <a:pt x="7310" y="949"/>
                </a:lnTo>
                <a:lnTo>
                  <a:pt x="8100" y="1009"/>
                </a:lnTo>
                <a:lnTo>
                  <a:pt x="8759" y="1543"/>
                </a:lnTo>
                <a:lnTo>
                  <a:pt x="9154" y="1840"/>
                </a:lnTo>
                <a:lnTo>
                  <a:pt x="9746" y="1840"/>
                </a:lnTo>
                <a:lnTo>
                  <a:pt x="10207" y="1721"/>
                </a:lnTo>
                <a:lnTo>
                  <a:pt x="10800" y="2077"/>
                </a:lnTo>
                <a:lnTo>
                  <a:pt x="11459" y="2314"/>
                </a:lnTo>
                <a:lnTo>
                  <a:pt x="12183" y="2670"/>
                </a:lnTo>
                <a:lnTo>
                  <a:pt x="12973" y="2789"/>
                </a:lnTo>
                <a:lnTo>
                  <a:pt x="13632" y="2967"/>
                </a:lnTo>
                <a:lnTo>
                  <a:pt x="14488" y="3382"/>
                </a:lnTo>
                <a:lnTo>
                  <a:pt x="15344" y="3501"/>
                </a:lnTo>
                <a:lnTo>
                  <a:pt x="16200" y="3679"/>
                </a:lnTo>
                <a:lnTo>
                  <a:pt x="16924" y="3738"/>
                </a:lnTo>
                <a:lnTo>
                  <a:pt x="17715" y="4391"/>
                </a:lnTo>
                <a:lnTo>
                  <a:pt x="18439" y="4925"/>
                </a:lnTo>
                <a:lnTo>
                  <a:pt x="18900" y="5578"/>
                </a:lnTo>
                <a:lnTo>
                  <a:pt x="19163" y="6231"/>
                </a:lnTo>
                <a:lnTo>
                  <a:pt x="19493" y="7180"/>
                </a:lnTo>
                <a:lnTo>
                  <a:pt x="19559" y="7774"/>
                </a:lnTo>
                <a:lnTo>
                  <a:pt x="19229" y="8070"/>
                </a:lnTo>
                <a:lnTo>
                  <a:pt x="19163" y="8604"/>
                </a:lnTo>
                <a:lnTo>
                  <a:pt x="18966" y="9198"/>
                </a:lnTo>
                <a:lnTo>
                  <a:pt x="18966" y="9673"/>
                </a:lnTo>
                <a:lnTo>
                  <a:pt x="18900" y="10029"/>
                </a:lnTo>
                <a:close/>
                <a:moveTo>
                  <a:pt x="18900" y="10029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AutoShape 50"/>
          <p:cNvSpPr/>
          <p:nvPr/>
        </p:nvSpPr>
        <p:spPr>
          <a:xfrm>
            <a:off x="7061040" y="2647800"/>
            <a:ext cx="1206720" cy="892440"/>
          </a:xfrm>
          <a:custGeom>
            <a:avLst/>
            <a:gdLst>
              <a:gd name="textAreaLeft" fmla="*/ 0 w 1206720"/>
              <a:gd name="textAreaRight" fmla="*/ 1206720 w 120672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" y="1076"/>
                </a:lnTo>
                <a:lnTo>
                  <a:pt x="341" y="1999"/>
                </a:lnTo>
                <a:lnTo>
                  <a:pt x="966" y="2229"/>
                </a:lnTo>
                <a:lnTo>
                  <a:pt x="1137" y="3305"/>
                </a:lnTo>
                <a:lnTo>
                  <a:pt x="1592" y="5227"/>
                </a:lnTo>
                <a:lnTo>
                  <a:pt x="1592" y="6149"/>
                </a:lnTo>
                <a:lnTo>
                  <a:pt x="1819" y="6764"/>
                </a:lnTo>
                <a:lnTo>
                  <a:pt x="2046" y="8148"/>
                </a:lnTo>
                <a:lnTo>
                  <a:pt x="2217" y="9455"/>
                </a:lnTo>
                <a:lnTo>
                  <a:pt x="2501" y="10915"/>
                </a:lnTo>
                <a:lnTo>
                  <a:pt x="2785" y="12299"/>
                </a:lnTo>
                <a:lnTo>
                  <a:pt x="2956" y="13913"/>
                </a:lnTo>
                <a:lnTo>
                  <a:pt x="3354" y="15297"/>
                </a:lnTo>
                <a:lnTo>
                  <a:pt x="3467" y="16450"/>
                </a:lnTo>
                <a:lnTo>
                  <a:pt x="3808" y="17833"/>
                </a:lnTo>
                <a:lnTo>
                  <a:pt x="4206" y="19063"/>
                </a:lnTo>
                <a:lnTo>
                  <a:pt x="4377" y="19601"/>
                </a:lnTo>
                <a:lnTo>
                  <a:pt x="16768" y="19525"/>
                </a:lnTo>
                <a:lnTo>
                  <a:pt x="17735" y="20063"/>
                </a:lnTo>
                <a:lnTo>
                  <a:pt x="18303" y="20754"/>
                </a:lnTo>
                <a:lnTo>
                  <a:pt x="18815" y="21600"/>
                </a:lnTo>
                <a:lnTo>
                  <a:pt x="18928" y="21062"/>
                </a:lnTo>
                <a:lnTo>
                  <a:pt x="18872" y="20293"/>
                </a:lnTo>
                <a:lnTo>
                  <a:pt x="18531" y="19909"/>
                </a:lnTo>
                <a:cubicBezTo>
                  <a:pt x="18531" y="19909"/>
                  <a:pt x="18587" y="19678"/>
                  <a:pt x="18644" y="19140"/>
                </a:cubicBezTo>
                <a:cubicBezTo>
                  <a:pt x="18701" y="18602"/>
                  <a:pt x="19156" y="18525"/>
                  <a:pt x="19156" y="18525"/>
                </a:cubicBezTo>
                <a:lnTo>
                  <a:pt x="19554" y="18218"/>
                </a:lnTo>
                <a:lnTo>
                  <a:pt x="19554" y="17603"/>
                </a:lnTo>
                <a:lnTo>
                  <a:pt x="19667" y="17065"/>
                </a:lnTo>
                <a:lnTo>
                  <a:pt x="20065" y="16680"/>
                </a:lnTo>
                <a:lnTo>
                  <a:pt x="20236" y="15912"/>
                </a:lnTo>
                <a:lnTo>
                  <a:pt x="20065" y="15297"/>
                </a:lnTo>
                <a:lnTo>
                  <a:pt x="19781" y="14528"/>
                </a:lnTo>
                <a:cubicBezTo>
                  <a:pt x="19781" y="14528"/>
                  <a:pt x="19554" y="13529"/>
                  <a:pt x="19497" y="13683"/>
                </a:cubicBezTo>
                <a:cubicBezTo>
                  <a:pt x="19440" y="13836"/>
                  <a:pt x="19099" y="13759"/>
                  <a:pt x="19099" y="13759"/>
                </a:cubicBezTo>
                <a:lnTo>
                  <a:pt x="19099" y="12991"/>
                </a:lnTo>
                <a:lnTo>
                  <a:pt x="19213" y="12145"/>
                </a:lnTo>
                <a:lnTo>
                  <a:pt x="19440" y="11300"/>
                </a:lnTo>
                <a:lnTo>
                  <a:pt x="19781" y="11146"/>
                </a:lnTo>
                <a:lnTo>
                  <a:pt x="20463" y="10531"/>
                </a:lnTo>
                <a:lnTo>
                  <a:pt x="20691" y="9916"/>
                </a:lnTo>
                <a:lnTo>
                  <a:pt x="21373" y="9685"/>
                </a:lnTo>
                <a:lnTo>
                  <a:pt x="21600" y="8994"/>
                </a:lnTo>
                <a:lnTo>
                  <a:pt x="21600" y="8071"/>
                </a:lnTo>
                <a:lnTo>
                  <a:pt x="21202" y="6764"/>
                </a:lnTo>
                <a:cubicBezTo>
                  <a:pt x="21202" y="6764"/>
                  <a:pt x="20975" y="6457"/>
                  <a:pt x="20975" y="6303"/>
                </a:cubicBezTo>
                <a:cubicBezTo>
                  <a:pt x="20975" y="6149"/>
                  <a:pt x="20236" y="5535"/>
                  <a:pt x="20236" y="5535"/>
                </a:cubicBezTo>
                <a:lnTo>
                  <a:pt x="19554" y="4920"/>
                </a:lnTo>
                <a:lnTo>
                  <a:pt x="18985" y="4612"/>
                </a:lnTo>
                <a:lnTo>
                  <a:pt x="18531" y="4381"/>
                </a:lnTo>
                <a:lnTo>
                  <a:pt x="18531" y="3382"/>
                </a:lnTo>
                <a:lnTo>
                  <a:pt x="18587" y="2537"/>
                </a:lnTo>
                <a:lnTo>
                  <a:pt x="18587" y="1691"/>
                </a:lnTo>
                <a:lnTo>
                  <a:pt x="18303" y="922"/>
                </a:lnTo>
                <a:lnTo>
                  <a:pt x="18076" y="384"/>
                </a:lnTo>
                <a:lnTo>
                  <a:pt x="17848" y="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1" name="AutoShape 51"/>
          <p:cNvSpPr/>
          <p:nvPr/>
        </p:nvSpPr>
        <p:spPr>
          <a:xfrm>
            <a:off x="11401560" y="1876320"/>
            <a:ext cx="635040" cy="378000"/>
          </a:xfrm>
          <a:custGeom>
            <a:avLst/>
            <a:gdLst>
              <a:gd name="textAreaLeft" fmla="*/ 0 w 635040"/>
              <a:gd name="textAreaRight" fmla="*/ 635400 w 6350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19980" y="7805"/>
                </a:moveTo>
                <a:lnTo>
                  <a:pt x="20844" y="9439"/>
                </a:lnTo>
                <a:lnTo>
                  <a:pt x="21600" y="11435"/>
                </a:lnTo>
                <a:lnTo>
                  <a:pt x="21060" y="12524"/>
                </a:lnTo>
                <a:lnTo>
                  <a:pt x="20520" y="13613"/>
                </a:lnTo>
                <a:lnTo>
                  <a:pt x="19224" y="14158"/>
                </a:lnTo>
                <a:lnTo>
                  <a:pt x="18036" y="14158"/>
                </a:lnTo>
                <a:lnTo>
                  <a:pt x="17280" y="15066"/>
                </a:lnTo>
                <a:lnTo>
                  <a:pt x="16848" y="15792"/>
                </a:lnTo>
                <a:lnTo>
                  <a:pt x="16740" y="18514"/>
                </a:lnTo>
                <a:lnTo>
                  <a:pt x="16092" y="19603"/>
                </a:lnTo>
                <a:cubicBezTo>
                  <a:pt x="16092" y="19603"/>
                  <a:pt x="16092" y="21055"/>
                  <a:pt x="15876" y="21055"/>
                </a:cubicBezTo>
                <a:cubicBezTo>
                  <a:pt x="15660" y="21055"/>
                  <a:pt x="12420" y="14521"/>
                  <a:pt x="12420" y="14521"/>
                </a:cubicBezTo>
                <a:lnTo>
                  <a:pt x="9720" y="16518"/>
                </a:lnTo>
                <a:lnTo>
                  <a:pt x="432" y="21600"/>
                </a:lnTo>
                <a:lnTo>
                  <a:pt x="0" y="8713"/>
                </a:lnTo>
                <a:lnTo>
                  <a:pt x="13716" y="0"/>
                </a:lnTo>
                <a:lnTo>
                  <a:pt x="13824" y="1634"/>
                </a:lnTo>
                <a:lnTo>
                  <a:pt x="13608" y="3630"/>
                </a:lnTo>
                <a:lnTo>
                  <a:pt x="13932" y="5990"/>
                </a:lnTo>
                <a:lnTo>
                  <a:pt x="14148" y="7987"/>
                </a:lnTo>
                <a:lnTo>
                  <a:pt x="15012" y="8168"/>
                </a:lnTo>
                <a:lnTo>
                  <a:pt x="15552" y="8168"/>
                </a:lnTo>
                <a:lnTo>
                  <a:pt x="15552" y="9620"/>
                </a:lnTo>
                <a:lnTo>
                  <a:pt x="16416" y="10165"/>
                </a:lnTo>
                <a:lnTo>
                  <a:pt x="16416" y="11617"/>
                </a:lnTo>
                <a:lnTo>
                  <a:pt x="16308" y="12524"/>
                </a:lnTo>
                <a:lnTo>
                  <a:pt x="17064" y="12161"/>
                </a:lnTo>
                <a:lnTo>
                  <a:pt x="17928" y="11980"/>
                </a:lnTo>
                <a:lnTo>
                  <a:pt x="18036" y="12887"/>
                </a:lnTo>
                <a:lnTo>
                  <a:pt x="18360" y="13795"/>
                </a:lnTo>
                <a:lnTo>
                  <a:pt x="19008" y="13795"/>
                </a:lnTo>
                <a:lnTo>
                  <a:pt x="19656" y="13613"/>
                </a:lnTo>
                <a:lnTo>
                  <a:pt x="20520" y="13069"/>
                </a:lnTo>
                <a:lnTo>
                  <a:pt x="21168" y="11798"/>
                </a:lnTo>
                <a:lnTo>
                  <a:pt x="21060" y="10528"/>
                </a:lnTo>
                <a:lnTo>
                  <a:pt x="20412" y="8894"/>
                </a:lnTo>
                <a:lnTo>
                  <a:pt x="19980" y="7805"/>
                </a:lnTo>
                <a:close/>
                <a:moveTo>
                  <a:pt x="19980" y="780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AutoShape 52"/>
          <p:cNvSpPr/>
          <p:nvPr/>
        </p:nvSpPr>
        <p:spPr>
          <a:xfrm>
            <a:off x="10264680" y="1454040"/>
            <a:ext cx="1482840" cy="117180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171800"/>
              <a:gd name="textAreaBottom" fmla="*/ 1172160 h 1171800"/>
            </a:gdLst>
            <a:ahLst/>
            <a:rect l="textAreaLeft" t="textAreaTop" r="textAreaRight" b="textAreaBottom"/>
            <a:pathLst>
              <a:path w="21600" h="21600">
                <a:moveTo>
                  <a:pt x="18594" y="20371"/>
                </a:moveTo>
                <a:lnTo>
                  <a:pt x="18917" y="19902"/>
                </a:lnTo>
                <a:lnTo>
                  <a:pt x="19472" y="19493"/>
                </a:lnTo>
                <a:lnTo>
                  <a:pt x="19981" y="19200"/>
                </a:lnTo>
                <a:lnTo>
                  <a:pt x="20305" y="18556"/>
                </a:lnTo>
                <a:lnTo>
                  <a:pt x="20721" y="18849"/>
                </a:lnTo>
                <a:cubicBezTo>
                  <a:pt x="20721" y="18849"/>
                  <a:pt x="21184" y="18790"/>
                  <a:pt x="21276" y="18732"/>
                </a:cubicBezTo>
                <a:cubicBezTo>
                  <a:pt x="21369" y="18673"/>
                  <a:pt x="21554" y="18615"/>
                  <a:pt x="21554" y="18615"/>
                </a:cubicBezTo>
                <a:lnTo>
                  <a:pt x="21137" y="19083"/>
                </a:lnTo>
                <a:cubicBezTo>
                  <a:pt x="21137" y="19083"/>
                  <a:pt x="20906" y="19668"/>
                  <a:pt x="20767" y="19668"/>
                </a:cubicBezTo>
                <a:cubicBezTo>
                  <a:pt x="20629" y="19668"/>
                  <a:pt x="20259" y="19727"/>
                  <a:pt x="20259" y="19727"/>
                </a:cubicBezTo>
                <a:lnTo>
                  <a:pt x="20027" y="19961"/>
                </a:lnTo>
                <a:lnTo>
                  <a:pt x="19472" y="20371"/>
                </a:lnTo>
                <a:lnTo>
                  <a:pt x="18964" y="20371"/>
                </a:lnTo>
                <a:lnTo>
                  <a:pt x="18640" y="20663"/>
                </a:lnTo>
                <a:lnTo>
                  <a:pt x="18547" y="21015"/>
                </a:lnTo>
                <a:lnTo>
                  <a:pt x="18177" y="21249"/>
                </a:lnTo>
                <a:lnTo>
                  <a:pt x="17669" y="21541"/>
                </a:lnTo>
                <a:lnTo>
                  <a:pt x="17299" y="21600"/>
                </a:lnTo>
                <a:lnTo>
                  <a:pt x="17252" y="20605"/>
                </a:lnTo>
                <a:lnTo>
                  <a:pt x="17113" y="20371"/>
                </a:lnTo>
                <a:lnTo>
                  <a:pt x="14107" y="19317"/>
                </a:lnTo>
                <a:lnTo>
                  <a:pt x="14061" y="18673"/>
                </a:lnTo>
                <a:lnTo>
                  <a:pt x="13598" y="18556"/>
                </a:lnTo>
                <a:lnTo>
                  <a:pt x="13552" y="18029"/>
                </a:lnTo>
                <a:lnTo>
                  <a:pt x="13043" y="17795"/>
                </a:lnTo>
                <a:lnTo>
                  <a:pt x="12303" y="16800"/>
                </a:lnTo>
                <a:lnTo>
                  <a:pt x="185" y="20839"/>
                </a:lnTo>
                <a:lnTo>
                  <a:pt x="0" y="19493"/>
                </a:lnTo>
                <a:lnTo>
                  <a:pt x="324" y="19141"/>
                </a:lnTo>
                <a:lnTo>
                  <a:pt x="833" y="18380"/>
                </a:lnTo>
                <a:lnTo>
                  <a:pt x="1388" y="17444"/>
                </a:lnTo>
                <a:lnTo>
                  <a:pt x="1434" y="16859"/>
                </a:lnTo>
                <a:lnTo>
                  <a:pt x="1434" y="16215"/>
                </a:lnTo>
                <a:lnTo>
                  <a:pt x="1110" y="15746"/>
                </a:lnTo>
                <a:lnTo>
                  <a:pt x="555" y="15629"/>
                </a:lnTo>
                <a:lnTo>
                  <a:pt x="370" y="15395"/>
                </a:lnTo>
                <a:lnTo>
                  <a:pt x="370" y="14693"/>
                </a:lnTo>
                <a:lnTo>
                  <a:pt x="601" y="14107"/>
                </a:lnTo>
                <a:lnTo>
                  <a:pt x="925" y="13873"/>
                </a:lnTo>
                <a:cubicBezTo>
                  <a:pt x="925" y="13873"/>
                  <a:pt x="1526" y="13346"/>
                  <a:pt x="1665" y="13346"/>
                </a:cubicBezTo>
                <a:cubicBezTo>
                  <a:pt x="1804" y="13346"/>
                  <a:pt x="2359" y="13288"/>
                  <a:pt x="2359" y="13288"/>
                </a:cubicBezTo>
                <a:lnTo>
                  <a:pt x="3006" y="13054"/>
                </a:lnTo>
                <a:lnTo>
                  <a:pt x="4024" y="12995"/>
                </a:lnTo>
                <a:lnTo>
                  <a:pt x="5134" y="12820"/>
                </a:lnTo>
                <a:lnTo>
                  <a:pt x="5735" y="12644"/>
                </a:lnTo>
                <a:lnTo>
                  <a:pt x="6383" y="12000"/>
                </a:lnTo>
                <a:lnTo>
                  <a:pt x="7077" y="11298"/>
                </a:lnTo>
                <a:lnTo>
                  <a:pt x="7262" y="10654"/>
                </a:lnTo>
                <a:lnTo>
                  <a:pt x="7262" y="9951"/>
                </a:lnTo>
                <a:lnTo>
                  <a:pt x="7030" y="9190"/>
                </a:lnTo>
                <a:lnTo>
                  <a:pt x="6938" y="8488"/>
                </a:lnTo>
                <a:lnTo>
                  <a:pt x="6892" y="7902"/>
                </a:lnTo>
                <a:lnTo>
                  <a:pt x="6337" y="7844"/>
                </a:lnTo>
                <a:lnTo>
                  <a:pt x="6244" y="7200"/>
                </a:lnTo>
                <a:lnTo>
                  <a:pt x="6707" y="6498"/>
                </a:lnTo>
                <a:lnTo>
                  <a:pt x="7215" y="6029"/>
                </a:lnTo>
                <a:lnTo>
                  <a:pt x="7585" y="5444"/>
                </a:lnTo>
                <a:lnTo>
                  <a:pt x="7909" y="4741"/>
                </a:lnTo>
                <a:lnTo>
                  <a:pt x="8187" y="3688"/>
                </a:lnTo>
                <a:lnTo>
                  <a:pt x="8696" y="2985"/>
                </a:lnTo>
                <a:lnTo>
                  <a:pt x="8973" y="2166"/>
                </a:lnTo>
                <a:lnTo>
                  <a:pt x="9482" y="1698"/>
                </a:lnTo>
                <a:lnTo>
                  <a:pt x="9898" y="1463"/>
                </a:lnTo>
                <a:lnTo>
                  <a:pt x="10546" y="1346"/>
                </a:lnTo>
                <a:lnTo>
                  <a:pt x="10916" y="1171"/>
                </a:lnTo>
                <a:lnTo>
                  <a:pt x="11471" y="937"/>
                </a:lnTo>
                <a:lnTo>
                  <a:pt x="11841" y="527"/>
                </a:lnTo>
                <a:lnTo>
                  <a:pt x="12349" y="527"/>
                </a:lnTo>
                <a:lnTo>
                  <a:pt x="12627" y="59"/>
                </a:lnTo>
                <a:lnTo>
                  <a:pt x="12951" y="59"/>
                </a:lnTo>
                <a:lnTo>
                  <a:pt x="13367" y="0"/>
                </a:lnTo>
                <a:lnTo>
                  <a:pt x="13691" y="0"/>
                </a:lnTo>
                <a:lnTo>
                  <a:pt x="13645" y="644"/>
                </a:lnTo>
                <a:lnTo>
                  <a:pt x="13598" y="1054"/>
                </a:lnTo>
                <a:lnTo>
                  <a:pt x="13598" y="1639"/>
                </a:lnTo>
                <a:lnTo>
                  <a:pt x="13645" y="1990"/>
                </a:lnTo>
                <a:lnTo>
                  <a:pt x="13645" y="2400"/>
                </a:lnTo>
                <a:lnTo>
                  <a:pt x="13737" y="2868"/>
                </a:lnTo>
                <a:lnTo>
                  <a:pt x="14015" y="3220"/>
                </a:lnTo>
                <a:lnTo>
                  <a:pt x="14200" y="3746"/>
                </a:lnTo>
                <a:lnTo>
                  <a:pt x="14338" y="4332"/>
                </a:lnTo>
                <a:lnTo>
                  <a:pt x="14616" y="4859"/>
                </a:lnTo>
                <a:lnTo>
                  <a:pt x="14893" y="5502"/>
                </a:lnTo>
                <a:lnTo>
                  <a:pt x="15078" y="6146"/>
                </a:lnTo>
                <a:lnTo>
                  <a:pt x="15310" y="6439"/>
                </a:lnTo>
                <a:lnTo>
                  <a:pt x="15310" y="7024"/>
                </a:lnTo>
                <a:lnTo>
                  <a:pt x="15263" y="7376"/>
                </a:lnTo>
                <a:lnTo>
                  <a:pt x="15633" y="7434"/>
                </a:lnTo>
                <a:lnTo>
                  <a:pt x="15865" y="7493"/>
                </a:lnTo>
                <a:lnTo>
                  <a:pt x="16050" y="8254"/>
                </a:lnTo>
                <a:lnTo>
                  <a:pt x="16142" y="8605"/>
                </a:lnTo>
                <a:lnTo>
                  <a:pt x="16096" y="9366"/>
                </a:lnTo>
                <a:lnTo>
                  <a:pt x="16188" y="9951"/>
                </a:lnTo>
                <a:lnTo>
                  <a:pt x="16235" y="10478"/>
                </a:lnTo>
                <a:lnTo>
                  <a:pt x="16420" y="11005"/>
                </a:lnTo>
                <a:lnTo>
                  <a:pt x="16558" y="11649"/>
                </a:lnTo>
                <a:lnTo>
                  <a:pt x="16558" y="12293"/>
                </a:lnTo>
                <a:lnTo>
                  <a:pt x="16605" y="13054"/>
                </a:lnTo>
                <a:lnTo>
                  <a:pt x="16651" y="14049"/>
                </a:lnTo>
                <a:lnTo>
                  <a:pt x="16605" y="14576"/>
                </a:lnTo>
                <a:lnTo>
                  <a:pt x="16697" y="15278"/>
                </a:lnTo>
                <a:lnTo>
                  <a:pt x="16836" y="15922"/>
                </a:lnTo>
                <a:lnTo>
                  <a:pt x="16882" y="16449"/>
                </a:lnTo>
                <a:lnTo>
                  <a:pt x="17206" y="16859"/>
                </a:lnTo>
                <a:lnTo>
                  <a:pt x="17299" y="17327"/>
                </a:lnTo>
                <a:lnTo>
                  <a:pt x="17437" y="17737"/>
                </a:lnTo>
                <a:lnTo>
                  <a:pt x="17484" y="18146"/>
                </a:lnTo>
                <a:lnTo>
                  <a:pt x="17530" y="18498"/>
                </a:lnTo>
                <a:lnTo>
                  <a:pt x="17391" y="18790"/>
                </a:lnTo>
                <a:lnTo>
                  <a:pt x="17252" y="19083"/>
                </a:lnTo>
                <a:lnTo>
                  <a:pt x="17252" y="19376"/>
                </a:lnTo>
                <a:lnTo>
                  <a:pt x="17576" y="19785"/>
                </a:lnTo>
                <a:lnTo>
                  <a:pt x="17391" y="20020"/>
                </a:lnTo>
                <a:lnTo>
                  <a:pt x="17345" y="20371"/>
                </a:lnTo>
                <a:lnTo>
                  <a:pt x="17437" y="20663"/>
                </a:lnTo>
                <a:lnTo>
                  <a:pt x="17484" y="21073"/>
                </a:lnTo>
                <a:lnTo>
                  <a:pt x="17437" y="21600"/>
                </a:lnTo>
                <a:lnTo>
                  <a:pt x="17900" y="21366"/>
                </a:lnTo>
                <a:lnTo>
                  <a:pt x="18455" y="20780"/>
                </a:lnTo>
                <a:lnTo>
                  <a:pt x="18779" y="20137"/>
                </a:lnTo>
                <a:lnTo>
                  <a:pt x="19195" y="19610"/>
                </a:lnTo>
                <a:lnTo>
                  <a:pt x="19704" y="19317"/>
                </a:lnTo>
                <a:lnTo>
                  <a:pt x="20120" y="19024"/>
                </a:lnTo>
                <a:lnTo>
                  <a:pt x="20305" y="18556"/>
                </a:lnTo>
                <a:lnTo>
                  <a:pt x="20675" y="18790"/>
                </a:lnTo>
                <a:lnTo>
                  <a:pt x="21184" y="18790"/>
                </a:lnTo>
                <a:lnTo>
                  <a:pt x="21600" y="18673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3" name="AutoShape 53"/>
          <p:cNvSpPr/>
          <p:nvPr/>
        </p:nvSpPr>
        <p:spPr>
          <a:xfrm>
            <a:off x="8626320" y="3584520"/>
            <a:ext cx="1463760" cy="787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18320" y="0"/>
                </a:moveTo>
                <a:lnTo>
                  <a:pt x="17570" y="87"/>
                </a:lnTo>
                <a:lnTo>
                  <a:pt x="16680" y="1132"/>
                </a:lnTo>
                <a:lnTo>
                  <a:pt x="15837" y="2090"/>
                </a:lnTo>
                <a:lnTo>
                  <a:pt x="14572" y="2265"/>
                </a:lnTo>
                <a:lnTo>
                  <a:pt x="13166" y="1306"/>
                </a:lnTo>
                <a:lnTo>
                  <a:pt x="12370" y="610"/>
                </a:lnTo>
                <a:lnTo>
                  <a:pt x="11526" y="1481"/>
                </a:lnTo>
                <a:lnTo>
                  <a:pt x="11479" y="3310"/>
                </a:lnTo>
                <a:lnTo>
                  <a:pt x="11245" y="4790"/>
                </a:lnTo>
                <a:lnTo>
                  <a:pt x="10683" y="6358"/>
                </a:lnTo>
                <a:lnTo>
                  <a:pt x="10589" y="7142"/>
                </a:lnTo>
                <a:lnTo>
                  <a:pt x="10074" y="7665"/>
                </a:lnTo>
                <a:lnTo>
                  <a:pt x="9324" y="6968"/>
                </a:lnTo>
                <a:lnTo>
                  <a:pt x="8715" y="6968"/>
                </a:lnTo>
                <a:lnTo>
                  <a:pt x="8340" y="7490"/>
                </a:lnTo>
                <a:lnTo>
                  <a:pt x="8293" y="8535"/>
                </a:lnTo>
                <a:lnTo>
                  <a:pt x="7872" y="9319"/>
                </a:lnTo>
                <a:lnTo>
                  <a:pt x="7075" y="9668"/>
                </a:lnTo>
                <a:lnTo>
                  <a:pt x="5341" y="9668"/>
                </a:lnTo>
                <a:lnTo>
                  <a:pt x="4217" y="10365"/>
                </a:lnTo>
                <a:lnTo>
                  <a:pt x="3374" y="11584"/>
                </a:lnTo>
                <a:lnTo>
                  <a:pt x="3092" y="12977"/>
                </a:lnTo>
                <a:lnTo>
                  <a:pt x="3092" y="14981"/>
                </a:lnTo>
                <a:lnTo>
                  <a:pt x="2015" y="15765"/>
                </a:lnTo>
                <a:lnTo>
                  <a:pt x="1780" y="16461"/>
                </a:lnTo>
                <a:lnTo>
                  <a:pt x="1218" y="16635"/>
                </a:lnTo>
                <a:lnTo>
                  <a:pt x="843" y="16374"/>
                </a:lnTo>
                <a:lnTo>
                  <a:pt x="234" y="17245"/>
                </a:lnTo>
                <a:lnTo>
                  <a:pt x="0" y="18116"/>
                </a:lnTo>
                <a:lnTo>
                  <a:pt x="328" y="18987"/>
                </a:lnTo>
                <a:lnTo>
                  <a:pt x="515" y="20206"/>
                </a:lnTo>
                <a:lnTo>
                  <a:pt x="515" y="21077"/>
                </a:lnTo>
                <a:lnTo>
                  <a:pt x="984" y="21513"/>
                </a:lnTo>
                <a:lnTo>
                  <a:pt x="515" y="21600"/>
                </a:lnTo>
                <a:lnTo>
                  <a:pt x="1312" y="21600"/>
                </a:lnTo>
                <a:lnTo>
                  <a:pt x="1359" y="20729"/>
                </a:lnTo>
                <a:cubicBezTo>
                  <a:pt x="1359" y="20729"/>
                  <a:pt x="1734" y="20642"/>
                  <a:pt x="1780" y="20816"/>
                </a:cubicBezTo>
                <a:cubicBezTo>
                  <a:pt x="1827" y="20990"/>
                  <a:pt x="2296" y="20729"/>
                  <a:pt x="2296" y="20729"/>
                </a:cubicBezTo>
                <a:lnTo>
                  <a:pt x="2952" y="20642"/>
                </a:lnTo>
                <a:lnTo>
                  <a:pt x="3608" y="20468"/>
                </a:lnTo>
                <a:lnTo>
                  <a:pt x="4170" y="20468"/>
                </a:lnTo>
                <a:lnTo>
                  <a:pt x="4311" y="19858"/>
                </a:lnTo>
                <a:lnTo>
                  <a:pt x="4451" y="19074"/>
                </a:lnTo>
                <a:lnTo>
                  <a:pt x="19257" y="14981"/>
                </a:lnTo>
                <a:lnTo>
                  <a:pt x="19538" y="13761"/>
                </a:lnTo>
                <a:lnTo>
                  <a:pt x="20241" y="12019"/>
                </a:lnTo>
                <a:lnTo>
                  <a:pt x="20803" y="10800"/>
                </a:lnTo>
                <a:lnTo>
                  <a:pt x="21131" y="9842"/>
                </a:lnTo>
                <a:lnTo>
                  <a:pt x="21506" y="8710"/>
                </a:lnTo>
                <a:lnTo>
                  <a:pt x="21600" y="7752"/>
                </a:lnTo>
                <a:lnTo>
                  <a:pt x="21131" y="7142"/>
                </a:lnTo>
                <a:lnTo>
                  <a:pt x="20803" y="6445"/>
                </a:lnTo>
                <a:lnTo>
                  <a:pt x="20382" y="6097"/>
                </a:lnTo>
                <a:lnTo>
                  <a:pt x="19866" y="5400"/>
                </a:lnTo>
                <a:lnTo>
                  <a:pt x="19257" y="5139"/>
                </a:lnTo>
                <a:lnTo>
                  <a:pt x="19023" y="4181"/>
                </a:lnTo>
                <a:lnTo>
                  <a:pt x="18789" y="3310"/>
                </a:lnTo>
                <a:lnTo>
                  <a:pt x="18508" y="2090"/>
                </a:lnTo>
                <a:lnTo>
                  <a:pt x="18414" y="871"/>
                </a:lnTo>
                <a:lnTo>
                  <a:pt x="18320" y="0"/>
                </a:lnTo>
                <a:close/>
                <a:moveTo>
                  <a:pt x="1832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4" name="AutoShape 54"/>
          <p:cNvSpPr/>
          <p:nvPr/>
        </p:nvSpPr>
        <p:spPr>
          <a:xfrm>
            <a:off x="11579400" y="527040"/>
            <a:ext cx="739440" cy="1270080"/>
          </a:xfrm>
          <a:custGeom>
            <a:avLst/>
            <a:gdLst>
              <a:gd name="textAreaLeft" fmla="*/ 0 w 739440"/>
              <a:gd name="textAreaRight" fmla="*/ 739800 w 7394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21600" h="21600">
                <a:moveTo>
                  <a:pt x="7416" y="54"/>
                </a:moveTo>
                <a:lnTo>
                  <a:pt x="6489" y="1296"/>
                </a:lnTo>
                <a:lnTo>
                  <a:pt x="5840" y="2106"/>
                </a:lnTo>
                <a:lnTo>
                  <a:pt x="5377" y="3186"/>
                </a:lnTo>
                <a:lnTo>
                  <a:pt x="4450" y="3780"/>
                </a:lnTo>
                <a:lnTo>
                  <a:pt x="3894" y="4752"/>
                </a:lnTo>
                <a:lnTo>
                  <a:pt x="3430" y="5562"/>
                </a:lnTo>
                <a:lnTo>
                  <a:pt x="3245" y="6696"/>
                </a:lnTo>
                <a:lnTo>
                  <a:pt x="2596" y="7452"/>
                </a:lnTo>
                <a:lnTo>
                  <a:pt x="2781" y="8262"/>
                </a:lnTo>
                <a:lnTo>
                  <a:pt x="2874" y="9558"/>
                </a:lnTo>
                <a:lnTo>
                  <a:pt x="2225" y="10206"/>
                </a:lnTo>
                <a:lnTo>
                  <a:pt x="1576" y="10530"/>
                </a:lnTo>
                <a:lnTo>
                  <a:pt x="1391" y="11448"/>
                </a:lnTo>
                <a:lnTo>
                  <a:pt x="185" y="11988"/>
                </a:lnTo>
                <a:lnTo>
                  <a:pt x="0" y="12582"/>
                </a:lnTo>
                <a:lnTo>
                  <a:pt x="5006" y="20412"/>
                </a:lnTo>
                <a:lnTo>
                  <a:pt x="5470" y="20790"/>
                </a:lnTo>
                <a:lnTo>
                  <a:pt x="5655" y="21492"/>
                </a:lnTo>
                <a:lnTo>
                  <a:pt x="6489" y="21600"/>
                </a:lnTo>
                <a:lnTo>
                  <a:pt x="6767" y="21168"/>
                </a:lnTo>
                <a:lnTo>
                  <a:pt x="7045" y="20088"/>
                </a:lnTo>
                <a:lnTo>
                  <a:pt x="6953" y="19440"/>
                </a:lnTo>
                <a:lnTo>
                  <a:pt x="6953" y="18900"/>
                </a:lnTo>
                <a:lnTo>
                  <a:pt x="7138" y="18414"/>
                </a:lnTo>
                <a:lnTo>
                  <a:pt x="8065" y="18252"/>
                </a:lnTo>
                <a:lnTo>
                  <a:pt x="8251" y="17658"/>
                </a:lnTo>
                <a:lnTo>
                  <a:pt x="8251" y="17118"/>
                </a:lnTo>
                <a:lnTo>
                  <a:pt x="9085" y="16956"/>
                </a:lnTo>
                <a:lnTo>
                  <a:pt x="10105" y="16254"/>
                </a:lnTo>
                <a:lnTo>
                  <a:pt x="10661" y="15606"/>
                </a:lnTo>
                <a:lnTo>
                  <a:pt x="11681" y="14418"/>
                </a:lnTo>
                <a:cubicBezTo>
                  <a:pt x="11681" y="14418"/>
                  <a:pt x="11959" y="14958"/>
                  <a:pt x="12052" y="14850"/>
                </a:cubicBezTo>
                <a:cubicBezTo>
                  <a:pt x="12144" y="14742"/>
                  <a:pt x="12886" y="14634"/>
                  <a:pt x="12886" y="14634"/>
                </a:cubicBezTo>
                <a:lnTo>
                  <a:pt x="13164" y="14364"/>
                </a:lnTo>
                <a:lnTo>
                  <a:pt x="12793" y="13662"/>
                </a:lnTo>
                <a:lnTo>
                  <a:pt x="12793" y="13176"/>
                </a:lnTo>
                <a:lnTo>
                  <a:pt x="12886" y="12690"/>
                </a:lnTo>
                <a:lnTo>
                  <a:pt x="13442" y="12636"/>
                </a:lnTo>
                <a:lnTo>
                  <a:pt x="14276" y="12636"/>
                </a:lnTo>
                <a:lnTo>
                  <a:pt x="15296" y="12582"/>
                </a:lnTo>
                <a:lnTo>
                  <a:pt x="15760" y="12258"/>
                </a:lnTo>
                <a:lnTo>
                  <a:pt x="15760" y="11826"/>
                </a:lnTo>
                <a:lnTo>
                  <a:pt x="16223" y="11340"/>
                </a:lnTo>
                <a:cubicBezTo>
                  <a:pt x="16223" y="11340"/>
                  <a:pt x="16965" y="11124"/>
                  <a:pt x="17150" y="11124"/>
                </a:cubicBezTo>
                <a:cubicBezTo>
                  <a:pt x="17336" y="11124"/>
                  <a:pt x="18263" y="10962"/>
                  <a:pt x="18263" y="10962"/>
                </a:cubicBezTo>
                <a:lnTo>
                  <a:pt x="18541" y="10638"/>
                </a:lnTo>
                <a:lnTo>
                  <a:pt x="19097" y="10476"/>
                </a:lnTo>
                <a:cubicBezTo>
                  <a:pt x="19097" y="10476"/>
                  <a:pt x="20580" y="10476"/>
                  <a:pt x="20673" y="10368"/>
                </a:cubicBezTo>
                <a:cubicBezTo>
                  <a:pt x="20766" y="10260"/>
                  <a:pt x="21600" y="9828"/>
                  <a:pt x="21600" y="9828"/>
                </a:cubicBezTo>
                <a:lnTo>
                  <a:pt x="21600" y="9396"/>
                </a:lnTo>
                <a:cubicBezTo>
                  <a:pt x="21600" y="9396"/>
                  <a:pt x="21229" y="8856"/>
                  <a:pt x="21044" y="8856"/>
                </a:cubicBezTo>
                <a:cubicBezTo>
                  <a:pt x="20858" y="8856"/>
                  <a:pt x="20117" y="8262"/>
                  <a:pt x="20117" y="8262"/>
                </a:cubicBezTo>
                <a:cubicBezTo>
                  <a:pt x="20117" y="8262"/>
                  <a:pt x="19468" y="8586"/>
                  <a:pt x="19468" y="8478"/>
                </a:cubicBezTo>
                <a:cubicBezTo>
                  <a:pt x="19468" y="8370"/>
                  <a:pt x="18541" y="7938"/>
                  <a:pt x="18541" y="7938"/>
                </a:cubicBezTo>
                <a:lnTo>
                  <a:pt x="18726" y="7398"/>
                </a:lnTo>
                <a:lnTo>
                  <a:pt x="19468" y="6912"/>
                </a:lnTo>
                <a:lnTo>
                  <a:pt x="18726" y="6642"/>
                </a:lnTo>
                <a:lnTo>
                  <a:pt x="17521" y="6642"/>
                </a:lnTo>
                <a:lnTo>
                  <a:pt x="16872" y="6588"/>
                </a:lnTo>
                <a:lnTo>
                  <a:pt x="16872" y="5832"/>
                </a:lnTo>
                <a:lnTo>
                  <a:pt x="16687" y="5292"/>
                </a:lnTo>
                <a:cubicBezTo>
                  <a:pt x="16687" y="5292"/>
                  <a:pt x="16501" y="4644"/>
                  <a:pt x="16409" y="4536"/>
                </a:cubicBezTo>
                <a:cubicBezTo>
                  <a:pt x="16316" y="4428"/>
                  <a:pt x="16316" y="3618"/>
                  <a:pt x="16316" y="3618"/>
                </a:cubicBezTo>
                <a:lnTo>
                  <a:pt x="15574" y="2538"/>
                </a:lnTo>
                <a:lnTo>
                  <a:pt x="15203" y="1998"/>
                </a:lnTo>
                <a:lnTo>
                  <a:pt x="14276" y="1620"/>
                </a:lnTo>
                <a:lnTo>
                  <a:pt x="13257" y="1026"/>
                </a:lnTo>
                <a:lnTo>
                  <a:pt x="12237" y="1026"/>
                </a:lnTo>
                <a:lnTo>
                  <a:pt x="11495" y="1350"/>
                </a:lnTo>
                <a:lnTo>
                  <a:pt x="10754" y="1404"/>
                </a:lnTo>
                <a:lnTo>
                  <a:pt x="9827" y="1620"/>
                </a:lnTo>
                <a:lnTo>
                  <a:pt x="8900" y="1404"/>
                </a:lnTo>
                <a:lnTo>
                  <a:pt x="8529" y="918"/>
                </a:lnTo>
                <a:lnTo>
                  <a:pt x="8436" y="378"/>
                </a:lnTo>
                <a:lnTo>
                  <a:pt x="8158" y="0"/>
                </a:lnTo>
                <a:lnTo>
                  <a:pt x="7416" y="54"/>
                </a:lnTo>
                <a:close/>
                <a:moveTo>
                  <a:pt x="7416" y="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5" name="AutoShape 55"/>
          <p:cNvSpPr/>
          <p:nvPr/>
        </p:nvSpPr>
        <p:spPr>
          <a:xfrm>
            <a:off x="9725040" y="3800520"/>
            <a:ext cx="1743120" cy="84132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872" y="20540"/>
                </a:lnTo>
                <a:lnTo>
                  <a:pt x="3423" y="19807"/>
                </a:lnTo>
                <a:lnTo>
                  <a:pt x="4013" y="18747"/>
                </a:lnTo>
                <a:lnTo>
                  <a:pt x="4761" y="18340"/>
                </a:lnTo>
                <a:lnTo>
                  <a:pt x="5469" y="17851"/>
                </a:lnTo>
                <a:lnTo>
                  <a:pt x="6492" y="17769"/>
                </a:lnTo>
                <a:lnTo>
                  <a:pt x="7318" y="17606"/>
                </a:lnTo>
                <a:lnTo>
                  <a:pt x="7672" y="17932"/>
                </a:lnTo>
                <a:lnTo>
                  <a:pt x="8026" y="18584"/>
                </a:lnTo>
                <a:lnTo>
                  <a:pt x="8184" y="18340"/>
                </a:lnTo>
                <a:lnTo>
                  <a:pt x="8262" y="17525"/>
                </a:lnTo>
                <a:lnTo>
                  <a:pt x="8498" y="17198"/>
                </a:lnTo>
                <a:lnTo>
                  <a:pt x="8970" y="17769"/>
                </a:lnTo>
                <a:lnTo>
                  <a:pt x="9285" y="18503"/>
                </a:lnTo>
                <a:lnTo>
                  <a:pt x="10111" y="18340"/>
                </a:lnTo>
                <a:lnTo>
                  <a:pt x="10938" y="18095"/>
                </a:lnTo>
                <a:lnTo>
                  <a:pt x="11764" y="17525"/>
                </a:lnTo>
                <a:lnTo>
                  <a:pt x="12708" y="17443"/>
                </a:lnTo>
                <a:lnTo>
                  <a:pt x="13180" y="17443"/>
                </a:lnTo>
                <a:lnTo>
                  <a:pt x="13652" y="17851"/>
                </a:lnTo>
                <a:lnTo>
                  <a:pt x="16092" y="21111"/>
                </a:lnTo>
                <a:lnTo>
                  <a:pt x="16603" y="21111"/>
                </a:lnTo>
                <a:lnTo>
                  <a:pt x="17075" y="21029"/>
                </a:lnTo>
                <a:lnTo>
                  <a:pt x="17430" y="20622"/>
                </a:lnTo>
                <a:cubicBezTo>
                  <a:pt x="17430" y="20622"/>
                  <a:pt x="17626" y="20296"/>
                  <a:pt x="17626" y="20133"/>
                </a:cubicBezTo>
                <a:cubicBezTo>
                  <a:pt x="17626" y="19970"/>
                  <a:pt x="17705" y="19562"/>
                  <a:pt x="17705" y="19399"/>
                </a:cubicBezTo>
                <a:cubicBezTo>
                  <a:pt x="17705" y="19236"/>
                  <a:pt x="17744" y="18421"/>
                  <a:pt x="17744" y="18258"/>
                </a:cubicBezTo>
                <a:cubicBezTo>
                  <a:pt x="17744" y="18095"/>
                  <a:pt x="17784" y="17280"/>
                  <a:pt x="17784" y="17280"/>
                </a:cubicBezTo>
                <a:lnTo>
                  <a:pt x="17862" y="16791"/>
                </a:lnTo>
                <a:lnTo>
                  <a:pt x="18334" y="15976"/>
                </a:lnTo>
                <a:lnTo>
                  <a:pt x="18964" y="15079"/>
                </a:lnTo>
                <a:lnTo>
                  <a:pt x="19357" y="14346"/>
                </a:lnTo>
                <a:lnTo>
                  <a:pt x="19711" y="13612"/>
                </a:lnTo>
                <a:lnTo>
                  <a:pt x="20302" y="12634"/>
                </a:lnTo>
                <a:lnTo>
                  <a:pt x="20656" y="12878"/>
                </a:lnTo>
                <a:lnTo>
                  <a:pt x="20892" y="12878"/>
                </a:lnTo>
                <a:cubicBezTo>
                  <a:pt x="20892" y="12878"/>
                  <a:pt x="20262" y="12063"/>
                  <a:pt x="20184" y="12063"/>
                </a:cubicBezTo>
                <a:cubicBezTo>
                  <a:pt x="20105" y="12063"/>
                  <a:pt x="19475" y="12226"/>
                  <a:pt x="19357" y="12145"/>
                </a:cubicBezTo>
                <a:cubicBezTo>
                  <a:pt x="19239" y="12063"/>
                  <a:pt x="20341" y="11900"/>
                  <a:pt x="20341" y="11900"/>
                </a:cubicBezTo>
                <a:lnTo>
                  <a:pt x="20420" y="11085"/>
                </a:lnTo>
                <a:lnTo>
                  <a:pt x="20420" y="10107"/>
                </a:lnTo>
                <a:lnTo>
                  <a:pt x="20380" y="9211"/>
                </a:lnTo>
                <a:lnTo>
                  <a:pt x="19869" y="9129"/>
                </a:lnTo>
                <a:lnTo>
                  <a:pt x="19357" y="8966"/>
                </a:lnTo>
                <a:cubicBezTo>
                  <a:pt x="19357" y="8966"/>
                  <a:pt x="19830" y="8558"/>
                  <a:pt x="19948" y="8477"/>
                </a:cubicBezTo>
                <a:cubicBezTo>
                  <a:pt x="20066" y="8395"/>
                  <a:pt x="20852" y="8558"/>
                  <a:pt x="20852" y="8558"/>
                </a:cubicBezTo>
                <a:lnTo>
                  <a:pt x="21246" y="7906"/>
                </a:lnTo>
                <a:cubicBezTo>
                  <a:pt x="21246" y="7906"/>
                  <a:pt x="21403" y="7254"/>
                  <a:pt x="21403" y="7091"/>
                </a:cubicBezTo>
                <a:cubicBezTo>
                  <a:pt x="21403" y="6928"/>
                  <a:pt x="21600" y="6195"/>
                  <a:pt x="21600" y="6195"/>
                </a:cubicBezTo>
                <a:lnTo>
                  <a:pt x="21561" y="4972"/>
                </a:lnTo>
                <a:lnTo>
                  <a:pt x="20931" y="4238"/>
                </a:lnTo>
                <a:lnTo>
                  <a:pt x="20380" y="4483"/>
                </a:lnTo>
                <a:lnTo>
                  <a:pt x="19869" y="5054"/>
                </a:lnTo>
                <a:lnTo>
                  <a:pt x="19121" y="5706"/>
                </a:lnTo>
                <a:lnTo>
                  <a:pt x="18610" y="5461"/>
                </a:lnTo>
                <a:cubicBezTo>
                  <a:pt x="18610" y="5461"/>
                  <a:pt x="18570" y="4891"/>
                  <a:pt x="18689" y="4809"/>
                </a:cubicBezTo>
                <a:cubicBezTo>
                  <a:pt x="18807" y="4728"/>
                  <a:pt x="19475" y="3994"/>
                  <a:pt x="19475" y="3994"/>
                </a:cubicBezTo>
                <a:cubicBezTo>
                  <a:pt x="19475" y="3994"/>
                  <a:pt x="19948" y="3260"/>
                  <a:pt x="19987" y="3097"/>
                </a:cubicBezTo>
                <a:cubicBezTo>
                  <a:pt x="20026" y="2934"/>
                  <a:pt x="20695" y="2527"/>
                  <a:pt x="20813" y="2119"/>
                </a:cubicBezTo>
                <a:cubicBezTo>
                  <a:pt x="20931" y="1712"/>
                  <a:pt x="20341" y="734"/>
                  <a:pt x="20341" y="734"/>
                </a:cubicBezTo>
                <a:lnTo>
                  <a:pt x="20341" y="0"/>
                </a:lnTo>
                <a:lnTo>
                  <a:pt x="17666" y="1467"/>
                </a:lnTo>
                <a:lnTo>
                  <a:pt x="16210" y="2282"/>
                </a:lnTo>
                <a:lnTo>
                  <a:pt x="14597" y="3016"/>
                </a:lnTo>
                <a:lnTo>
                  <a:pt x="12157" y="4157"/>
                </a:lnTo>
                <a:lnTo>
                  <a:pt x="9600" y="5543"/>
                </a:lnTo>
                <a:lnTo>
                  <a:pt x="7043" y="6928"/>
                </a:lnTo>
                <a:lnTo>
                  <a:pt x="6334" y="7091"/>
                </a:lnTo>
                <a:lnTo>
                  <a:pt x="6295" y="7825"/>
                </a:lnTo>
                <a:lnTo>
                  <a:pt x="6216" y="8558"/>
                </a:lnTo>
                <a:lnTo>
                  <a:pt x="5744" y="9129"/>
                </a:lnTo>
                <a:lnTo>
                  <a:pt x="5311" y="9700"/>
                </a:lnTo>
                <a:lnTo>
                  <a:pt x="5351" y="10433"/>
                </a:lnTo>
                <a:lnTo>
                  <a:pt x="5154" y="10841"/>
                </a:lnTo>
                <a:lnTo>
                  <a:pt x="4721" y="10189"/>
                </a:lnTo>
                <a:lnTo>
                  <a:pt x="4289" y="10515"/>
                </a:lnTo>
                <a:lnTo>
                  <a:pt x="3974" y="11330"/>
                </a:lnTo>
                <a:lnTo>
                  <a:pt x="3659" y="12145"/>
                </a:lnTo>
                <a:lnTo>
                  <a:pt x="3659" y="12960"/>
                </a:lnTo>
                <a:lnTo>
                  <a:pt x="3738" y="13938"/>
                </a:lnTo>
                <a:lnTo>
                  <a:pt x="3384" y="14346"/>
                </a:lnTo>
                <a:lnTo>
                  <a:pt x="2951" y="14753"/>
                </a:lnTo>
                <a:lnTo>
                  <a:pt x="2754" y="15650"/>
                </a:lnTo>
                <a:lnTo>
                  <a:pt x="2125" y="16709"/>
                </a:lnTo>
                <a:lnTo>
                  <a:pt x="1849" y="17035"/>
                </a:lnTo>
                <a:lnTo>
                  <a:pt x="826" y="17362"/>
                </a:lnTo>
                <a:lnTo>
                  <a:pt x="511" y="18258"/>
                </a:lnTo>
                <a:lnTo>
                  <a:pt x="590" y="18992"/>
                </a:lnTo>
                <a:lnTo>
                  <a:pt x="354" y="19562"/>
                </a:lnTo>
                <a:lnTo>
                  <a:pt x="118" y="20051"/>
                </a:lnTo>
                <a:lnTo>
                  <a:pt x="0" y="20948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6" name="AutoShape 56"/>
          <p:cNvSpPr/>
          <p:nvPr/>
        </p:nvSpPr>
        <p:spPr>
          <a:xfrm>
            <a:off x="711360" y="4419720"/>
            <a:ext cx="2320920" cy="197172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21600" h="21600">
                <a:moveTo>
                  <a:pt x="2039" y="6226"/>
                </a:moveTo>
                <a:lnTo>
                  <a:pt x="1773" y="5704"/>
                </a:lnTo>
                <a:lnTo>
                  <a:pt x="1241" y="5600"/>
                </a:lnTo>
                <a:lnTo>
                  <a:pt x="768" y="5843"/>
                </a:lnTo>
                <a:cubicBezTo>
                  <a:pt x="768" y="5843"/>
                  <a:pt x="473" y="6191"/>
                  <a:pt x="473" y="6261"/>
                </a:cubicBezTo>
                <a:cubicBezTo>
                  <a:pt x="473" y="6330"/>
                  <a:pt x="207" y="6817"/>
                  <a:pt x="207" y="6817"/>
                </a:cubicBezTo>
                <a:lnTo>
                  <a:pt x="207" y="7409"/>
                </a:lnTo>
                <a:lnTo>
                  <a:pt x="295" y="8000"/>
                </a:lnTo>
                <a:lnTo>
                  <a:pt x="473" y="8209"/>
                </a:lnTo>
                <a:lnTo>
                  <a:pt x="1064" y="8313"/>
                </a:lnTo>
                <a:lnTo>
                  <a:pt x="1537" y="8313"/>
                </a:lnTo>
                <a:lnTo>
                  <a:pt x="1950" y="8313"/>
                </a:lnTo>
                <a:lnTo>
                  <a:pt x="2364" y="8243"/>
                </a:lnTo>
                <a:lnTo>
                  <a:pt x="2689" y="8243"/>
                </a:lnTo>
                <a:lnTo>
                  <a:pt x="3014" y="8452"/>
                </a:lnTo>
                <a:cubicBezTo>
                  <a:pt x="3014" y="8452"/>
                  <a:pt x="3250" y="8557"/>
                  <a:pt x="3221" y="8661"/>
                </a:cubicBezTo>
                <a:cubicBezTo>
                  <a:pt x="3191" y="8765"/>
                  <a:pt x="3191" y="9252"/>
                  <a:pt x="3191" y="9252"/>
                </a:cubicBezTo>
                <a:lnTo>
                  <a:pt x="2896" y="9600"/>
                </a:lnTo>
                <a:lnTo>
                  <a:pt x="2393" y="9635"/>
                </a:lnTo>
                <a:lnTo>
                  <a:pt x="1950" y="10017"/>
                </a:lnTo>
                <a:lnTo>
                  <a:pt x="1566" y="10017"/>
                </a:lnTo>
                <a:lnTo>
                  <a:pt x="1300" y="10609"/>
                </a:lnTo>
                <a:lnTo>
                  <a:pt x="946" y="10957"/>
                </a:lnTo>
                <a:lnTo>
                  <a:pt x="502" y="11478"/>
                </a:lnTo>
                <a:lnTo>
                  <a:pt x="177" y="12070"/>
                </a:lnTo>
                <a:lnTo>
                  <a:pt x="414" y="12696"/>
                </a:lnTo>
                <a:lnTo>
                  <a:pt x="591" y="13252"/>
                </a:lnTo>
                <a:lnTo>
                  <a:pt x="680" y="13913"/>
                </a:lnTo>
                <a:lnTo>
                  <a:pt x="1064" y="14330"/>
                </a:lnTo>
                <a:lnTo>
                  <a:pt x="1507" y="14435"/>
                </a:lnTo>
                <a:lnTo>
                  <a:pt x="2039" y="14435"/>
                </a:lnTo>
                <a:lnTo>
                  <a:pt x="2423" y="14435"/>
                </a:lnTo>
                <a:lnTo>
                  <a:pt x="2453" y="15374"/>
                </a:lnTo>
                <a:lnTo>
                  <a:pt x="2482" y="15826"/>
                </a:lnTo>
                <a:lnTo>
                  <a:pt x="2984" y="16000"/>
                </a:lnTo>
                <a:lnTo>
                  <a:pt x="3457" y="16000"/>
                </a:lnTo>
                <a:cubicBezTo>
                  <a:pt x="3457" y="16000"/>
                  <a:pt x="3575" y="16139"/>
                  <a:pt x="3575" y="16209"/>
                </a:cubicBezTo>
                <a:cubicBezTo>
                  <a:pt x="3575" y="16278"/>
                  <a:pt x="3753" y="16313"/>
                  <a:pt x="3753" y="16313"/>
                </a:cubicBezTo>
                <a:lnTo>
                  <a:pt x="4166" y="16035"/>
                </a:lnTo>
                <a:lnTo>
                  <a:pt x="4462" y="16139"/>
                </a:lnTo>
                <a:lnTo>
                  <a:pt x="4698" y="16278"/>
                </a:lnTo>
                <a:lnTo>
                  <a:pt x="4550" y="17043"/>
                </a:lnTo>
                <a:lnTo>
                  <a:pt x="4107" y="17357"/>
                </a:lnTo>
                <a:lnTo>
                  <a:pt x="3782" y="18122"/>
                </a:lnTo>
                <a:lnTo>
                  <a:pt x="3428" y="18539"/>
                </a:lnTo>
                <a:lnTo>
                  <a:pt x="3014" y="18922"/>
                </a:lnTo>
                <a:lnTo>
                  <a:pt x="2393" y="19026"/>
                </a:lnTo>
                <a:lnTo>
                  <a:pt x="2068" y="19200"/>
                </a:lnTo>
                <a:lnTo>
                  <a:pt x="1655" y="19930"/>
                </a:lnTo>
                <a:lnTo>
                  <a:pt x="946" y="20487"/>
                </a:lnTo>
                <a:lnTo>
                  <a:pt x="532" y="20661"/>
                </a:lnTo>
                <a:lnTo>
                  <a:pt x="148" y="20974"/>
                </a:lnTo>
                <a:lnTo>
                  <a:pt x="0" y="21391"/>
                </a:lnTo>
                <a:lnTo>
                  <a:pt x="384" y="21600"/>
                </a:lnTo>
                <a:lnTo>
                  <a:pt x="827" y="21252"/>
                </a:lnTo>
                <a:lnTo>
                  <a:pt x="1271" y="21043"/>
                </a:lnTo>
                <a:lnTo>
                  <a:pt x="1862" y="20557"/>
                </a:lnTo>
                <a:lnTo>
                  <a:pt x="2334" y="20209"/>
                </a:lnTo>
                <a:lnTo>
                  <a:pt x="2600" y="20000"/>
                </a:lnTo>
                <a:lnTo>
                  <a:pt x="2984" y="19652"/>
                </a:lnTo>
                <a:lnTo>
                  <a:pt x="3487" y="19583"/>
                </a:lnTo>
                <a:lnTo>
                  <a:pt x="4107" y="19478"/>
                </a:lnTo>
                <a:lnTo>
                  <a:pt x="4639" y="19200"/>
                </a:lnTo>
                <a:lnTo>
                  <a:pt x="5437" y="18122"/>
                </a:lnTo>
                <a:lnTo>
                  <a:pt x="5880" y="17704"/>
                </a:lnTo>
                <a:lnTo>
                  <a:pt x="6382" y="17357"/>
                </a:lnTo>
                <a:lnTo>
                  <a:pt x="6530" y="16904"/>
                </a:lnTo>
                <a:lnTo>
                  <a:pt x="6619" y="16174"/>
                </a:lnTo>
                <a:lnTo>
                  <a:pt x="6708" y="15652"/>
                </a:lnTo>
                <a:lnTo>
                  <a:pt x="7062" y="15026"/>
                </a:lnTo>
                <a:lnTo>
                  <a:pt x="7033" y="14539"/>
                </a:lnTo>
                <a:lnTo>
                  <a:pt x="7446" y="14017"/>
                </a:lnTo>
                <a:lnTo>
                  <a:pt x="7771" y="13530"/>
                </a:lnTo>
                <a:lnTo>
                  <a:pt x="8126" y="13043"/>
                </a:lnTo>
                <a:cubicBezTo>
                  <a:pt x="8126" y="13043"/>
                  <a:pt x="8303" y="13043"/>
                  <a:pt x="8362" y="13009"/>
                </a:cubicBezTo>
                <a:cubicBezTo>
                  <a:pt x="8421" y="12974"/>
                  <a:pt x="8658" y="13009"/>
                  <a:pt x="8658" y="13113"/>
                </a:cubicBezTo>
                <a:cubicBezTo>
                  <a:pt x="8658" y="13217"/>
                  <a:pt x="8362" y="13670"/>
                  <a:pt x="8362" y="13670"/>
                </a:cubicBezTo>
                <a:lnTo>
                  <a:pt x="8362" y="13948"/>
                </a:lnTo>
                <a:lnTo>
                  <a:pt x="8687" y="14052"/>
                </a:lnTo>
                <a:lnTo>
                  <a:pt x="8835" y="14261"/>
                </a:lnTo>
                <a:lnTo>
                  <a:pt x="8333" y="14713"/>
                </a:lnTo>
                <a:lnTo>
                  <a:pt x="8480" y="15130"/>
                </a:lnTo>
                <a:lnTo>
                  <a:pt x="8805" y="15409"/>
                </a:lnTo>
                <a:lnTo>
                  <a:pt x="9160" y="15026"/>
                </a:lnTo>
                <a:lnTo>
                  <a:pt x="9485" y="14817"/>
                </a:lnTo>
                <a:lnTo>
                  <a:pt x="9928" y="14330"/>
                </a:lnTo>
                <a:lnTo>
                  <a:pt x="10283" y="13809"/>
                </a:lnTo>
                <a:lnTo>
                  <a:pt x="10431" y="13391"/>
                </a:lnTo>
                <a:lnTo>
                  <a:pt x="10726" y="13148"/>
                </a:lnTo>
                <a:lnTo>
                  <a:pt x="11140" y="13461"/>
                </a:lnTo>
                <a:lnTo>
                  <a:pt x="11435" y="13530"/>
                </a:lnTo>
                <a:lnTo>
                  <a:pt x="11701" y="13809"/>
                </a:lnTo>
                <a:lnTo>
                  <a:pt x="12115" y="13843"/>
                </a:lnTo>
                <a:lnTo>
                  <a:pt x="12499" y="13843"/>
                </a:lnTo>
                <a:lnTo>
                  <a:pt x="12883" y="13635"/>
                </a:lnTo>
                <a:lnTo>
                  <a:pt x="13238" y="13600"/>
                </a:lnTo>
                <a:lnTo>
                  <a:pt x="13888" y="13600"/>
                </a:lnTo>
                <a:lnTo>
                  <a:pt x="14302" y="13774"/>
                </a:lnTo>
                <a:lnTo>
                  <a:pt x="14745" y="13948"/>
                </a:lnTo>
                <a:lnTo>
                  <a:pt x="15572" y="14122"/>
                </a:lnTo>
                <a:lnTo>
                  <a:pt x="16045" y="14261"/>
                </a:lnTo>
                <a:cubicBezTo>
                  <a:pt x="16045" y="14261"/>
                  <a:pt x="16724" y="14504"/>
                  <a:pt x="16665" y="14504"/>
                </a:cubicBezTo>
                <a:cubicBezTo>
                  <a:pt x="16606" y="14504"/>
                  <a:pt x="17109" y="14817"/>
                  <a:pt x="17109" y="14817"/>
                </a:cubicBezTo>
                <a:lnTo>
                  <a:pt x="17168" y="15270"/>
                </a:lnTo>
                <a:lnTo>
                  <a:pt x="17522" y="15548"/>
                </a:lnTo>
                <a:lnTo>
                  <a:pt x="17847" y="15965"/>
                </a:lnTo>
                <a:lnTo>
                  <a:pt x="18261" y="16139"/>
                </a:lnTo>
                <a:lnTo>
                  <a:pt x="18616" y="16313"/>
                </a:lnTo>
                <a:lnTo>
                  <a:pt x="18882" y="16313"/>
                </a:lnTo>
                <a:lnTo>
                  <a:pt x="19118" y="16765"/>
                </a:lnTo>
                <a:lnTo>
                  <a:pt x="19532" y="17322"/>
                </a:lnTo>
                <a:lnTo>
                  <a:pt x="20004" y="17670"/>
                </a:lnTo>
                <a:lnTo>
                  <a:pt x="20418" y="17809"/>
                </a:lnTo>
                <a:lnTo>
                  <a:pt x="20684" y="17704"/>
                </a:lnTo>
                <a:lnTo>
                  <a:pt x="20861" y="17426"/>
                </a:lnTo>
                <a:lnTo>
                  <a:pt x="21216" y="17252"/>
                </a:lnTo>
                <a:lnTo>
                  <a:pt x="21305" y="16974"/>
                </a:lnTo>
                <a:lnTo>
                  <a:pt x="21600" y="16661"/>
                </a:lnTo>
                <a:lnTo>
                  <a:pt x="21393" y="16243"/>
                </a:lnTo>
                <a:lnTo>
                  <a:pt x="21068" y="16313"/>
                </a:lnTo>
                <a:lnTo>
                  <a:pt x="20920" y="16591"/>
                </a:lnTo>
                <a:lnTo>
                  <a:pt x="20743" y="16939"/>
                </a:lnTo>
                <a:lnTo>
                  <a:pt x="20329" y="17009"/>
                </a:lnTo>
                <a:lnTo>
                  <a:pt x="19945" y="16696"/>
                </a:lnTo>
                <a:lnTo>
                  <a:pt x="19620" y="16591"/>
                </a:lnTo>
                <a:lnTo>
                  <a:pt x="19502" y="16139"/>
                </a:lnTo>
                <a:lnTo>
                  <a:pt x="19561" y="15513"/>
                </a:lnTo>
                <a:lnTo>
                  <a:pt x="19443" y="15130"/>
                </a:lnTo>
                <a:lnTo>
                  <a:pt x="19207" y="15235"/>
                </a:lnTo>
                <a:lnTo>
                  <a:pt x="19059" y="15270"/>
                </a:lnTo>
                <a:lnTo>
                  <a:pt x="18616" y="15478"/>
                </a:lnTo>
                <a:lnTo>
                  <a:pt x="18231" y="15270"/>
                </a:lnTo>
                <a:lnTo>
                  <a:pt x="17759" y="14713"/>
                </a:lnTo>
                <a:lnTo>
                  <a:pt x="17434" y="14296"/>
                </a:lnTo>
                <a:lnTo>
                  <a:pt x="17227" y="13878"/>
                </a:lnTo>
                <a:lnTo>
                  <a:pt x="17020" y="13461"/>
                </a:lnTo>
                <a:lnTo>
                  <a:pt x="16872" y="12904"/>
                </a:lnTo>
                <a:lnTo>
                  <a:pt x="16695" y="12870"/>
                </a:lnTo>
                <a:lnTo>
                  <a:pt x="16399" y="12904"/>
                </a:lnTo>
                <a:lnTo>
                  <a:pt x="16340" y="13183"/>
                </a:lnTo>
                <a:lnTo>
                  <a:pt x="16399" y="13391"/>
                </a:lnTo>
                <a:lnTo>
                  <a:pt x="16252" y="13670"/>
                </a:lnTo>
                <a:lnTo>
                  <a:pt x="15986" y="13739"/>
                </a:lnTo>
                <a:lnTo>
                  <a:pt x="15690" y="13635"/>
                </a:lnTo>
                <a:lnTo>
                  <a:pt x="15483" y="13357"/>
                </a:lnTo>
                <a:lnTo>
                  <a:pt x="15424" y="13078"/>
                </a:lnTo>
                <a:lnTo>
                  <a:pt x="15099" y="12730"/>
                </a:lnTo>
                <a:lnTo>
                  <a:pt x="14804" y="12870"/>
                </a:lnTo>
                <a:lnTo>
                  <a:pt x="14479" y="12626"/>
                </a:lnTo>
                <a:lnTo>
                  <a:pt x="14065" y="12278"/>
                </a:lnTo>
                <a:lnTo>
                  <a:pt x="11435" y="1426"/>
                </a:lnTo>
                <a:lnTo>
                  <a:pt x="10992" y="870"/>
                </a:lnTo>
                <a:lnTo>
                  <a:pt x="10372" y="730"/>
                </a:lnTo>
                <a:lnTo>
                  <a:pt x="9781" y="591"/>
                </a:lnTo>
                <a:lnTo>
                  <a:pt x="9190" y="661"/>
                </a:lnTo>
                <a:lnTo>
                  <a:pt x="8628" y="696"/>
                </a:lnTo>
                <a:lnTo>
                  <a:pt x="7889" y="557"/>
                </a:lnTo>
                <a:lnTo>
                  <a:pt x="6973" y="417"/>
                </a:lnTo>
                <a:lnTo>
                  <a:pt x="6678" y="243"/>
                </a:lnTo>
                <a:lnTo>
                  <a:pt x="6146" y="35"/>
                </a:lnTo>
                <a:lnTo>
                  <a:pt x="5555" y="0"/>
                </a:lnTo>
                <a:lnTo>
                  <a:pt x="4994" y="0"/>
                </a:lnTo>
                <a:lnTo>
                  <a:pt x="4373" y="35"/>
                </a:lnTo>
                <a:lnTo>
                  <a:pt x="3989" y="487"/>
                </a:lnTo>
                <a:lnTo>
                  <a:pt x="3309" y="1078"/>
                </a:lnTo>
                <a:lnTo>
                  <a:pt x="2748" y="1600"/>
                </a:lnTo>
                <a:lnTo>
                  <a:pt x="2512" y="2017"/>
                </a:lnTo>
                <a:lnTo>
                  <a:pt x="2423" y="2504"/>
                </a:lnTo>
                <a:lnTo>
                  <a:pt x="2305" y="2852"/>
                </a:lnTo>
                <a:lnTo>
                  <a:pt x="2068" y="3061"/>
                </a:lnTo>
                <a:lnTo>
                  <a:pt x="1714" y="3061"/>
                </a:lnTo>
                <a:lnTo>
                  <a:pt x="1418" y="3061"/>
                </a:lnTo>
                <a:lnTo>
                  <a:pt x="1211" y="3339"/>
                </a:lnTo>
                <a:lnTo>
                  <a:pt x="1271" y="3652"/>
                </a:lnTo>
                <a:lnTo>
                  <a:pt x="1359" y="4035"/>
                </a:lnTo>
                <a:lnTo>
                  <a:pt x="1684" y="4104"/>
                </a:lnTo>
                <a:lnTo>
                  <a:pt x="1921" y="4487"/>
                </a:lnTo>
                <a:lnTo>
                  <a:pt x="2157" y="4904"/>
                </a:lnTo>
                <a:lnTo>
                  <a:pt x="2393" y="4939"/>
                </a:lnTo>
                <a:lnTo>
                  <a:pt x="2689" y="5183"/>
                </a:lnTo>
                <a:lnTo>
                  <a:pt x="2896" y="5252"/>
                </a:lnTo>
                <a:lnTo>
                  <a:pt x="3132" y="5496"/>
                </a:lnTo>
                <a:lnTo>
                  <a:pt x="3250" y="5843"/>
                </a:lnTo>
                <a:lnTo>
                  <a:pt x="2955" y="6122"/>
                </a:lnTo>
                <a:cubicBezTo>
                  <a:pt x="2955" y="6122"/>
                  <a:pt x="2571" y="6017"/>
                  <a:pt x="2541" y="6122"/>
                </a:cubicBezTo>
                <a:cubicBezTo>
                  <a:pt x="2512" y="6226"/>
                  <a:pt x="2216" y="6191"/>
                  <a:pt x="2216" y="6191"/>
                </a:cubicBezTo>
                <a:lnTo>
                  <a:pt x="2039" y="6226"/>
                </a:lnTo>
                <a:close/>
                <a:moveTo>
                  <a:pt x="2039" y="622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Rectangle 57"/>
          <p:cNvSpPr/>
          <p:nvPr/>
        </p:nvSpPr>
        <p:spPr>
          <a:xfrm>
            <a:off x="1092240" y="76834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8" name="Rectangle 58"/>
          <p:cNvSpPr/>
          <p:nvPr/>
        </p:nvSpPr>
        <p:spPr>
          <a:xfrm>
            <a:off x="1092240" y="806436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9" name="Rectangle 59"/>
          <p:cNvSpPr/>
          <p:nvPr/>
        </p:nvSpPr>
        <p:spPr>
          <a:xfrm>
            <a:off x="1092240" y="845820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0" name="Rectangle 60"/>
          <p:cNvSpPr/>
          <p:nvPr/>
        </p:nvSpPr>
        <p:spPr>
          <a:xfrm>
            <a:off x="1092240" y="88390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Rectangle 61"/>
          <p:cNvSpPr/>
          <p:nvPr/>
        </p:nvSpPr>
        <p:spPr>
          <a:xfrm>
            <a:off x="1092240" y="922032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2" name="AutoShape 62"/>
          <p:cNvSpPr/>
          <p:nvPr/>
        </p:nvSpPr>
        <p:spPr>
          <a:xfrm>
            <a:off x="10161720" y="2362320"/>
            <a:ext cx="1143000" cy="799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740" y="4029"/>
                </a:lnTo>
                <a:lnTo>
                  <a:pt x="1980" y="5829"/>
                </a:lnTo>
                <a:lnTo>
                  <a:pt x="17880" y="0"/>
                </a:lnTo>
                <a:lnTo>
                  <a:pt x="18660" y="1029"/>
                </a:lnTo>
                <a:lnTo>
                  <a:pt x="19260" y="1800"/>
                </a:lnTo>
                <a:lnTo>
                  <a:pt x="19560" y="2571"/>
                </a:lnTo>
                <a:lnTo>
                  <a:pt x="19980" y="2743"/>
                </a:lnTo>
                <a:lnTo>
                  <a:pt x="20100" y="3857"/>
                </a:lnTo>
                <a:lnTo>
                  <a:pt x="19740" y="5743"/>
                </a:lnTo>
                <a:lnTo>
                  <a:pt x="19500" y="7029"/>
                </a:lnTo>
                <a:lnTo>
                  <a:pt x="19740" y="7886"/>
                </a:lnTo>
                <a:lnTo>
                  <a:pt x="20280" y="9086"/>
                </a:lnTo>
                <a:lnTo>
                  <a:pt x="21060" y="9771"/>
                </a:lnTo>
                <a:lnTo>
                  <a:pt x="21600" y="10800"/>
                </a:lnTo>
                <a:lnTo>
                  <a:pt x="21000" y="11914"/>
                </a:lnTo>
                <a:lnTo>
                  <a:pt x="20760" y="12943"/>
                </a:lnTo>
                <a:lnTo>
                  <a:pt x="20460" y="13971"/>
                </a:lnTo>
                <a:lnTo>
                  <a:pt x="19860" y="14486"/>
                </a:lnTo>
                <a:lnTo>
                  <a:pt x="19020" y="14829"/>
                </a:lnTo>
                <a:lnTo>
                  <a:pt x="6660" y="19800"/>
                </a:lnTo>
                <a:lnTo>
                  <a:pt x="6060" y="19971"/>
                </a:lnTo>
                <a:lnTo>
                  <a:pt x="5340" y="20486"/>
                </a:lnTo>
                <a:lnTo>
                  <a:pt x="4380" y="20829"/>
                </a:lnTo>
                <a:lnTo>
                  <a:pt x="3180" y="21000"/>
                </a:lnTo>
                <a:lnTo>
                  <a:pt x="2340" y="21600"/>
                </a:lnTo>
                <a:lnTo>
                  <a:pt x="1920" y="21600"/>
                </a:lnTo>
                <a:lnTo>
                  <a:pt x="960" y="16886"/>
                </a:lnTo>
                <a:lnTo>
                  <a:pt x="0" y="5914"/>
                </a:lnTo>
                <a:close/>
                <a:moveTo>
                  <a:pt x="0" y="591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3" name="Rectangle 63"/>
          <p:cNvSpPr/>
          <p:nvPr/>
        </p:nvSpPr>
        <p:spPr>
          <a:xfrm>
            <a:off x="1092240" y="728964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4" name="Rectangle 64"/>
          <p:cNvSpPr/>
          <p:nvPr/>
        </p:nvSpPr>
        <p:spPr>
          <a:xfrm>
            <a:off x="1518480" y="72428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1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Rectangle 65"/>
          <p:cNvSpPr/>
          <p:nvPr/>
        </p:nvSpPr>
        <p:spPr>
          <a:xfrm>
            <a:off x="1518480" y="76366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2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6" name="Rectangle 66"/>
          <p:cNvSpPr/>
          <p:nvPr/>
        </p:nvSpPr>
        <p:spPr>
          <a:xfrm>
            <a:off x="1518480" y="80175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3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7" name="Rectangle 67"/>
          <p:cNvSpPr/>
          <p:nvPr/>
        </p:nvSpPr>
        <p:spPr>
          <a:xfrm>
            <a:off x="1518480" y="84110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4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8" name="Rectangle 68"/>
          <p:cNvSpPr/>
          <p:nvPr/>
        </p:nvSpPr>
        <p:spPr>
          <a:xfrm>
            <a:off x="1518480" y="87922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Rectangle 69"/>
          <p:cNvSpPr/>
          <p:nvPr/>
        </p:nvSpPr>
        <p:spPr>
          <a:xfrm>
            <a:off x="1518480" y="91731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6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0" name="Rectangle 70"/>
          <p:cNvSpPr/>
          <p:nvPr/>
        </p:nvSpPr>
        <p:spPr>
          <a:xfrm>
            <a:off x="63360" y="50760"/>
            <a:ext cx="12877920" cy="963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1" name="Rectangle 69"/>
          <p:cNvSpPr/>
          <p:nvPr/>
        </p:nvSpPr>
        <p:spPr>
          <a:xfrm>
            <a:off x="250920" y="6636240"/>
            <a:ext cx="231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71320" y="330120"/>
            <a:ext cx="11861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41200" y="1981080"/>
            <a:ext cx="12623760" cy="76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er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the world are the world’s Starbucks and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y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are they in those specific countries?  Why is Starbucks such a good indicator of development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2. How does the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 Starbucks World, USA, and TN Map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illustrate the importance of understanding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cal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?  Why is using the same break points (BIN) for each map not effective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3. Why are there so few Starbucks in: a. Africa, b. Northern Europe, c. South Asia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4. In terms of development and HDI.  Explain where Starbucks are most likely to be appearing at a rapid rate over the next 10 years or so.  Reference data gathered at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trends/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your answe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use the following slides to actually create your choropleth maps.  You will need to create break points that give you 6 categories.  (Change the BIN)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 Pt. 2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50880" y="2276280"/>
            <a:ext cx="11702880" cy="71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Print the maps you created (preferably in color).  Now compare the world maps you created to the map located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map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5. What similarities or differences do you notice between your maps and the HDI map?  (name specific countries that stand out and why)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look at the chart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hdr.undp.org/en/statistics/hdi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6. What are the 3 dimensions and 4 indicators for HDI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7. Keeping those in mind, which most likely correlates with the Starbucks exercise?  Could an argument be made that they all do?  Why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ple together your answers, your maps (including a copy of the HDI map from the internet, and your original histograms.  Turn in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1" descr=""/>
          <p:cNvPicPr/>
          <p:nvPr/>
        </p:nvPicPr>
        <p:blipFill>
          <a:blip r:embed="rId1"/>
          <a:stretch/>
        </p:blipFill>
        <p:spPr>
          <a:xfrm>
            <a:off x="-50760" y="-279360"/>
            <a:ext cx="13344480" cy="1031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-76320" y="-19080"/>
            <a:ext cx="13093920" cy="979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1" descr=""/>
          <p:cNvPicPr/>
          <p:nvPr/>
        </p:nvPicPr>
        <p:blipFill>
          <a:blip r:embed="rId1"/>
          <a:srcRect l="1423" t="0" r="1480" b="0"/>
          <a:stretch/>
        </p:blipFill>
        <p:spPr>
          <a:xfrm>
            <a:off x="0" y="0"/>
            <a:ext cx="13004640" cy="75801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7658280" y="8470440"/>
            <a:ext cx="533376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nd in 45 countrie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157428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"/>
          <p:cNvPicPr/>
          <p:nvPr/>
        </p:nvPicPr>
        <p:blipFill>
          <a:blip r:embed="rId1"/>
          <a:srcRect l="261" t="0" r="7890" b="4365"/>
          <a:stretch/>
        </p:blipFill>
        <p:spPr>
          <a:xfrm>
            <a:off x="0" y="0"/>
            <a:ext cx="13449240" cy="81154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eville, Spai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721640" y="8381880"/>
            <a:ext cx="516888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Japanese tourists in Spain at a Starbuck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"/>
          <p:cNvPicPr/>
          <p:nvPr/>
        </p:nvPicPr>
        <p:blipFill>
          <a:blip r:embed="rId1"/>
          <a:srcRect l="0" t="4565" r="0" b="4642"/>
          <a:stretch/>
        </p:blipFill>
        <p:spPr>
          <a:xfrm>
            <a:off x="-247680" y="-17640"/>
            <a:ext cx="13438080" cy="783432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McGlobalization &amp; Starbucks’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World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Coffe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Impacts...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tarbucks Map and Graph Assign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ing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tarbucks’ Statistics 2008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Excel document,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histogram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for the total number of Starbucks found in each of the 50 states and the District of Columbia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e the histogram to determine the categories for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The World, and United States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and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Chloropleth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map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lor the map according to the categories determined using dark to light shades of the same colo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mplete analysis questions found on slide at the end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" descr=""/>
          <p:cNvPicPr/>
          <p:nvPr/>
        </p:nvPicPr>
        <p:blipFill>
          <a:blip r:embed="rId1"/>
          <a:stretch/>
        </p:blipFill>
        <p:spPr>
          <a:xfrm>
            <a:off x="-177840" y="-741240"/>
            <a:ext cx="14198760" cy="183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1" descr=""/>
          <p:cNvPicPr/>
          <p:nvPr/>
        </p:nvPicPr>
        <p:blipFill>
          <a:blip r:embed="rId1"/>
          <a:stretch/>
        </p:blipFill>
        <p:spPr>
          <a:xfrm>
            <a:off x="-120600" y="-9594720"/>
            <a:ext cx="13220640" cy="17108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-152280" y="5788080"/>
            <a:ext cx="13309560" cy="172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" descr=""/>
          <p:cNvPicPr/>
          <p:nvPr/>
        </p:nvPicPr>
        <p:blipFill>
          <a:blip r:embed="rId1"/>
          <a:stretch/>
        </p:blipFill>
        <p:spPr>
          <a:xfrm>
            <a:off x="-469800" y="-3809880"/>
            <a:ext cx="13931640" cy="180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M. Ewen</dc:creator>
  <dc:description/>
  <dc:language>en-US</dc:language>
  <cp:lastModifiedBy>sewen</cp:lastModifiedBy>
  <dcterms:modified xsi:type="dcterms:W3CDTF">2014-03-06T15:43:50Z</dcterms:modified>
  <cp:revision>11</cp:revision>
  <dc:subject/>
  <dc:title>Where in the world are all the Starbucks?</dc:title>
</cp:coreProperties>
</file>