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2A77-F216-41C7-95F8-3268A7D5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B49D-B9FA-42FD-8F4A-EED6225A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C5FF-CE95-45AD-95C5-54403269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0EEE-BB95-44F8-8A0F-0FD24F60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0FD8-FCE0-4A5F-8026-FE8E5908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8659-B7B8-4B4A-83F1-1340B557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721B-7261-4FBF-B52E-3A4310C4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DC4B-55CD-4A7C-A359-F07C7794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C256-F0E4-4BB9-A423-AE678B23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4919-B310-4372-BF15-CEDC2949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50A8-64A9-45F6-ADAB-F82F8881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FF7-BD4F-4350-B2AA-C619E2E0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E9E4-E670-4A3E-B757-8E25C220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CB34-FE75-4F25-9E4C-B482C70B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2BBA-0C0E-472D-9D92-2F9231C1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38D4-457A-4657-9FC2-F92CEF0D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B75E-1CC1-4BBE-9CA3-E2712A15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879-AEFA-4A3A-B138-0E4F60B7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FE7-C4CF-434F-809C-3B1055AF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3AC-134C-499F-A9A8-C4DB0558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6B8-1C9D-4388-A846-D2802606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765A-8870-4684-A81B-44F879E0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B0E-AAE2-4D62-967E-5AD4F13E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3A6E-3E6E-4938-B52C-86C94E5B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A7F6-5871-47E8-A4EA-BE13D14F3C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93A6-CD3C-47E8-AB71-83EF2842E1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oday’s Issues in Europ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it together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is the air polluted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alkan Confli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the problem with Foreign rul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ugoslav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as it formed and what does it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munist Ru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German and Italians invaded during WWII, what happened to Yugoslav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4114800" cy="3875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90720" y="609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ree things you notice about this ma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2057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roatia and Slovenia get Independen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in Bosnia…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r in Kosov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llu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water becoming pollu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w do we clean it up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11:04Z</dcterms:created>
  <dc:creator>sewen</dc:creator>
  <dc:description/>
  <dc:language>en-US</dc:language>
  <cp:lastModifiedBy>sewen</cp:lastModifiedBy>
  <dcterms:modified xsi:type="dcterms:W3CDTF">2009-03-13T16:35:48Z</dcterms:modified>
  <cp:revision>2</cp:revision>
  <dc:subject/>
  <dc:title>Today’s Issues in Europe</dc:title>
</cp:coreProperties>
</file>