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234-E699-44B6-B936-D335F5A1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93-6418-457F-BC07-B2E9CC6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717-7CE4-46B1-B5CE-CD26C926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F05-BA87-48C1-BC5E-D1025CBF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6A4C-ECA8-4F87-8A05-1E7CF12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4671-C1C3-4206-BDA1-51AABD2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D074-D5C3-4E46-9955-14E9DD4A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5E9-BC15-44F0-B464-B6178889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920-7787-434D-88BC-54F041A7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779E-B6A6-47E8-845F-E863344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57C-4B58-4BB2-9AE7-EA14402C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114-DB83-4178-A0D2-BC2E3F8C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D2D1-37FC-48A0-BF32-C8F1949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639A-B901-44EC-B81F-2D9F6BA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CF6A-C896-402A-80DA-C891ED8A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3C95-488F-4E28-8B9C-A21C5D37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A450-BB55-4CEE-B1B7-EDEEDEB3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7ED-99D9-42C1-BBD4-463C06A6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F5E-57EB-4991-A804-F6CF92D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981-E692-4DB9-A51C-736BCE02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74D-AA5A-4504-A0AB-7FBCC42E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06C-FEA6-4E4F-9A36-87C5130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B26-E605-4D77-AF38-6D53340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45F-C972-4B6F-B797-9A9098F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FCE-BD65-42A3-B0AC-A5E7B0AFD9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2A23-27E8-4891-A024-8915FF5B5E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oday’s Issues in Europ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together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the air polluted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lkan Confli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the problem with Foreign ru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ugosla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as it formed and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mmunist Ru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German and Italians invaded during WWII, what happened to Yugoslav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4114800" cy="3875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609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ree things you notice about this m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057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atia and Slovenia get Independen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in Bosnia…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 in Kosov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l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becoming poll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do we clean it up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1:04Z</dcterms:created>
  <dc:creator>sewen</dc:creator>
  <dc:description/>
  <dc:language>en-US</dc:language>
  <cp:lastModifiedBy>sewen</cp:lastModifiedBy>
  <dcterms:modified xsi:type="dcterms:W3CDTF">2009-03-13T16:35:48Z</dcterms:modified>
  <cp:revision>2</cp:revision>
  <dc:subject/>
  <dc:title>Today’s Issues in Europe</dc:title>
</cp:coreProperties>
</file>