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BB0-38DA-4614-8584-EBB2B3D0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000-3F2A-46AE-80E6-9354F6E3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E96-D304-4E4E-B51F-19D633B4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5D9-51B1-4662-8A32-E072A9EC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73C8-C376-419F-9E8C-59693B5B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44E7-AFE4-44BF-B4EF-EAC1091B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BB66-C80B-4796-92DE-90673C91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288C-D3B8-4F3A-90CD-7E639B22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1F1F-A7E9-4396-8CEB-7A943609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6CB7-E850-4013-A033-032F431E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628F-2567-4613-B8C2-EFB67240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774-5741-4319-9B09-B490AA13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6E26-CCF3-421B-B5A2-9C3E9B3C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8A66-6DA8-458A-B23B-22C5C09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CDEE-6182-4FA7-BD5B-28BD0081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E09C-19BF-444F-9235-0EA989C3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28B2-32F5-411A-83AC-A288AE96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0FE-FDA4-4BDA-90DC-59A9F0C0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DCA-0DB5-4119-B63A-F45472F0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61D-80C6-4CA9-AF35-CFAFB354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323-2D12-4CD4-8A79-C5C1ED3E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EFD-2781-4351-8F37-CEB3C13B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E4B-B860-4CC3-BA04-545E4ED5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A54-C215-4BE4-8704-32CF9B0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5767-8CD7-40F8-AC3D-868D965F0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73F4-8F41-4A0A-BBB2-BFF4FC4C4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Map_Canada_political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.do?name=modernmarvels&amp;bcpid=1767981841&amp;bclid=1799109290&amp;bctid=161524936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S and Cana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e Provi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ut of 5 Canadians liv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nd economic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breadbas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mix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Province and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kon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most Province is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es make up 41 percent of Canada’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a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iling 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mentary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vs.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rates…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ifferences….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1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2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ve, Judicial, and Legislative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 Ge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 = 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ssippi = longest North American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 = Bread basket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agricultural herit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lopo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ies and their subu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planned development that continues to spread a city wider and w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ctivity that produces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plants animals and dis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amatic rise in the number of cities and the changes in lifestyle that resul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upport systems needed to keep an economy going…power, roads, s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 to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id people get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ears ago the first people came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kely got here by walking across a land bridge that is no longer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peopl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people who move from place to place with no permanen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ring S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bering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down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nd Territ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re similar to ou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re English speaking with the exception of Que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File:Map Canada politic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708280"/>
            <a:ext cx="48006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Canada look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half of Canada is covered by 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 of Canada also includes much of North America’s best farm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y Mountains also split the country just like they split the US – also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’s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Lakes – major shipping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kenzie River – longest river in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also has large quantities of minerals and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= l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ortant resource – LAND =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. Lawrence Se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between Canada a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way connects great lakes to Atlantic Ocean through a series of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090199LockOperation"/>
          <p:cNvPicPr/>
          <p:nvPr/>
        </p:nvPicPr>
        <p:blipFill>
          <a:blip r:embed="rId2"/>
          <a:stretch/>
        </p:blipFill>
        <p:spPr>
          <a:xfrm>
            <a:off x="152280" y="1828800"/>
            <a:ext cx="34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in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ary 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– system in which legislative and executive functions are combined in a legislature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’s party’s leader in Parliament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me Minis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d of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 Regions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8 percent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liv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55:05Z</dcterms:created>
  <dc:creator>sewen</dc:creator>
  <dc:description/>
  <dc:language>en-US</dc:language>
  <cp:lastModifiedBy>sewen</cp:lastModifiedBy>
  <dcterms:modified xsi:type="dcterms:W3CDTF">2010-01-25T14:43:38Z</dcterms:modified>
  <cp:revision>9</cp:revision>
  <dc:subject/>
  <dc:title>US and Canada</dc:title>
</cp:coreProperties>
</file>