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054-330E-4882-8724-B56979FC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52D-0C84-4C7E-A165-22EEA06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170-2690-4881-B0B4-712E466D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366-8F89-4696-A432-2A9EA99D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3EE1-C13F-4F26-B6CA-E6CE2538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B6CB-77A8-4874-8E9C-7DB1E0C7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5A8F-86CF-479C-A917-2C29D65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F807-756E-45B8-9652-61E92069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4177-4ABE-496C-92E2-E3FBD94A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0FFD-A57B-4705-80E5-063CB87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CAC0-FB9E-4607-8B3B-BFA3E3D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0EB-0494-4871-8726-D3045AF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C5D-704C-4DB1-AD96-8D3DFDD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9A0B-4A8B-43AF-B0A6-43F1ED1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CAA-6EAA-443F-9644-B068470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5A68-27AA-4353-B9EB-2F8324D3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DB2-97EC-40C0-A28E-EC8907A5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D21-B07D-4D9D-BB2D-CC28307F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31AC-49C6-43BB-9944-E824E0DA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CAF-9128-4111-B30E-6022A84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2A6-8EC2-4507-814A-AC4F1424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244-68A7-4094-A144-D9C8E96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CFF-0314-4EFD-9951-C93937E0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70F-AEF2-4A3F-9A77-08744B2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FAA-6BEA-401B-84F8-60974FE2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D9D-2EAC-479B-B8C6-0ED31648F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Map_Canada_political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.do?name=modernmarvels&amp;bcpid=1767981841&amp;bclid=1799109290&amp;bctid=1615249369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US and Cana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e Provi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out of 5 Canadians liv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and economic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breadbas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mix of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Province and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kon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west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most Province is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es make up 41 percent of Canada’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a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ailing West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in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limentary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vs.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cy rates…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 differences….find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1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. 2 Places and Terms and Main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ed Sta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ive, Judicial, and Legislative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 Ge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y Mountains = 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ssippi = longest North American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 = Bread basket of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agricultural herit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 to know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alopol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cities and their suburb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ly planned development that continues to spread a city wider and w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rvic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activity that produces a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umbian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plants animals and dis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b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amatic rise in the number of cities and the changes in lifestyle that resul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upport systems needed to keep an economy going…power, roads, se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llenges to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id people get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ears ago the first people came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ikely got here by walking across a land bridge that is no longer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peopl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people who move from place to place with no permanent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ering Stra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bering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down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nd Territor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es are similar to ou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re English speaking with the exception of Que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File:Map Canada politic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708280"/>
            <a:ext cx="48006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oes Canada look lik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half of Canada is covered by 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lains of Canada also includes much of North America’s best farm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cky Mountains also split the country just like they split the US – also known 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inental Div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ada’s Re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Lakes – major shipping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kenzie River – longest river in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 also has large quantities of minerals and fossil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= l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mportant resource – LAND =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1426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. Lawrence Se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project between Canada and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way connects great lakes to Atlantic Ocean through a series of 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090199LockOperation"/>
          <p:cNvPicPr/>
          <p:nvPr/>
        </p:nvPicPr>
        <p:blipFill>
          <a:blip r:embed="rId2"/>
          <a:stretch/>
        </p:blipFill>
        <p:spPr>
          <a:xfrm>
            <a:off x="152280" y="1828800"/>
            <a:ext cx="34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vernment in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ary 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– system in which legislative and executive functions are combined in a legislature called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ity’s party’s leader in Parliament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ime Minis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head of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b Regions of Can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ntic Provi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a Sco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found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8 percent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 liv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55:05Z</dcterms:created>
  <dc:creator>sewen</dc:creator>
  <dc:description/>
  <dc:language>en-US</dc:language>
  <cp:lastModifiedBy>sewen</cp:lastModifiedBy>
  <dcterms:modified xsi:type="dcterms:W3CDTF">2010-01-25T14:43:38Z</dcterms:modified>
  <cp:revision>9</cp:revision>
  <dc:subject/>
  <dc:title>US and Canada</dc:title>
</cp:coreProperties>
</file>