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F8F-6A07-4C14-B0F5-DA6A0E18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85B-547D-41ED-997A-CC60E261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5EA-683E-4C83-9093-35994329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ABC-97AF-488E-AAEE-CB249413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76F7-4988-44D0-922F-8558B857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CF0D-4C73-4BB7-BF94-154BA9BD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6A7-FA3F-4836-B438-583A622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FD16-86A0-4402-A8FF-EED2E645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D0CE-D40F-4BD7-B54D-FEBA629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3ACC-C6E2-4D27-95A2-F099369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508-E575-47CA-928C-D48292B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811-3E41-405D-8CC7-4C1CFE3E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EF7F-81A7-4C9B-84EA-E10F74D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9B3-EA7B-4D7C-BEDD-33B112D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B43E-523B-454B-B2F3-3C69C586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40B4-A0BD-45B7-9C45-94245993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F69C-1DF0-4909-B195-993AF022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213-5E43-4F3C-8083-8AAAFFD9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B2E-4D06-4205-83AF-AD7AD65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7FF-4115-4229-9811-9B4CE512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961-97E2-426E-A081-8338ED0F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A0A-201D-440C-90D0-5703002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10A-5744-4ED8-AA77-B4BBC195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8E3-8D42-42F0-96CE-F74EA02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1599-4AEA-4DDC-A38E-C8A9C1488F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1F1-4217-4946-89BB-E5C1D34F27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uropa.e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hat is the EU??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o do with Europe I thin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pean Un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European U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U) is a union of twenty-seven independent states based on the European Communities and founded to enhance political, economic and social co-operation. Formerly known as European Community (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quarters in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uro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countries us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 to get the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stabl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join the EU / benefi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ravel freely between EU countries once you have entered one leg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sa for Americans!!!...as long as you don’t stay longer than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8:47:48Z</dcterms:created>
  <dc:creator>sewen</dc:creator>
  <dc:description/>
  <dc:language>en-US</dc:language>
  <cp:lastModifiedBy>sewen</cp:lastModifiedBy>
  <dcterms:modified xsi:type="dcterms:W3CDTF">2010-10-18T19:41:38Z</dcterms:modified>
  <cp:revision>3</cp:revision>
  <dc:subject/>
  <dc:title>What is the EU??</dc:title>
</cp:coreProperties>
</file>