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22C6D6C-39AB-45E1-995E-424710E78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FDA-2791-4D43-81A0-E91E5F5A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AD4-D466-4F43-8AB2-67CF57B0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CF4-90C1-4B9C-A141-63FA6A40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AF8-9874-4A1D-B19B-6C714AFC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8651-A723-4856-92C4-B2A58281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C5BA-7FD5-44A3-B7B9-D292DC2A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20FE-3A98-468F-AEAE-60CD74CE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E60C-F303-413F-A86E-33890B1C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19A3-F326-4FDD-897F-0B42BB2D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05F9-5825-43B5-80F3-C02D4EA5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0A8E-33C2-4A55-84C7-0FC8E967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58E-76D6-434F-B00D-CD51BFC7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A06B-79A0-4F03-80A5-F47FC53F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4648-1708-4CDC-BDE6-480D32C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862B-5D84-4F04-8CAC-5CB8E852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8553-1748-47CB-A3F9-A2E6E7B6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7860-C2A1-4538-9176-852C0964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C22-E3A0-4A77-8ECF-AA4EB531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942-AC04-4539-8F41-A95FA872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919-C061-48E3-B616-527D585A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802-8152-488A-A496-4492046D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ABB-0820-482E-A98B-19E5C01F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934-816C-4D3D-9CD7-DD00E71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C98-4727-4F7F-9E35-80BD7C3D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E387-FAA9-4C38-8CFD-99971C25BDC0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8DA0-4165-47FA-9395-D01A8EC1FA38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ame of Your Count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Teac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Gra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urism in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points of interest in your country that people from other countries may be interested in visiting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(your country) is locat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which continent your country is located on and which countries are its neighbor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eographic Features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me any important rivers, lakes, oceans, mountain ranges and other geographic features that can be found in or next to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mate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typical weather patterns in your country throughout the calendar ye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viro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scribe some of the native animals and plants that can be seen in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istor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305000"/>
            <a:ext cx="7705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ke a timeline of the important historical events of your country or provinc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2492280"/>
          <a:ext cx="7345440" cy="2844720"/>
        </p:xfrm>
        <a:graphic>
          <a:graphicData uri="http://schemas.openxmlformats.org/drawingml/2006/table">
            <a:tbl>
              <a:tblPr/>
              <a:tblGrid>
                <a:gridCol w="971280"/>
                <a:gridCol w="864000"/>
                <a:gridCol w="918720"/>
                <a:gridCol w="918720"/>
                <a:gridCol w="918360"/>
                <a:gridCol w="918720"/>
                <a:gridCol w="916920"/>
                <a:gridCol w="918720"/>
              </a:tblGrid>
              <a:tr h="88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s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n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r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7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th 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</a:tr>
              <a:tr h="16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stoms and Tradi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important customs and traditions celebrated in your country. Include information about who celebrates and when they celebra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over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how laws are made and changed in your country. Tell how people are chosen to lead the count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nom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which goods and services are produced in your country. How do people typically provide for the needs of themselves and their families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58:36Z</dcterms:created>
  <dc:creator>sewen</dc:creator>
  <dc:description/>
  <cp:keywords/>
  <dc:language>en-US</dc:language>
  <cp:lastModifiedBy>sewen</cp:lastModifiedBy>
  <dcterms:modified xsi:type="dcterms:W3CDTF">2008-11-26T16:59:11Z</dcterms:modified>
  <cp:revision>1</cp:revision>
  <dc:subject/>
  <dc:title>Name of Your Coun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