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BF8-51A0-4FE2-A611-B59D6682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E00-255C-4170-B5F6-6C3CB60C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8D6-D278-4B46-BF23-B8D9A3E2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57C-C98F-4661-9EBF-5A99780E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0690-0C15-4B02-94A2-A5363C4E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EEF3-A1C4-41EA-A636-8CC4D556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4015-5FB9-4718-8E1A-B96667CE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FBF7-53E3-4038-A603-A134E34A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D1E5-BBFA-46E9-944A-E663AD9A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0C22-82C5-45CC-BEA3-33378D9D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117F-1108-40C9-93BE-BF28F247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356-4316-41B1-BC90-999D9873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06FF-1523-4D0E-AEBE-B4EEC1A9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98B9-E07E-47D5-AA11-86D677E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087B-4BED-414F-8D78-E5B56AE5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81F0-FA93-4C0D-97E4-6EBF44E9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761E-63F1-498C-B134-A0803060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645-2571-43F4-A121-65BB6E4B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656-8B3F-4380-92E9-00922526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6C6-A393-4055-819D-04354795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823-4659-4C1B-90D0-BA10E24D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8B3-F154-45F8-A17E-9FFAD5E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FDA-94B7-49F9-8E77-8488A658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11E-9793-445D-9C61-5B172D59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FF40-4270-40CA-BE13-29ECB875B0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5E21-98CF-4C25-85A6-CF356C3D0E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ons of Afric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notes using Chapter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all of the questions found in the PowerPoint and add a picture to a minimum of 3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ntral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s did the slave trade have on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effects of coloni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lonialism hurt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du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education system and the barriers to education in Central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old trade affect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partheid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Growth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south Africa’s economy gr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Issu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urrent or modern issues still going on in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r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ntry blossomed around the Nile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Nile’s impor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lig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ominant religion and culture of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d when did this religion ar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lack g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So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Lif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traditional roles of men and women in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is been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st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ere the three major trading empires of West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West Africa was an example of a stateless soci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Strugg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graph show us about economic growth in Afr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pecific countries have actually gone downhill economically over the course of the ten years sh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has this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647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l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some of the more important art in West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music is prevalent in West Africa…explain this mus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12-10-31T20:00:14Z</dcterms:modified>
  <cp:revision>7</cp:revision>
  <dc:subject/>
  <dc:title>Today’s Issues in Europe</dc:title>
</cp:coreProperties>
</file>