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34D-35EC-4C18-9CCC-F7FC5557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342-041D-49DD-9254-09A1CA75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63F-B4D5-48BD-BD8D-46A9D1FF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E318-F123-4A5D-8A91-D95D9D38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BF73-54D9-49DA-83EA-C0EA1B98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4BD3-FDD3-43ED-A594-BB8C6799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349B-11D6-453E-9F8F-BDDB3101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4EBA-1255-46A0-BB24-B2B30EFA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5B63-3DCA-4BBF-A784-E9C06585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0581-62C2-465D-A819-A9273395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9AF1-8DED-4BD7-8550-E671B6AB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EAC-E60F-4402-B269-78E52866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3440-2F9D-43C4-AA35-A83C62E2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0B9D-85E3-4FA2-95F2-ADD92BB5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23ED-A5F1-47E1-9245-9C858D53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59E6-438E-4DEB-A7C3-3D9C4A50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057F-EC5C-4BC9-B202-E265E1DF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B15-4242-4B19-ABB2-CA8D20ED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589-D445-45E6-B687-C10B9F54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9CD-77C0-468D-BDBA-E3CB86B1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ECD-9573-4098-B18C-172065B5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C77-03A6-4E7D-8691-9AEF2D9C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BF5-BE1B-4434-BCF7-B8735A0B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9B2-AF61-48AF-B099-C067F81B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1839-0C28-44CC-B030-DD424BAAE0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6340-B38F-46A3-B871-2B0968BD26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Regions of Afric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your own notes using Chapter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all of the questions found in the PowerPoint and add a picture to a minimum of 3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ntral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s did the slave trade have on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effects of colonial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colonialism hurt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duc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education system and the barriers to education in Central Af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th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old trade affect Sou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partheid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ic Growth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south Africa’s economy gr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rrent Issu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urrent or modern issues still going on in Sou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rth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untry blossomed around the Nile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Nile’s impor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lig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ominant religion and culture of Nor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d when did this religion ar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black g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the re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Sou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amily Lif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traditional roles of men and women in Nor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is been chang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st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ere the three major trading empires of West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West Africa was an example of a stateless socie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ic Strugg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graph show us about economic growth in Afr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pecific countries have actually gone downhill economically over the course of the ten years sh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has this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647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l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some of the more important art in West Af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music is prevalent in West Africa…explain this mus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1:04Z</dcterms:created>
  <dc:creator>sewen</dc:creator>
  <dc:description/>
  <dc:language>en-US</dc:language>
  <cp:lastModifiedBy>sewen</cp:lastModifiedBy>
  <dcterms:modified xsi:type="dcterms:W3CDTF">2012-10-31T20:00:14Z</dcterms:modified>
  <cp:revision>7</cp:revision>
  <dc:subject/>
  <dc:title>Today’s Issues in Europe</dc:title>
</cp:coreProperties>
</file>