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BB35-1C60-43AC-8C68-A355361E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D50-C2FC-4E86-A75B-A4ACA9E5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61F-50BD-45A4-A392-9BF66F65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485-0BD0-4131-92E1-452F8C7C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60CB-3A4C-4A0F-BEA4-608EBD16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5C96-9D60-4C0B-96C2-8D9FD7BE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6089-6FF3-4EA5-B5C0-518A77E2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FC16-7A12-4EA7-97CB-A5926A9F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B3F7-FD8D-4FEB-B9FE-08D74490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FAE4-B2C5-4F0A-B945-4F2FD417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F98D-19BD-4DEF-97FF-933A9083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A88-CFF2-434D-9429-6ABB9B9E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8429-8A15-43B0-94BA-374C1E45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310D-4A95-4693-B87D-CA2AA5F8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113C-B249-4FA8-B67F-6A67F7A8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122D-030A-45E4-82FC-A901C408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56F2-3757-4353-B440-2A19BBBA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3BD-DFC8-4743-80CA-A1F9D560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C14-7CAC-4020-90A1-C491A698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66E-111B-407F-BB9F-B1F1B84A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E70-EF8F-4402-B642-5CF46830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72A-16D8-4331-B2B0-BA847242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E24-E169-4B66-8D53-4EEAD837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243-18A4-4610-850F-8B1B0F4F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C680-24D7-4947-8FC7-68D2AAC93C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7D05-E3F6-4BC8-A87F-BE8FBAE2D1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oday’s Issues in Europ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t together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is the air polluted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lkan Confli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problem with Foreign rul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ugoslav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as it formed and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munist Ru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German and Italians invaded during WWII, what happened to Yugoslav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4114800" cy="3875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0720" y="609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ree things you notice about this ma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057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roatia and Slovenia get Independen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in Bosnia…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 in Kosov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llu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water becoming pollu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do we clean it up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1:04Z</dcterms:created>
  <dc:creator>sewen</dc:creator>
  <dc:description/>
  <dc:language>en-US</dc:language>
  <cp:lastModifiedBy>sewen</cp:lastModifiedBy>
  <dcterms:modified xsi:type="dcterms:W3CDTF">2009-03-13T16:35:48Z</dcterms:modified>
  <cp:revision>2</cp:revision>
  <dc:subject/>
  <dc:title>Today’s Issues in Europe</dc:title>
</cp:coreProperties>
</file>