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8743-D611-4B80-8722-4918FA1A8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D1E4-0BF7-4F99-9568-CD7B94991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8045-70C5-4B3D-B03B-E8A162A8F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F47C-7083-4E10-B621-84C61C51B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B8641-BB8A-4D64-99BB-9C9AFE211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5C66F-F97C-468D-AD56-4439D2D27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5CB80-77DA-487A-A461-38C0B605E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0138B-626F-41CE-B7C9-E81BB40A5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E69E2-9727-4ECB-9CFA-2A2C62785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CBC53-BEB3-4C67-AA8C-4E1A9FF2A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702BC-95C4-4F1C-BB88-84CB9C629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C56B-C3B1-403A-9A20-2B40C1075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FF7EE-A5E9-4477-A19E-991D3A7A0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59C4A-92A8-41E9-8B84-7F037D29D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6B17E-8BBD-4A91-BDBC-94897B05A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7AFFD-1B4C-4BF1-9821-55CBC3154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0A63E-ABB7-4A14-A9C1-20B712320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E778-CBD4-405E-972B-6240358DF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29F1-3809-40C2-96A0-CF503CBDF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8F2C-4E34-4F55-ACBD-5543C7017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3AA4-8B92-431D-974A-DB0406A0C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5280-D75D-4B12-AB84-EB98EE2B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C2F9-EB47-4574-95F1-6B4D8028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F644-A611-431D-82B8-C5E64A690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365AD-0FF4-4766-A818-A9E360C445D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0F60A-F928-4214-AB01-6EE455715EA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Today’s Issues in Europe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it together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hy is the air polluted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Balkan Conflic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as the problem with Foreign rul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Yugoslavi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as it formed and what does it me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ommunist Rul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German and Italians invaded during WWII, what happened to Yugoslavi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029200" y="1905120"/>
            <a:ext cx="4114800" cy="38750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990720" y="60948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are three things you notice about this map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20574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Croatia and Slovenia get Independenc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 in Bosnia…what happen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ar in Kosov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happen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ollu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is water becoming pollu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How do we clean it up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18:11:04Z</dcterms:created>
  <dc:creator>sewen</dc:creator>
  <dc:description/>
  <dc:language>en-US</dc:language>
  <cp:lastModifiedBy>sewen</cp:lastModifiedBy>
  <dcterms:modified xsi:type="dcterms:W3CDTF">2009-03-13T16:35:48Z</dcterms:modified>
  <cp:revision>2</cp:revision>
  <dc:subject/>
  <dc:title>Today’s Issues in Europe</dc:title>
</cp:coreProperties>
</file>