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456-4976-4074-9ED0-4FDBDAE8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E48-C6C1-4665-ABB7-668F1600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9F8-8461-488E-B5CB-73CD7785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F6A-30E5-4DA7-BAE9-DBD34812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7CDF-EA5B-4E97-AE37-812C4234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B08C-1750-42AE-ACB1-E0AC577C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44C4-8293-4AFC-848D-0939AF64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7947-C44B-4BCA-802C-DFEB68BD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3612-E770-4D2B-9F2A-5CB1B726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8099-4871-402F-862C-01728576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DE17-DEC5-4BFC-9114-E3C2A5D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1FF-7EE5-4FBC-9B77-E82A0FE6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DFF1-55B5-486C-845E-7E3DE1B1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4B28-AED1-4F32-B912-7CB8E4E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146F-18A6-4B29-BB32-08F9D6D9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7BB6-7F4C-46E9-8543-98B6FB5E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53EC-B1DF-4541-AB32-5E8EF12D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8B9-C5C9-4F77-8B89-548B2C7A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741-9103-452C-9188-94654B2F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136-2224-40B4-BA98-55B3B36A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9B5-9BBC-4339-9C76-284C5B46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5C6-2B7B-442C-B2C1-3CBDFFB1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CDD-98FD-420B-867F-73E9D443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299-9297-4C8D-A303-55EE6815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AE77-45CB-4686-88AC-5BA5DE2B28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5664-AC29-4A1D-AA3E-53299B9533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oday’s Issues in Europ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togethe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is the air polluted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lkan Confli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problem with Foreign ru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ugoslav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as it formed and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munist Ru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German and Italians invaded during WWII, what happened to Yugoslav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4114800" cy="387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609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ree things you notice about this m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057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oatia and Slovenia get Independen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Bosnia…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 in Koso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l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water becoming poll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 we clean it up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09-03-13T16:35:48Z</dcterms:modified>
  <cp:revision>2</cp:revision>
  <dc:subject/>
  <dc:title>Today’s Issues in Europe</dc:title>
</cp:coreProperties>
</file>