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37D-34F7-49DE-BD8D-525BD561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298-45A2-4A91-B7EE-126F2C98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4A1-B5C2-48BC-AA28-3A112E11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464-A369-44E3-94F7-985DA49F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99A5-FC2F-4A25-A39C-ADC2730C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581B-43EE-4E1D-B010-1D683F2D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7090-2A62-4FAC-8F2A-13B5C9BF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CA28-AE5E-41F8-8CF6-B6F77625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592D-5385-418F-8DA3-40FDA888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7A92-DAC4-4349-8ED0-E9E81C9A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63E5-0D36-400D-8869-30D56C07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D36-EC2B-49F2-90F7-0B622A73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B9A5-9671-4025-BA64-F3C6584E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9A2D-13D0-4AAE-8A5F-81096C79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ECA5-417C-4E1C-A7A1-2D5C15CE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A581-71BD-43EB-8C03-87DEEEFC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AA1A-CA91-46A6-BAFF-5F6D5DBE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EF3-B8F2-4054-A3EB-9C36CFE9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722-36AE-4BEC-BAA5-2E8B5006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D89-AB68-4640-A723-9B009E81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36B-9AD0-46DA-98D6-17281137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456-10E0-44FB-B7B4-BDD08495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734-8723-4EA3-B7A8-E5E33EB5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A30-E5D7-461F-BDC8-F01177B3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9D4B-7496-4A18-A15D-D7A063D993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D4BB-5DC6-4E64-AA46-AE24441FE9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oday’s Issues in Europ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togethe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is the air polluted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lkan Confli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problem with Foreign ru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ugoslav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it formed and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munist R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German and Italians invaded during WWII, what happened to Yugoslav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4114800" cy="387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609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ree things you notice about this m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057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oatia and Slovenia get Independe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Bosnia…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 in Koso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l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water becoming poll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we clean it up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09-03-13T16:35:48Z</dcterms:modified>
  <cp:revision>2</cp:revision>
  <dc:subject/>
  <dc:title>Today’s Issues in Europe</dc:title>
</cp:coreProperties>
</file>