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B6F-D6A7-4707-93E7-0FCE603D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5A1-6A83-4D75-8411-153A1D02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F26-DE4A-43BB-A690-6B5BA555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7E3-CE28-42D3-9D42-BC8D3AB7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F791-9FFA-4D6F-820B-B7612373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CA26-DAED-4791-9A65-B8F7B3EA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4D0C-4141-4779-907F-9A7A04BD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8245-949E-4254-BA8A-3CE14ADF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9C62-FADE-4601-9054-7A0E5A66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DC18-47B5-4DB9-AF3A-981A910C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0966-4313-4989-8CD9-FC99ECCA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96D-69F1-4408-8FFA-F97AE473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A98A-91D8-4515-985F-2168B368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FC21-2CB5-4B32-B504-4994EAC8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0321-CC78-4A28-A275-DFCE5473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47C0-52CB-4C85-B303-C80CC6F6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9392-DE6A-4FF5-BE33-E2773183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A17-674D-4295-9971-F3EFB3B6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C47-7041-44E0-ACE4-938B2AC9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7BF-966B-48BD-8A87-85ECA83B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BF5-34BB-4EBD-B05E-72D3BE46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BC4-B4D7-42BE-8706-FF828589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194-DF1F-4D4A-BF58-A71E7E71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861-F125-4B2C-8235-1F200F26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6BE5-0F9F-4FAF-941F-6EB89C967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EE4C-6F2B-4E5C-A5C5-39805F1BD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6/Map_Canada_political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istory.com/video.do?name=modernmarvels&amp;bcpid=1767981841&amp;bclid=1799109290&amp;bctid=161524936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US and Canad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e Provi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out of 5 Canadians liv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and economic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ri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t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katchew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’s breadbas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mix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c Province and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Colu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nav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kon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west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most Province is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ies make up 41 percent of Canada’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a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ailing We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in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limentary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 Min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vs.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cy rates…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differences….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1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2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ed Sta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ive, Judicial, and Legislative bra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ant Ge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 = 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ssippi = longest North American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west = Bread basket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the agricultural herit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 to know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galopo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cities and their suburb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 Spra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ly planned development that continues to spread a city wider and w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ctivity that produces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umbian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e of plants animals and dis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ramatic rise in the number of cities and the changes in lifestyle that resul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support systems needed to keep an economy going…power, roads, se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llenges to Ame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o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id people get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s of years ago the first people came to Nort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 from 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likely got here by walking across a land bridge that is no longer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people w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m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people who move from place to place with no permanent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ring Stra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bering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eakdown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nd Territo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re similar to ou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re English speaking with the exception of Queb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File:Map Canada politica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708280"/>
            <a:ext cx="48006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es Canada look lik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half of Canada is covered by fo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 of Canada also includes much of North America’s best farm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cky Mountains also split the country just like they split the US – also known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’s 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Lakes – major shipping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kenzie River – longest river in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also has large quantities of minerals and fossil 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sts = l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mportant resource – LAND =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1426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. Lawrence Se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project between Canada and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way connects great lakes to Atlantic Ocean through a series of 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090199LockOperation"/>
          <p:cNvPicPr/>
          <p:nvPr/>
        </p:nvPicPr>
        <p:blipFill>
          <a:blip r:embed="rId2"/>
          <a:stretch/>
        </p:blipFill>
        <p:spPr>
          <a:xfrm>
            <a:off x="152280" y="1828800"/>
            <a:ext cx="34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vernment in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ary Go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– system in which legislative and executive functions are combined in a legislature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ity’s party’s leader in Parliament becom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ime Minist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head of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b Regions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antic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e Edward Is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Bruns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a Sco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found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8 percent of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living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55:05Z</dcterms:created>
  <dc:creator>sewen</dc:creator>
  <dc:description/>
  <dc:language>en-US</dc:language>
  <cp:lastModifiedBy>sewen</cp:lastModifiedBy>
  <dcterms:modified xsi:type="dcterms:W3CDTF">2010-01-25T14:43:38Z</dcterms:modified>
  <cp:revision>9</cp:revision>
  <dc:subject/>
  <dc:title>US and Canada</dc:title>
</cp:coreProperties>
</file>