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9DF-F49D-4F78-A5A4-0EDF2962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D4F-C745-4B9A-B0A1-ACCEEFF4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E92-4BD0-4985-9468-B3FF79BC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A9A-6C42-48CB-940C-217E7EFA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1E5A-020C-4553-B997-4EEC979B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A9AD-92F7-4CD2-B1D4-118F1691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5A20-8682-496B-96DF-EAB825D8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54DB-AFED-45EC-A8AE-20F1849C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5FF8-AD45-4F6A-9E16-7384040D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92B5-2DA6-4C08-9761-7BF9CD16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F77D-B0ED-4FB8-8792-980B33BC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4B8-7A3C-444B-866B-AD4F983D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B1B0-B240-450E-AF8E-6A20F97D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3C62-C72A-4959-8C8A-0F133840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7213-17AE-4E2A-913B-54C55768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9C74-AD3B-4352-81BB-042A9450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BAD2-E787-495A-B8E0-779CCCDC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7E9-5623-4D8A-8498-5C5C0506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A97-0A15-4290-B1A0-5A2D4749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3609-AD86-4181-87C7-C7B41B1D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473-3D89-4171-941F-176CF82B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DB5-D35E-48EC-879F-5820C2C9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6A3-1D54-4115-979B-1246E095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990-0D02-42B3-9C8F-C7FFDCEF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6EBC-9F4F-4D1A-993A-451E94DC5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F30D-17FC-47DF-BAD3-CFEBE922D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6/Map_Canada_political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istory.com/video.do?name=modernmarvels&amp;bcpid=1767981841&amp;bclid=1799109290&amp;bctid=1615249369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US and Canad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e Provi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b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out of 5 Canadians liv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 and economic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rie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to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skatchew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e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’s breadbas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mix of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ific Province and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Colum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nav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kon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west Terri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most Province is 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itories make up 41 percent of Canada’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da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y Mount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Pl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a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ailing Wester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in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limentary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e Min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 vs. 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cy rates…fin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 differences….fin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. 1 Places and Terms and Main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. 2 Places and Terms and Main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ted Sta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ive, Judicial, and Legislative bra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ortant Ge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y Mountains = Continental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ssippi = longest North American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west = Bread basket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the agricultural herit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 to know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galopo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cities and their suburb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ban Spra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ly planned development that continues to spread a city wider and w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activity that produces a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umbian Ex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hange of plants animals and dis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b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ramatic rise in the number of cities and the changes in lifestyle that resul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support systems needed to keep an economy going…power, roads, se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llenges to Ame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or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lse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did people get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sands of years ago the first people came to North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 from 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likely got here by walking across a land bridge that is no longer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people w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m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people who move from place to place with no permanent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ring Stra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bering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eakdown of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es and Territor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es are similar to our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re English speaking with the exception of Queb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File:Map Canada political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708280"/>
            <a:ext cx="48006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oes Canada look lik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half of Canada is covered by for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Plains of Canada also includes much of North America’s best farm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cky Mountains also split the country just like they split the US – also known 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tinental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da’s 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Lakes – major shipping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kenzie River – longest river in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 also has large quantities of minerals and fossil fu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sts = l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important resource – LAND =fa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uman Environment Intera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57600" y="11426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. Lawrence Se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 project between Canada and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way connects great lakes to Atlantic Ocean through a series of 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090199LockOperation"/>
          <p:cNvPicPr/>
          <p:nvPr/>
        </p:nvPicPr>
        <p:blipFill>
          <a:blip r:embed="rId2"/>
          <a:stretch/>
        </p:blipFill>
        <p:spPr>
          <a:xfrm>
            <a:off x="152280" y="1828800"/>
            <a:ext cx="347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vernment in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rliamentary Go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– system in which legislative and executive functions are combined in a legislature call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r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ity’s party’s leader in Parliament becom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ime Minist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head of th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b Regions of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lantic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e Edward Is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Brunsw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a Sco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found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8 percent of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living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7:55:05Z</dcterms:created>
  <dc:creator>sewen</dc:creator>
  <dc:description/>
  <dc:language>en-US</dc:language>
  <cp:lastModifiedBy>sewen</cp:lastModifiedBy>
  <dcterms:modified xsi:type="dcterms:W3CDTF">2010-01-25T14:43:38Z</dcterms:modified>
  <cp:revision>9</cp:revision>
  <dc:subject/>
  <dc:title>US and Canada</dc:title>
</cp:coreProperties>
</file>