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52D-9B96-4B7F-99D8-7E207B43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A3F-D060-4519-ADB7-49ED1A1F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13E5-133F-4B4A-AA61-96C92FD6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E8B-3A7A-4704-A37F-3A4BBC95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3EB7-5083-40C8-8D59-DE6C4BF3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D95B-F4B3-4049-8EB4-897CB521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2904-86EF-42DA-954E-7B63C469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095A-AAC9-46AF-B9DE-AFF272AD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1EFE-3045-4656-A34E-C27CF62C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5C9-8561-4725-8B53-5014B59C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CB5D-B638-4848-BDBB-D5C000CE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448-26A9-4E44-B439-71755A72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6BD0-B34B-477B-9698-7D564422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02CF-35EB-4CF6-8D9A-479947C2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4A1A-0A69-4059-A7B5-57A8C711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7EC3-21CC-4913-A1A8-8E245699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0264-49D9-4540-8F17-9837EB8F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C4B-FB30-4024-B5BE-A3FD8B9E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1A5-56C1-4D34-9661-2982FDF3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B9F-4B3A-42F3-BD55-1836DD50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7BD-358B-43BB-AD6D-75565572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F11-FFD4-4D5A-8C86-2AAF1134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B37-2DA1-43F2-9782-0C743F2E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98C-5B9E-4376-8D90-8B8FCF7F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9F78-440D-49F3-9F49-A6940BBC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0015-F81B-4433-BF66-1C6543D38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6/Map_Canada_political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y.com/video.do?name=modernmarvels&amp;bcpid=1767981841&amp;bclid=1799109290&amp;bctid=161524936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S and Canad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e Provi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out of 5 Canadians liv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and economic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ri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t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katchew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’s breadbas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mix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c Province and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nav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kon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west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most Province is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ies make up 41 percent of Canada’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a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ailing We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in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limentary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 Min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vs.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cy rates…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differences….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1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2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ed Sta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ive, Judicial, and Legislative bra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ant Ge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 = 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ssippi = longest North American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west = Bread basket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the agricultural herit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 to know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galopo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cities and their subur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 Spr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ly planned development that continues to spread a city wider and w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ctivity that produces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umbian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e of plants animals and dis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amatic rise in the number of cities and the changes in lifestyle that resul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support systems needed to keep an economy going…power, roads, se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llenges to Ame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o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id people get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of years ago the first people came to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 from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likely got here by walking across a land bridge that is no longer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people w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m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people who move from place to place with no permanent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ring Stra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bering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akdown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nd Territo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re similar to ou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re English speaking with the exception of Que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File:Map Canada politic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708280"/>
            <a:ext cx="48006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es Canada look lik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half of Canada is covered by fo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 of Canada also includes much of North America’s best farm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y Mountains also split the country just like they split the US – also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’s 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Lakes – major shipping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kenzie River – longest river in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also has large quantities of minerals and fossil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s = l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mportant resource – LAND =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1426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. Lawrence Se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project between Canada and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way connects great lakes to Atlantic Ocean through a series of 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090199LockOperation"/>
          <p:cNvPicPr/>
          <p:nvPr/>
        </p:nvPicPr>
        <p:blipFill>
          <a:blip r:embed="rId2"/>
          <a:stretch/>
        </p:blipFill>
        <p:spPr>
          <a:xfrm>
            <a:off x="152280" y="1828800"/>
            <a:ext cx="34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vernment in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ary Go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– system in which legislative and executive functions are combined in a legislature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ity’s party’s leader in Parliament becom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ime Minis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head of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b Regions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ntic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e Edward Is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Bruns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a Sco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found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8 percent of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liv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55:05Z</dcterms:created>
  <dc:creator>sewen</dc:creator>
  <dc:description/>
  <dc:language>en-US</dc:language>
  <cp:lastModifiedBy>sewen</cp:lastModifiedBy>
  <dcterms:modified xsi:type="dcterms:W3CDTF">2010-01-25T14:43:38Z</dcterms:modified>
  <cp:revision>9</cp:revision>
  <dc:subject/>
  <dc:title>US and Canada</dc:title>
</cp:coreProperties>
</file>