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6119-C6F8-4081-976F-D3B98CBF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A599-06FA-4479-B857-FEBCE669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C9B-D8C8-4185-A094-567C11C3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669-29E7-4DB2-AE7C-E0FB9E70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544C-FE25-49F4-87C1-7553B80A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A292-61D1-4BA9-8DBE-6C32993E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72FD-1687-4995-9735-A6F4B58D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6D3E-EF28-4368-9BD4-57A1847B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7177-9E98-4D51-A9F6-8B776CD6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396E-DC09-42E8-B9AC-0369FD81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E74F-00E9-46C9-BCE2-8B744F4B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A172-F8B2-4CC0-9C53-B4E9061C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731B-5275-4C0E-A73A-0BEA5B59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365D-7F32-4425-A872-E8B2D5B2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05BA-0ED4-46C8-8954-86DC58F2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7FE3-D696-48EA-A599-4D9EB716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3F1F-4CFD-4426-9BF7-E17C42B9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EEE-F38F-467B-811A-BB99312B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6872-C4AD-4AF1-83BF-9F05E987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DEFB-A13F-4B4D-A2D2-015CAA76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D39B-DCD1-4006-8479-B3F69A0D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E95-27AD-44FF-ACE0-817E31D8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3B5-CA0F-4479-ADEF-17F026F7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A787-7B46-41BC-8D96-3D673DF5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CD36-D1F9-4668-87A7-216348C51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D230-EFBD-4B13-970A-B9D73CB54B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6/Map_Canada_political.p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istory.com/video.do?name=modernmarvels&amp;bcpid=1767981841&amp;bclid=1799109290&amp;bctid=1615249369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US and Canad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e Provi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Provi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b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out of 5 Canadians liv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cal and economic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rie Provi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ito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skatchew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be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’s breadbas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mix of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ific Province and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Colum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nav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ukon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west Terri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ern most Province is 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itories make up 41 percent of Canada’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ada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y Mount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Pl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mafr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ailing Wester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in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limentary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e Min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li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 vs. 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eracy rates…fin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 differences….fin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. 1 Places and Terms and Main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. 2 Places and Terms and Main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ited Sta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cutive, Judicial, and Legislative bra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ortant Ge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y Mountains = Continental Di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ssippi = longest North American 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west = Bread basket of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to the agricultural herit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s to know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galopo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cities and their suburb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ban Spra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ly planned development that continues to spread a city wider and w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activity that produces a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umbian Ex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hange of plants animals and dise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b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ramatic rise in the number of cities and the changes in lifestyle that resul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support systems needed to keep an economy going…power, roads, se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llenges to Amer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or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lse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did people get he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sands of years ago the first people came to North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e from 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likely got here by walking across a land bridge that is no longer 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people w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m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people who move from place to place with no permanent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ring Stra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5" descr="bering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eakdown of 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nces and Territor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nces are similar to our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are English speaking with the exception of Queb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File:Map Canada political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708280"/>
            <a:ext cx="48006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does Canada look lik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half of Canada is covered by for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Plains of Canada also includes much of North America’s best farm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cky Mountains also split the country just like they split the US – also known 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tinental Di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ada’s 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Lakes – major shipping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kenzie River – longest river in Ca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 also has large quantities of minerals and fossil fu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sts = l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important resource – LAND =fa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uman Environment Intera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657600" y="114264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. Lawrence Se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t project between Canada and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way connects great lakes to Atlantic Ocean through a series of 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090199LockOperation"/>
          <p:cNvPicPr/>
          <p:nvPr/>
        </p:nvPicPr>
        <p:blipFill>
          <a:blip r:embed="rId2"/>
          <a:stretch/>
        </p:blipFill>
        <p:spPr>
          <a:xfrm>
            <a:off x="152280" y="1828800"/>
            <a:ext cx="347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vernment in 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rliamentary Go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– system in which legislative and executive functions are combined in a legislature call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rli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jority’s party’s leader in Parliament becom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ime Minist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head of the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b Regions of 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lantic Provi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e Edward Is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Brunsw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a Scot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found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8 percent of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living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7:55:05Z</dcterms:created>
  <dc:creator>sewen</dc:creator>
  <dc:description/>
  <dc:language>en-US</dc:language>
  <cp:lastModifiedBy>sewen</cp:lastModifiedBy>
  <dcterms:modified xsi:type="dcterms:W3CDTF">2010-01-25T14:43:38Z</dcterms:modified>
  <cp:revision>9</cp:revision>
  <dc:subject/>
  <dc:title>US and Canada</dc:title>
</cp:coreProperties>
</file>