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002-F024-4956-A7CD-D359F598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442-DBF5-4565-88F5-B50CAFC6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78F-39C4-46F7-8D2C-0919FFFE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A03-A19E-4EDC-8D86-6487902C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577E-3C30-465E-9160-99864196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DE89-4A4A-41A1-8911-889BA2E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848B-D13E-4524-954B-B2429575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3C8C-2332-4206-A182-A0AA81E6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0D85-BEA8-4A51-B885-8A7DD01F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C0A3-9556-49B4-A30E-C32BEA99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E3AF-74EF-4188-B88A-BFBDC5C0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DAC-BB76-436F-AA73-3990CDFD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5F1C-615E-4765-98B3-2E049B10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5D3B-C60A-4D12-98AA-7E1005E2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93A6-5C78-4A96-A935-A5B331C0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5370-043D-4454-A67F-148D11D5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66BE-5308-458D-83FD-6493B672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49C-9222-4676-A0B5-A8BD3664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E81-FF37-420B-807C-29695703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75E-B210-40F6-B6CF-C0188B10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F6F-C71B-4D12-8F70-2BC466C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F59-18A6-4075-8C8B-ED9D482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391-2C2D-484F-B46C-D0868885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56B-B162-42DD-AECD-DF020B4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46EC-E2EA-4A17-866D-0C636D84B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D270-1711-4100-B995-D8CCF1D14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Map_Canada_political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.com/video.do?name=modernmarvels&amp;bcpid=1767981841&amp;bclid=1799109290&amp;bctid=161524936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S and Cana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e Provi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out of 5 Canadians liv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and economic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ri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’s breadbas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mix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c Province and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kon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most Province is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es make up 41 percent of Canada’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a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ailing 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in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mentary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vs.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rates…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differences….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1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2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ed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ive, Judicial, and Legislative bra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ant Ge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 = 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ssippi = longest North American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est = Bread basket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agricultural herit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 to know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alopo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cities and their subur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 Spr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planned development that continues to spread a city wider and w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ctivity that produces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umbia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plants animals and dis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amatic rise in the number of cities and the changes in lifestyle that resul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upport systems needed to keep an economy going…power, roads, s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 to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o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id people get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years ago the first people came to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from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ikely got here by walking across a land bridge that is no longer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people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m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people who move from place to place with no permanen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ring Stra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bering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kdown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nd Territo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re similar to ou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re English speaking with the exception of Que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File:Map Canada politic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708280"/>
            <a:ext cx="48006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es Canada look li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half of Canada is covered by 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 of Canada also includes much of North America’s best farm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y Mountains also split the country just like they split the US – also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’s 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Lakes – major shipping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kenzie River – longest river in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also has large quantities of minerals and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 = l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ortant resource – LAND =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. Lawrence Se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roject between Canada an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way connects great lakes to Atlantic Ocean through a series of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090199LockOperation"/>
          <p:cNvPicPr/>
          <p:nvPr/>
        </p:nvPicPr>
        <p:blipFill>
          <a:blip r:embed="rId2"/>
          <a:stretch/>
        </p:blipFill>
        <p:spPr>
          <a:xfrm>
            <a:off x="152280" y="1828800"/>
            <a:ext cx="34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vernment in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ary 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– system in which legislative and executive functions are combined in a legislature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ity’s party’s leader in Parliament beco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me Minis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ad of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 Regions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found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8 percent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liv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55:05Z</dcterms:created>
  <dc:creator>sewen</dc:creator>
  <dc:description/>
  <dc:language>en-US</dc:language>
  <cp:lastModifiedBy>sewen</cp:lastModifiedBy>
  <dcterms:modified xsi:type="dcterms:W3CDTF">2010-01-25T14:43:38Z</dcterms:modified>
  <cp:revision>9</cp:revision>
  <dc:subject/>
  <dc:title>US and Canada</dc:title>
</cp:coreProperties>
</file>