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CA5-F2E1-4F86-863F-B71B1714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C17-FA59-46E5-BDBE-3D5EABC5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516-7B76-4EB2-9DA6-2CB92C0F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125-93E6-401B-B548-9FCBDD2E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A6B4-8BD1-4B0A-B8DD-130EC974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DC2C-60F5-4F35-9CE0-CD2E4611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894D-78F6-4BDD-9439-F15CD1F0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4F46-22A1-424E-8294-E7CE92B8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DDDC-22E4-4FE5-BB52-E92E6610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88E0-896C-4A04-A020-390D6479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80FC-EF89-4B53-8FFD-A24EDC99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CFA-49D9-4C03-B592-DE759BC2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EE88-4D62-4EEE-9D75-34B90F19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4A73-04FF-4791-A3B8-C2CD8C92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C6E5-868A-4864-AB25-3F8D41E6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329C-6896-4281-B77D-66694EDE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351F-5BE6-4023-BF19-CC7FA24A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F5F-1934-4758-93DB-C31AEED5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84F-6D91-42C7-A144-8F23937A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6A0-D19F-4C1B-81BE-B873057A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6BA-9B9E-4D30-ABED-107AB939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70B-051A-4C28-8C50-E95CE39B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E85-CB60-4825-926B-24F663A8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88C-FA49-4105-9420-F470EAB3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836F-6D4B-45B7-B154-6B8C382B62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D9CD-4EB7-482C-98EE-D3D65AE045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uropa.e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hat is the EU??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o do with Europe I think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ropean Un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European U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U) is a union of twenty-seven independent states based on the European Communities and founded to enhance political, economic and social co-operation. Formerly known as European Community (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quarters in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ro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countries us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s to get the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 stable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join the EU / benefi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ravel freely between EU countries once you have entered one leg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Visa for Americans!!!...as long as you don’t stay longer than 9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8:47:48Z</dcterms:created>
  <dc:creator>sewen</dc:creator>
  <dc:description/>
  <dc:language>en-US</dc:language>
  <cp:lastModifiedBy>sewen</cp:lastModifiedBy>
  <dcterms:modified xsi:type="dcterms:W3CDTF">2010-10-18T19:41:38Z</dcterms:modified>
  <cp:revision>3</cp:revision>
  <dc:subject/>
  <dc:title>What is the EU??</dc:title>
</cp:coreProperties>
</file>