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7603-969C-43F5-A8F1-9A4D51B7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B6C7-8D27-43AC-B73E-F756FFC1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832A-EB6D-4BBA-84EE-7185411B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83C2-1627-46B9-A76B-A1243BD1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3A59-9723-41E0-8AAB-A7734B21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C918-EE45-420A-91EB-8D11621E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EF6B-6E04-4E01-88DB-65784831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6440-632E-4486-AD2D-27118F85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F6C0-66E7-4640-AA9C-627E87F0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2B4E-3D96-4C88-B63A-5B8A3912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67A6-ABD6-4536-8C7F-5B4D2843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9A33-9A5C-45FF-95B9-8059EAE0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27C0-0C7B-4EC9-BAAB-1472A49B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5E8B-4863-4B52-BC54-5D0C38F3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ACD0-22B8-47D7-BBFA-5FA8A476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ABE7-E4BE-4144-84EB-9B529442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006F-050C-4820-B8AA-8DEAB7E0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6207-0DD7-4BD4-8D6C-084E0F61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DA77-B620-4D69-A139-4E99157A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D487-ACB0-4203-A88D-AC9AA9DE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AF4B-7EE1-45AB-A980-4558054C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5282-1B1F-4450-9AF3-F0FFA337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2C40-DC98-48BC-AA6A-611563F1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F0D7-4A04-422F-8562-7BBC7F13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88E6-8842-4DE3-A6D5-30FA5AB3AF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0ED4-C070-46D2-92E8-9B8297D5E7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uropa.eu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What is the EU??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to do with Europe I think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uropean Un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European U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U) is a union of twenty-seven independent states based on the European Communities and founded to enhance political, economic and social co-operation. Formerly known as European Community (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quarters in Belg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uro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countries use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ions to get the 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have a stable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y join the EU / benefit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travel freely between EU countries once you have entered one leg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Visa for Americans!!!...as long as you don’t stay longer than 9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8:47:48Z</dcterms:created>
  <dc:creator>sewen</dc:creator>
  <dc:description/>
  <dc:language>en-US</dc:language>
  <cp:lastModifiedBy>sewen</cp:lastModifiedBy>
  <dcterms:modified xsi:type="dcterms:W3CDTF">2010-10-18T19:41:38Z</dcterms:modified>
  <cp:revision>3</cp:revision>
  <dc:subject/>
  <dc:title>What is the EU??</dc:title>
</cp:coreProperties>
</file>