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9759-FC66-4594-B84F-C285C7399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98AC-C83F-46FF-A72D-C935530FA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6F56-6CCF-43CE-ADF5-56A5C21CF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A59B-DEDE-4980-AC26-BB570F6B4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A7466-38C2-4CCC-8E89-3FD52C01F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5340A-4B7C-4812-971B-255442426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0915E-21B9-4594-B783-59F41236D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3DFE3-BDF3-43A7-A3A0-78EB25D7A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BBAC3-E457-41F3-A764-4E6A44E68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898B5-9CFC-4794-9454-A6DAD332A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86A88-6E46-4D14-B9AC-D9E436FE0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A4BA-C982-446D-99C1-BBFF29CBA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83AA2-3E95-4DB0-95AF-DE165EDC3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D6FA3-64F8-410C-BBF5-730D08F7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3207C-21CC-4392-A25A-087354D5C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D3672-AC25-4472-91A0-5A1BCA9F8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99F15-3283-4546-BDF2-438FAA706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C4BC-A2DC-4C98-B507-F2EBF800D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34A7-D835-4FBB-A347-50C8A79FC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27E1-4C59-4B3E-9D25-E76F97C11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1377-CE97-4BAF-B375-1DCF68301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9B12-E58F-4C9C-AA47-81166AB6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23F7-C7CB-4E31-8DA2-12FC7089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370D-C63E-4D00-B27B-F385D7E8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6062D-7855-4D60-A1FE-DE88B54260E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A3AC5-C6DE-4E0C-AF21-B91C1505715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uropa.eu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What is the EU??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hing to do with Europe I think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uropean Un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European Un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EU) is a union of twenty-seven independent states based on the European Communities and founded to enhance political, economic and social co-operation. Formerly known as European Community (E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dquarters in Belg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uro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 countries use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tions to get the Eu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have a stable econo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hy join the EU / benefits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you thin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may travel freely between EU countries once you have entered one leg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Visa for Americans!!!...as long as you don’t stay longer than 90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8T18:47:48Z</dcterms:created>
  <dc:creator>sewen</dc:creator>
  <dc:description/>
  <dc:language>en-US</dc:language>
  <cp:lastModifiedBy>sewen</cp:lastModifiedBy>
  <dcterms:modified xsi:type="dcterms:W3CDTF">2010-10-18T19:41:38Z</dcterms:modified>
  <cp:revision>3</cp:revision>
  <dc:subject/>
  <dc:title>What is the EU??</dc:title>
</cp:coreProperties>
</file>