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2F0-BC1A-46DB-A782-C64CC59E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B59-EA5C-4F28-AA65-3E468829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991-EF9A-4A12-BC41-F54C7A36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9F6-DC65-4566-B801-16288914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55BE-23B2-401E-8B25-FB9AB79A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6FCE-8BCF-4EB4-B6A8-B67D8F58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8E22-2699-4275-8529-49A9B7BD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D01C-7E55-43EF-B254-9F380C08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0FAF-D96C-4D11-8674-9E7CC385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2ECA-B5B8-44FE-A41C-F4405114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63A4-8C01-42F3-AD75-99F10B5A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73B7-DF2D-4646-AF73-92AC50FE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3D3B-45F2-4573-9CE5-ECC14BCE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8BFA-A466-4494-B6F8-6B423E06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B78F-1974-4DF1-9639-FDC8D816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081A-CEF9-41AF-9446-2832EF85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21C1-95BC-4349-9F6E-16696E64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078-5772-4555-9650-EAD4BF03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73C4-784F-4DAB-A9F6-59535C95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E94B-BC17-4781-995B-A48140FB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723B-016D-4232-983B-918C62CA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C7B-8860-4645-9CF9-D1E72E26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E31-65E6-4F8C-A3DA-85ECBE60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D1B-8E0A-436C-99B6-BE41CE00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257E-F4DD-4F7E-8922-D9A8EBD900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3406-F0D6-44A4-A88B-30AE6195CA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uropa.e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What is the EU??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o do with Europe I think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uropean Un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European U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U) is a union of twenty-seven independent states based on the European Communities and founded to enhance political, economic and social co-operation. Formerly known as European Community (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quarters in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uro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countries us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s to get the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a stable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join the EU / benefi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travel freely between EU countries once you have entered one leg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Visa for Americans!!!...as long as you don’t stay longer than 9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8:47:48Z</dcterms:created>
  <dc:creator>sewen</dc:creator>
  <dc:description/>
  <dc:language>en-US</dc:language>
  <cp:lastModifiedBy>sewen</cp:lastModifiedBy>
  <dcterms:modified xsi:type="dcterms:W3CDTF">2010-10-18T19:41:38Z</dcterms:modified>
  <cp:revision>3</cp:revision>
  <dc:subject/>
  <dc:title>What is the EU??</dc:title>
</cp:coreProperties>
</file>