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A5C8DDA-AAE1-4979-BD6A-DBD082AFE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B97-8648-458E-945E-AC2B48F4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AB3-7B3C-4E20-8095-B8DBC36D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EB8-6F05-459D-8D85-DA4CFC52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37C-F152-4E13-A879-4695A257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F8FF-4764-449F-8DCE-4F8704D4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70CE-FD3C-4617-8343-232E628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8BE7-FB53-456F-AB01-215D126E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A6B2-AE20-4CBA-B8B2-DBD90703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ABA8-D55E-4D09-98F5-817878F2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F48A-1D8A-48A0-8D38-9024A300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231B-9867-4B0C-BCB1-82E127D0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042-94D7-49E5-946D-D73BEF9A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3423-AA1E-47BC-87BA-7EC3DCD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5FF0-A3B8-46F2-8C0E-1D00ED78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71CC-2062-4F23-8206-60950B55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EC4E-2832-4E01-A108-8AF6BF7E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66D8-3D1D-44A2-8BC4-6BF3E250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998-3148-437B-946B-ED0CE1C7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8E3-3D7B-4028-AE1F-01619405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1F2-16E6-4F6B-8B2A-15801D3C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EF7-50C6-4FB8-9468-33CBDE35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B77-708C-4DD8-AF71-CB50EB4F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29C-4C59-4E0D-BC60-33908BD3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19C-B3C5-4A29-BE2C-73C7ECA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260F-BF3B-4EC2-AE12-FE34FF92C1F7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0B7E-C400-4ADE-8BC9-5D78C0A43420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ame of Your Count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Teac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urism in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points of interest in your country that people from other countries may be interested in visit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(your country) is locat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which continent your country is located on and which countries are its neighbor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ic Features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e any important rivers, lakes, oceans, mountain ranges and other geographic features that can be found in or next to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mate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typical weather patterns in your country throughout the calendar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viro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scribe some of the native animals and plants that can be seen in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stor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e a timeline of the important historical events of your country or provinc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2492280"/>
          <a:ext cx="7345440" cy="2844720"/>
        </p:xfrm>
        <a:graphic>
          <a:graphicData uri="http://schemas.openxmlformats.org/drawingml/2006/table">
            <a:tbl>
              <a:tblPr/>
              <a:tblGrid>
                <a:gridCol w="971280"/>
                <a:gridCol w="864000"/>
                <a:gridCol w="918720"/>
                <a:gridCol w="918720"/>
                <a:gridCol w="918360"/>
                <a:gridCol w="918720"/>
                <a:gridCol w="916920"/>
                <a:gridCol w="918720"/>
              </a:tblGrid>
              <a:tr h="88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s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n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r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7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th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</a:tr>
              <a:tr h="16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important customs and traditions celebrated in your country. Include information about who celebrates and when they celebra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over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how laws are made and changed in your country. Tell how people are chosen to lead the count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which goods and services are produced in your country. How do people typically provide for the needs of themselves and their families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58:36Z</dcterms:created>
  <dc:creator>sewen</dc:creator>
  <dc:description/>
  <cp:keywords/>
  <dc:language>en-US</dc:language>
  <cp:lastModifiedBy>sewen</cp:lastModifiedBy>
  <dcterms:modified xsi:type="dcterms:W3CDTF">2008-11-26T16:59:11Z</dcterms:modified>
  <cp:revision>1</cp:revision>
  <dc:subject/>
  <dc:title>Name of Your Coun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