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3CD2C47-3C67-4D3F-93E3-4DADE64B9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 key points in the history of your country to the time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that illustrates some part of your country’s econ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34B-FF10-4695-A95B-76B5662D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7BD-6D4C-4BDC-BD3D-8836DDA5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062-A914-483A-9E08-14C68D15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436-2A73-4E9D-A277-7E2EFA73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1F63-61FE-489A-98BC-79A8D97D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2ADE-151B-4DF5-BE0B-3E059395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9E45-6271-44C9-AF6F-617AA764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03BE-01F2-4F88-A135-3EDCA0F9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7B11-E80C-4384-AE0F-F6A47D2A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16FD-F497-4DCD-BD4E-B89F3460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6FB3-1FC7-45A6-A780-E9ADDD6B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C5E-3104-4E09-A2E8-5266E071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D317-11F7-46D7-867B-E2AE05EE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CC4C-DDA4-49E0-8F95-FCB645D2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3526-E356-4C82-8075-03C9D0D8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C4C2-AF70-4959-8CF3-96761FCF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F4BC-E6A1-4B7B-AA36-707CBCD1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F85-1BA8-4F88-8429-FD971EC4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35B-F89B-4588-8BE2-297EE1C1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285-1D93-4585-B9E8-A4A1BA9E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766-9F2B-4461-A3DC-F166BB55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EB5B-7586-481B-8085-E0217B7D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5B1-312D-460E-956C-4246AB93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535-84FB-49E6-BC96-B1BDC221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8CEF-3C3C-4A39-8129-82A0A3A6BC65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34AC-BC43-4C0F-AAC8-830D22A0A4D3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ame of Your Count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16000" y="4184280"/>
            <a:ext cx="49467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Na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Teach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Gra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urism in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points of interest in your country that people from other countries may be interested in visiting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ere (your country) is locate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which continent your country is located on and which countries are its neighbor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eographic Features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me any important rivers, lakes, oceans, mountain ranges and other geographic features that can be found in or next to your country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mate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typical weather patterns in your country throughout the calendar year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nvironment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escribe some of the native animals and plants that can be seen in your country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istory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305000"/>
            <a:ext cx="7705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ke a timeline of the important historical events of your country or provinc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42920" y="2492280"/>
          <a:ext cx="7345440" cy="2844720"/>
        </p:xfrm>
        <a:graphic>
          <a:graphicData uri="http://schemas.openxmlformats.org/drawingml/2006/table">
            <a:tbl>
              <a:tblPr/>
              <a:tblGrid>
                <a:gridCol w="971280"/>
                <a:gridCol w="864000"/>
                <a:gridCol w="918720"/>
                <a:gridCol w="918720"/>
                <a:gridCol w="918360"/>
                <a:gridCol w="918720"/>
                <a:gridCol w="916920"/>
                <a:gridCol w="918720"/>
              </a:tblGrid>
              <a:tr h="88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s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n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r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5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6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7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th 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</a:tr>
              <a:tr h="163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stoms and Traditio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important customs and traditions celebrated in your country. Include information about who celebrates and when they celebrat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overnment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lain how laws are made and changed in your country. Tell how people are chosen to lead the countr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conomy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lain which goods and services are produced in your country. How do people typically provide for the needs of themselves and their families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58:36Z</dcterms:created>
  <dc:creator>sewen</dc:creator>
  <dc:description/>
  <cp:keywords/>
  <dc:language>en-US</dc:language>
  <cp:lastModifiedBy>sewen</cp:lastModifiedBy>
  <dcterms:modified xsi:type="dcterms:W3CDTF">2008-11-26T16:59:11Z</dcterms:modified>
  <cp:revision>1</cp:revision>
  <dc:subject/>
  <dc:title>Name of Your Coun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33</vt:lpwstr>
  </property>
</Properties>
</file>