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948488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6600" y="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660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86F51DC-9EBD-4D0E-AFDD-9CBE991CA1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a picture of one of the points of interest for your count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sert a map of your countr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sert a picture of one of the geographic features of your countr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a picture illustrating a season in your count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a picture of an animal and or plant found in your count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dd key points in the history of your country to the timelin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a picture illustrating a custom or tradition he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a picture of the head leader of your count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a picture that illustrates some part of your country’s econom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B1E0-379F-41EE-B0E3-F20498B09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42560" y="386172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C5F3-AC26-49BC-9115-0800AA6B4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9104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AC4D-C34D-41C0-B277-B6697848E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824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356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4256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824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356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73C5-844B-4294-9390-FEB06F303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ABED7-6197-46B1-A0F7-057BF454F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A01C4-9D4D-4A10-8D65-4A8C4C56D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1E32E-F10F-4B09-9FC3-9294BC674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4F01E-0E75-4D72-84DF-AB161638F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4C48C-E1B7-461D-84B0-6045FBB02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42560" y="225000"/>
            <a:ext cx="77058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C5587-535D-495A-9D64-C9466F54F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E5D54-2315-4C20-B8E0-36DB10AA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7685-AC3C-4466-AB11-E9BB2EE1D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9104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5F1BE-F68D-4106-8525-B68B3396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4E5F3-4FF9-44A4-9FD9-D0A92D9B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42560" y="386172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004FF-1A45-4024-955C-5BF35B945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9104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DCF62-EB32-48A0-B030-5F40AEF4B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824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5356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4256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824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5356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7B007-7C18-4B12-B60A-C9C5B961A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5918-44C9-4299-A06E-EA2BE65A2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41DA-26A1-4232-8598-E3559B9FC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7CAC-7A34-4624-9630-A75DB5D15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2560" y="225000"/>
            <a:ext cx="77058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6973-AA6B-465A-B1C1-381B56CF2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2AE2-78CA-4877-94E3-9A18ABBE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9104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6BD9-93E9-442E-B365-227FEECC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837F-8438-4022-A427-28D29326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42560" y="6308640"/>
            <a:ext cx="183852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53880" y="6308640"/>
            <a:ext cx="363708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43600" y="6308640"/>
            <a:ext cx="190512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4D42-DEDD-41D8-AAB0-EA2D88781716}" type="slidenum"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19280" y="1828800"/>
            <a:ext cx="5343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1225440" y="6200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303720" y="6200640"/>
            <a:ext cx="3636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92720" y="62006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34A85-2C4F-4354-8B32-66342454E8AA}" type="slidenum"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19280" y="1828800"/>
            <a:ext cx="5343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Name of Your Country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816000" y="4184280"/>
            <a:ext cx="49467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Your Nam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Your Teache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Your Grad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971600" y="1304640"/>
            <a:ext cx="3776760" cy="48956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ourism in (your country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767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ell about the points of interest in your country that people from other countries may be interested in visiting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Where (your country) is located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767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ell which continent your country is located on and which countries are its neighbors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971600" y="1304640"/>
            <a:ext cx="377676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33520" y="2438280"/>
            <a:ext cx="4495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6705720" y="2666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Geographic Features of (your country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971600" y="1304640"/>
            <a:ext cx="3776760" cy="48956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767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Name any important rivers, lakes, oceans, mountain ranges and other geographic features that can be found in or next to your country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mate of (your country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971600" y="1304640"/>
            <a:ext cx="3776760" cy="48956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57200" y="2971800"/>
            <a:ext cx="4495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767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ell about the typical weather patterns in your country throughout the calendar year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775480" y="2631960"/>
            <a:ext cx="138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5410080" y="3505320"/>
            <a:ext cx="266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Environment of (your country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767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Describe some of the native animals and plants that can be seen in your country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971600" y="1304640"/>
            <a:ext cx="377676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History of (your country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42560" y="1305000"/>
            <a:ext cx="77058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Make a timeline of the important historical events of your country or province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042920" y="2492280"/>
          <a:ext cx="7345440" cy="2844720"/>
        </p:xfrm>
        <a:graphic>
          <a:graphicData uri="http://schemas.openxmlformats.org/drawingml/2006/table">
            <a:tbl>
              <a:tblPr/>
              <a:tblGrid>
                <a:gridCol w="971280"/>
                <a:gridCol w="864000"/>
                <a:gridCol w="918720"/>
                <a:gridCol w="918720"/>
                <a:gridCol w="918360"/>
                <a:gridCol w="918720"/>
                <a:gridCol w="916920"/>
                <a:gridCol w="918720"/>
              </a:tblGrid>
              <a:tr h="887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Name of Event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Name of Event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Name of Event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Name of Event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Name of Event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Name of Event 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Name of Event 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Name of Event 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9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1st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a35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2nd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a35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3rd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a35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4th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a35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5th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a35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6th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a35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7th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a35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8th Da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a35d"/>
                    </a:solidFill>
                  </a:tcPr>
                </a:tc>
              </a:tr>
              <a:tr h="1638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Description of Ev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Description of Ev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Description of Ev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Description of Ev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Description of Ev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Description of Ev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Description of Ev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Description of Ev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ustoms and Tradition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971600" y="1304640"/>
            <a:ext cx="3776760" cy="48956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867280" y="304812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767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ell about the important customs and traditions celebrated in your country. Include information about who celebrates and when they celebrate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971600" y="1304640"/>
            <a:ext cx="3776760" cy="48956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257800" y="32004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Government of (your country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767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xplain how laws are made and changed in your country. Tell how people are chosen to lead the country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Economy of (your country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971600" y="1304640"/>
            <a:ext cx="3776760" cy="48956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767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xplain which goods and services are produced in your country. How do people typically provide for the needs of themselves and their families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16:58:36Z</dcterms:created>
  <dc:creator>sewen</dc:creator>
  <dc:description/>
  <cp:keywords/>
  <dc:language>en-US</dc:language>
  <cp:lastModifiedBy>sewen</cp:lastModifiedBy>
  <dcterms:modified xsi:type="dcterms:W3CDTF">2008-11-26T16:59:11Z</dcterms:modified>
  <cp:revision>1</cp:revision>
  <dc:subject/>
  <dc:title>Name of Your Count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3711033</vt:lpwstr>
  </property>
</Properties>
</file>