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981E19B-8D7B-4CCB-B04D-B871C1BDE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one of the points of interest for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map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season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 key points in the history of your country to the timeli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custom or tradition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the head leader of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that illustrates some part of your country’s econo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3F8-E759-41FA-BCDC-08629D51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9D4-2269-4465-80D6-58FF8BCC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926-9252-4A90-B3D5-6D496DAA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8FF-CFA7-4C4C-B759-1E328CC3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41C4-A6E5-4C09-B3FA-A58937C4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4601-0DD9-4C8F-932C-2D1CA603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8C7E-2CC9-4A34-BB88-8F73AA10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869D-87E9-4F13-9D66-71AE5CB7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9D0B-1770-4E83-9C3C-BF593A76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CA59-B724-469E-8B77-1BA672D3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903B-FBD5-4C57-8A99-96997CD6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32D-0D92-41E9-ABCA-713F8371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3335-8292-4C91-8246-1DB4CF03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30F7-2A4F-433F-8151-06CFC2E9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7397-3031-467C-A423-80127D6C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C7B0-3787-44DC-B4CD-DC1CB8BA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D0C6-1154-4D52-BC99-CE897779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927-A2D3-46F4-9B68-D2AE4653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1E7-7151-4DD4-A8EE-89CCB79E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EF7-0F36-4F78-AC04-4E8E9B06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D4A-0472-4614-A934-F66BF33A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972-2BB8-4B96-BC33-B6119195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448B-F46F-4E05-AAF0-6F9C05DC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70C-EE38-43A0-BA32-51CDBE41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388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5187-45C6-4C9F-94EB-B2C4BEAE7AC5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B010-488B-48EE-AC4C-144F69555779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ame of Your Countr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16000" y="4184280"/>
            <a:ext cx="49467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Na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Teach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Gra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ourism in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points of interest in your country that people from other countries may be interested in visiting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ere (your country) is locate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which continent your country is located on and which countries are its neighbor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eographic Features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me any important rivers, lakes, oceans, mountain ranges and other geographic features that can be found in or next to your country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mate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typical weather patterns in your country throughout the calendar year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nvironment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escribe some of the native animals and plants that can be seen in your country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istory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305000"/>
            <a:ext cx="7705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ke a timeline of the important historical events of your country or provinc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42920" y="2492280"/>
          <a:ext cx="7345440" cy="2844720"/>
        </p:xfrm>
        <a:graphic>
          <a:graphicData uri="http://schemas.openxmlformats.org/drawingml/2006/table">
            <a:tbl>
              <a:tblPr/>
              <a:tblGrid>
                <a:gridCol w="971280"/>
                <a:gridCol w="864000"/>
                <a:gridCol w="918720"/>
                <a:gridCol w="918720"/>
                <a:gridCol w="918360"/>
                <a:gridCol w="918720"/>
                <a:gridCol w="916920"/>
                <a:gridCol w="918720"/>
              </a:tblGrid>
              <a:tr h="88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s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n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r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5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6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7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th 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</a:tr>
              <a:tr h="163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stoms and Traditio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867280" y="3048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important customs and traditions celebrated in your country. Include information about who celebrates and when they celebrat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257800" y="3200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overnment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lain how laws are made and changed in your country. Tell how people are chosen to lead the countr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conomy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lain which goods and services are produced in your country. How do people typically provide for the needs of themselves and their families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58:36Z</dcterms:created>
  <dc:creator>sewen</dc:creator>
  <dc:description/>
  <cp:keywords/>
  <dc:language>en-US</dc:language>
  <cp:lastModifiedBy>sewen</cp:lastModifiedBy>
  <dcterms:modified xsi:type="dcterms:W3CDTF">2008-11-26T16:59:11Z</dcterms:modified>
  <cp:revision>1</cp:revision>
  <dc:subject/>
  <dc:title>Name of Your Coun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11033</vt:lpwstr>
  </property>
</Properties>
</file>