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FF9965F-30F7-4ADF-BEB3-083D33FD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one of the points of interest for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map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ert a picture of one of the geographic features of your count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season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an animal and or plant found in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 key points in the history of your country to the time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illustrating a custom or tradition 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of the head leader of your coun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a picture that illustrates some part of your country’s econo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4B0-355D-4E40-BA6F-3CFADA61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16E-F184-4CD4-BD29-9CB15DF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F1D-7CAA-4A7C-9E03-C20DB1D2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904-0EC1-4F30-9DB8-31B7C565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938E-A6EA-4F07-ADD9-12B3C146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794-8D58-458B-8EF0-0A44D74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B41-B7FF-4C22-A160-D6A5C12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BB5-A282-4B6C-8780-B05B3607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A501-60EA-4149-97AE-0C3F801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A756-A302-4295-B267-8F35956D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174-7D6B-458C-8600-FFFF362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ECA-27BF-427D-A7F3-8C5477A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CC6D-3727-4CAD-AE41-6898D68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937-66DE-4367-B238-CD7357D6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F84-B476-4B79-951B-D2CB790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70E-658B-4673-853E-AFDDA68A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006D-1CFC-4E8E-8175-C111D4BE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E33-8DCE-49FB-9CCC-A1626C2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B7B-5BFD-4027-94AF-AC81F5D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42A-020A-40A3-ACC1-B74BBC6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A31-29B8-4929-86B8-A8211FCE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489-A546-4DE6-9D30-37B5FE2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29A-D25A-4B4F-BA65-816BD3CE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9F9-2126-4272-9E45-629FE93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2B0A-FC21-4223-8E28-1D478F131FCF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AF1B-EEB8-4D1C-9166-2D7A66C9B203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19280" y="1828800"/>
            <a:ext cx="5343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ame of Your Countr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16000" y="4184280"/>
            <a:ext cx="49467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Nam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Teach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r Gra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ourism in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points of interest in your country that people from other countries may be interested in visiti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ere (your country) is locat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which continent your country is located on and which countries are its neighbor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eographic Features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any important rivers, lakes, oceans, mountain ranges and other geographic features that can be found in or next to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mate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971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typical weather patterns in your country throughout the calendar year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75480" y="263196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505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viro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escribe some of the native animals and plants that can be seen in your country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305000"/>
            <a:ext cx="7705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ke a timeline of the important historical events of your country or provinc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2492280"/>
          <a:ext cx="7345440" cy="2844720"/>
        </p:xfrm>
        <a:graphic>
          <a:graphicData uri="http://schemas.openxmlformats.org/drawingml/2006/table">
            <a:tbl>
              <a:tblPr/>
              <a:tblGrid>
                <a:gridCol w="971280"/>
                <a:gridCol w="864000"/>
                <a:gridCol w="918720"/>
                <a:gridCol w="918720"/>
                <a:gridCol w="918360"/>
                <a:gridCol w="918720"/>
                <a:gridCol w="916920"/>
                <a:gridCol w="918720"/>
              </a:tblGrid>
              <a:tr h="88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Name of Event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st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n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r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7t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8th D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a35d"/>
                    </a:solidFill>
                  </a:tcPr>
                </a:tc>
              </a:tr>
              <a:tr h="16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scription of Ev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ustoms and Tradi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867280" y="3048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ll about the important customs and traditions celebrated in your country. Include information about who celebrates and when they celebra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57800" y="32004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overnment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how laws are made and changed in your country. Tell how people are chosen to lead the countr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conomy of (your country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71600" y="1304640"/>
            <a:ext cx="3776760" cy="489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767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plain which goods and services are produced in your country. How do people typically provide for the needs of themselves and their families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58:36Z</dcterms:created>
  <dc:creator>sewen</dc:creator>
  <dc:description/>
  <cp:keywords/>
  <dc:language>en-US</dc:language>
  <cp:lastModifiedBy>sewen</cp:lastModifiedBy>
  <dcterms:modified xsi:type="dcterms:W3CDTF">2008-11-26T16:59:11Z</dcterms:modified>
  <cp:revision>1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